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4013E-9FC0-49D1-BA3B-177E8305A40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C8D98F-0C03-4CC7-BA38-813900E9BA9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6BED-405A-4E5E-A920-FD4D76127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181E-A885-494B-8F4C-AEFA1266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09D7-1946-40E3-BA1F-933499A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1743-F568-4687-B9E2-B7C0CA64B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8619-379B-4631-A459-741317F9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A19D-7C49-43C7-B7D7-789D5EE8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1548-FFB6-473D-AB53-924ECB9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3EF3-2A63-40E3-9D9B-91D457AA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D2B4-B007-4BF2-8808-4C42356B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23E9-E0D4-4412-8C66-1D283C13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773D-D36A-43C5-9533-5D873D58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3400-9362-499C-B882-96990AB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A3C-61A9-46CF-81BC-05A24FB71CC2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BA -DII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3800" y="188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 y liderar procesos organizativ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y mejorar la gestión de los recursos humanos de la  organiza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una visión panorámica de la teoría y prácticas modernas del comportamiento, diseño y desarrollo organizacional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79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7960" y="244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58880" y="1557360"/>
            <a:ext cx="77738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68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9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6T02:46:46Z</dcterms:modified>
  <cp:revision>288</cp:revision>
  <dc:subject/>
  <dc:title>Título </dc:title>
</cp:coreProperties>
</file>