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6C3F58-673B-4D0F-B5FF-EB98052D0BA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52F6A5-DD6A-494E-A831-F582103219A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CA0B-4B6F-489A-A475-5682640DB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31AF-2996-4677-81D7-9FC0D3E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1A86-F736-4478-84E6-F436DE78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F489-003B-409E-9074-96BBC3201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FA67-F88D-4B65-A845-F32EF794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1DF0-C475-41E5-BF17-4EB8BCC7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E133-FA56-4161-AD5B-C9D44BA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42CD-AFB0-4526-B3A3-4ECD39F5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3DA2-94EC-4983-8B15-54EB1E56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42CC-2DE0-4436-814E-F102C5B6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9B07-4CDA-4664-BD3E-BDBB26FE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A898-9820-4F48-9F91-D97369C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97A6-BA4C-4813-ACB5-645A6B45A852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873920" y="404640"/>
            <a:ext cx="12351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000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BA -DII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1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3800" y="188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 y liderar procesos organizativo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y mejorar la gestión de los recursos humanos de la  organiza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una visión panorámica de la teoría y prácticas modernas del comportamiento, diseño y desarrollo organizacional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79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7960" y="244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758880" y="1557360"/>
            <a:ext cx="77738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uzzle4"/>
          <p:cNvSpPr/>
          <p:nvPr/>
        </p:nvSpPr>
        <p:spPr>
          <a:xfrm>
            <a:off x="5292720" y="4681440"/>
            <a:ext cx="1700280" cy="206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297080"/>
            <a:ext cx="10429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97080"/>
            <a:ext cx="1042920" cy="610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1297080"/>
            <a:ext cx="973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297080"/>
            <a:ext cx="97308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297080"/>
            <a:ext cx="15811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297080"/>
            <a:ext cx="158112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1297080"/>
            <a:ext cx="244800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71640" y="1585800"/>
            <a:ext cx="1225440" cy="3382920"/>
            <a:chOff x="2771640" y="1585800"/>
            <a:chExt cx="1225440" cy="3382920"/>
          </a:xfrm>
        </p:grpSpPr>
        <p:sp>
          <p:nvSpPr>
            <p:cNvPr id="68" name=""/>
            <p:cNvSpPr/>
            <p:nvPr/>
          </p:nvSpPr>
          <p:spPr>
            <a:xfrm>
              <a:off x="2771640" y="1585800"/>
              <a:ext cx="1225440" cy="3382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1585800"/>
              <a:ext cx="122544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924360" y="1585800"/>
            <a:ext cx="1297080" cy="3382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585800"/>
            <a:ext cx="12970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1297080"/>
            <a:ext cx="1657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1297080"/>
            <a:ext cx="1657080" cy="33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566720"/>
            <a:ext cx="7934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5" name=""/>
          <p:cNvSpPr/>
          <p:nvPr/>
        </p:nvSpPr>
        <p:spPr>
          <a:xfrm>
            <a:off x="8029440" y="1566720"/>
            <a:ext cx="8636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796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1944720"/>
            <a:ext cx="315720" cy="3024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537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9" name=""/>
          <p:cNvSpPr/>
          <p:nvPr/>
        </p:nvSpPr>
        <p:spPr>
          <a:xfrm>
            <a:off x="2341440" y="453708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0" name=""/>
          <p:cNvSpPr/>
          <p:nvPr/>
        </p:nvSpPr>
        <p:spPr>
          <a:xfrm>
            <a:off x="500544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532908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3" name="Puzzle1"/>
          <p:cNvSpPr/>
          <p:nvPr/>
        </p:nvSpPr>
        <p:spPr>
          <a:xfrm>
            <a:off x="2700360" y="5041800"/>
            <a:ext cx="2158920" cy="16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tOT-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6T02:46:46Z</dcterms:modified>
  <cp:revision>288</cp:revision>
  <dc:subject/>
  <dc:title>Título </dc:title>
</cp:coreProperties>
</file>