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8717E7-BC90-4349-8CEC-44CFA7664A5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UnitOT-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36C3ACC-E556-40C5-AABF-01BBAF819B4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14C2F-B3DE-4E12-9B3B-4E040C6A04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5EA88-3AA9-449D-8F29-E413A076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CC1AE-E113-4EC1-8F68-A5A1413D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14B98-4946-4C2B-88EB-5F5EF0750C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BC593-DBA3-41AB-B54F-24956550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6AF04-981D-4154-8882-0879C208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A75E9-91F0-4B53-88FA-B2CAB9CF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3117E-34E3-4707-B546-0917141E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2453E-98FF-40FD-BD22-A5D5B44D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F499B-17BD-457F-AEC5-563B28A7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7EAA8-5D88-48FF-BC16-867A8496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C03C1-278F-4243-B848-AD55775A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FONDO PHD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162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08080"/>
                </a:solidFill>
                <a:latin typeface="UnitOT-Regula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FFE0-1F4F-4080-A45C-741B2632557F}" type="slidenum">
              <a:rPr b="0" lang="es-ES" sz="1200" spc="-1" strike="noStrike">
                <a:solidFill>
                  <a:srgbClr val="808080"/>
                </a:solidFill>
                <a:latin typeface="UnitOT-Regula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873920" y="404640"/>
            <a:ext cx="123516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680000" y="55958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Primavera 2008</a:t>
            </a: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593800" y="1844640"/>
            <a:ext cx="65502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MBA -DII</a:t>
            </a:r>
            <a:br>
              <a:rPr sz="4400"/>
            </a:b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pic>
        <p:nvPicPr>
          <p:cNvPr id="51" name="Picture 4" descr="pie copia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ROSELY"/>
          <p:cNvPicPr/>
          <p:nvPr/>
        </p:nvPicPr>
        <p:blipFill>
          <a:blip r:embed="rId2"/>
          <a:stretch/>
        </p:blipFill>
        <p:spPr>
          <a:xfrm>
            <a:off x="468360" y="1989000"/>
            <a:ext cx="212544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53800" y="1886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Objetivos de la asignatura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52388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Incrementar las habilidades y destrezas de los participantes para conducir y motivar personas y liderar procesos organizativos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533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533520" indent="-533520" algn="just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ntregar a los participantes distinciones y modelos teóricos que les permitan comprender  y mejorar la gestión de los recursos humanos de la  organización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lvl="1" marL="990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ntregar una visión panorámica de la teoría y prácticas modernas del comportamiento, diseño y desarrollo organizacional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796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201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4600" indent="-17460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studio de lo que hacen personas y grupos al interior de una organización y cómo estas acciones afectan la productividad, tanto individual como colectiva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-17460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Pone al servicio de la autoridad modelos y herramientas de análisis              de procesos que permitan generar interpretaciones que agreguen valor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-17460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Imperativo ético:  Productividad con Satisfacción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-17460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Desafíos y oportunidades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lvl="2" marL="6224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Administrar diversidad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6224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Potenciar empleabilidad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6224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Deficiencia de habilidades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6224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Innovación y adaptación al cambio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7960" y="24444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8" name=""/>
          <p:cNvSpPr/>
          <p:nvPr/>
        </p:nvSpPr>
        <p:spPr>
          <a:xfrm>
            <a:off x="758880" y="1557360"/>
            <a:ext cx="777384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cepción de las organizaciones como sistemas sociales abiertos.</a:t>
            </a:r>
            <a:br>
              <a:rPr sz="1800"/>
            </a:b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  <a:p>
            <a:pPr marL="174600" indent="-174600"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Trae consigo afianzamiento de perspectiva sistémica con variables tecnológicas, estructurales y ambientales  por sobre corriente desarrollo personal.</a:t>
            </a: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  <a:p>
            <a:pPr marL="174600" indent="-174600"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  <a:p>
            <a:pPr marL="174600" indent="-174600"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nfoque de análisis:  Sistema Socio Técnico.</a:t>
            </a: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  <a:p>
            <a:pPr marL="174600" indent="-174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  <a:p>
            <a:pPr marL="174600" indent="-174600"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modelos experto, médico o de procesos como respuesta a la consultoría en Desarrollo Organizacional.</a:t>
            </a:r>
            <a:br>
              <a:rPr sz="1800"/>
            </a:b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uzzle4"/>
          <p:cNvSpPr/>
          <p:nvPr/>
        </p:nvSpPr>
        <p:spPr>
          <a:xfrm>
            <a:off x="5292720" y="4681440"/>
            <a:ext cx="1700280" cy="2060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ocio</a:t>
            </a:r>
            <a:endParaRPr b="0" lang="en-US" sz="20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297080"/>
            <a:ext cx="1042920" cy="3671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Geográfic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Tecnológic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olític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Legal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297080"/>
            <a:ext cx="1042920" cy="610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1297080"/>
            <a:ext cx="973080" cy="3671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Visión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Misión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Objetivos 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Valore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1297080"/>
            <a:ext cx="973080" cy="610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4" name=""/>
          <p:cNvSpPr/>
          <p:nvPr/>
        </p:nvSpPr>
        <p:spPr>
          <a:xfrm>
            <a:off x="5435640" y="1297080"/>
            <a:ext cx="1581120" cy="3671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Trabajo en equip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municacione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nflict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el. Interpersonale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lima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Liderazg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1297080"/>
            <a:ext cx="1581120" cy="610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rocesos sicológicos 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y sicosociale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1297080"/>
            <a:ext cx="2448000" cy="28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771640" y="1585800"/>
            <a:ext cx="1225440" cy="3382920"/>
            <a:chOff x="2771640" y="1585800"/>
            <a:chExt cx="1225440" cy="3382920"/>
          </a:xfrm>
        </p:grpSpPr>
        <p:sp>
          <p:nvSpPr>
            <p:cNvPr id="68" name=""/>
            <p:cNvSpPr/>
            <p:nvPr/>
          </p:nvSpPr>
          <p:spPr>
            <a:xfrm>
              <a:off x="2771640" y="1585800"/>
              <a:ext cx="1225440" cy="33829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Plana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Piramidal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Matricial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. Puestos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. Tareas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71640" y="1585800"/>
              <a:ext cx="1225440" cy="354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ructura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924360" y="1585800"/>
            <a:ext cx="1297080" cy="3382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Selección</a:t>
            </a: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apacitación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v. Desemp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emunerac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Incentivo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lan Carrera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v. Potencial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esvinc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1" name=""/>
          <p:cNvSpPr/>
          <p:nvPr/>
        </p:nvSpPr>
        <p:spPr>
          <a:xfrm>
            <a:off x="3924360" y="1585800"/>
            <a:ext cx="1297080" cy="354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Sistema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2" name=""/>
          <p:cNvSpPr/>
          <p:nvPr/>
        </p:nvSpPr>
        <p:spPr>
          <a:xfrm>
            <a:off x="7236000" y="1297080"/>
            <a:ext cx="1657080" cy="3671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Organiz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Grupal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3" name=""/>
          <p:cNvSpPr/>
          <p:nvPr/>
        </p:nvSpPr>
        <p:spPr>
          <a:xfrm>
            <a:off x="7236000" y="1297080"/>
            <a:ext cx="1657080" cy="33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4" name=""/>
          <p:cNvSpPr/>
          <p:nvPr/>
        </p:nvSpPr>
        <p:spPr>
          <a:xfrm>
            <a:off x="7236000" y="1566720"/>
            <a:ext cx="793440" cy="34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R.HH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5" name=""/>
          <p:cNvSpPr/>
          <p:nvPr/>
        </p:nvSpPr>
        <p:spPr>
          <a:xfrm>
            <a:off x="8029440" y="1566720"/>
            <a:ext cx="863640" cy="34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fect. Org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4796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Modelo </a:t>
            </a:r>
            <a:br>
              <a:rPr sz="2400"/>
            </a:b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7" name=""/>
          <p:cNvSpPr/>
          <p:nvPr/>
        </p:nvSpPr>
        <p:spPr>
          <a:xfrm>
            <a:off x="3780000" y="1944720"/>
            <a:ext cx="315720" cy="3024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453708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9" name=""/>
          <p:cNvSpPr/>
          <p:nvPr/>
        </p:nvSpPr>
        <p:spPr>
          <a:xfrm>
            <a:off x="2341440" y="4537080"/>
            <a:ext cx="935280" cy="504720"/>
          </a:xfrm>
          <a:custGeom>
            <a:avLst/>
            <a:gdLst>
              <a:gd name="textAreaLeft" fmla="*/ 146160 w 935280"/>
              <a:gd name="textAreaRight" fmla="*/ 818640 w 9352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0" name=""/>
          <p:cNvSpPr/>
          <p:nvPr/>
        </p:nvSpPr>
        <p:spPr>
          <a:xfrm>
            <a:off x="5005440" y="446580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1" name=""/>
          <p:cNvSpPr/>
          <p:nvPr/>
        </p:nvSpPr>
        <p:spPr>
          <a:xfrm>
            <a:off x="6732720" y="446580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2" name=""/>
          <p:cNvSpPr/>
          <p:nvPr/>
        </p:nvSpPr>
        <p:spPr>
          <a:xfrm>
            <a:off x="2268360" y="5329080"/>
            <a:ext cx="1582920" cy="108108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3" name="Puzzle1"/>
          <p:cNvSpPr/>
          <p:nvPr/>
        </p:nvSpPr>
        <p:spPr>
          <a:xfrm>
            <a:off x="2700360" y="5041800"/>
            <a:ext cx="2158920" cy="1656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nitOT-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écnico</a:t>
            </a:r>
            <a:endParaRPr b="0" lang="en-US" sz="2000" spc="-1" strike="noStrike">
              <a:solidFill>
                <a:srgbClr val="000000"/>
              </a:solidFill>
              <a:latin typeface="UnitOT-Regular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10-16T02:46:46Z</dcterms:modified>
  <cp:revision>288</cp:revision>
  <dc:subject/>
  <dc:title>Título </dc:title>
</cp:coreProperties>
</file>