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CDC4F1-6EA0-49DA-853E-02F6A30A7D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A053E6-77BD-453C-822A-54E83DE1557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EB61-86DF-43BA-921A-DB406B9F9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B612-3FA0-4AE2-A52C-AD8129BD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E41A-0B52-486D-B0AE-154AF2AD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094E-ECF6-4ECF-8415-8344A290F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729F-F6F1-4881-9736-C9880D8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663F-EECA-4C33-A5E7-0F8727B0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79EE-95FF-4D2A-9EB4-F3F77C4B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4BDF-070F-427F-9676-23238120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08F9-ABC2-48C6-94A9-D535C502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5AFE-22E5-403A-8F81-6739DE9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5103-9885-408C-B365-A4F904B2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093E-5AC1-434E-9D2C-A48CF84B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52E2-BDDA-4675-A399-833B01E87D34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873920" y="404640"/>
            <a:ext cx="12351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000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MBA -DII</a:t>
            </a: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pic>
        <p:nvPicPr>
          <p:cNvPr id="51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3800" y="188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ncrementar las habilidades y destrezas de los participantes para conducir y motivar personas y liderar procesos organizativos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tregar a los participantes distinciones y modelos teóricos que les permitan comprender  y mejorar la gestión de los recursos humanos de la  organiza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tregar una visión panorámica de la teoría y prácticas modernas del comportamiento, diseño y desarrollo organizacional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79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-174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6224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marL="174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7960" y="2444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8" name=""/>
          <p:cNvSpPr/>
          <p:nvPr/>
        </p:nvSpPr>
        <p:spPr>
          <a:xfrm>
            <a:off x="758880" y="1557360"/>
            <a:ext cx="77738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  <a:p>
            <a:pPr marL="174600" indent="-1746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br>
              <a:rPr sz="1800"/>
            </a:b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uzzle4"/>
          <p:cNvSpPr/>
          <p:nvPr/>
        </p:nvSpPr>
        <p:spPr>
          <a:xfrm>
            <a:off x="5292720" y="4681440"/>
            <a:ext cx="1700280" cy="2060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297080"/>
            <a:ext cx="10429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297080"/>
            <a:ext cx="1042920" cy="610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1297080"/>
            <a:ext cx="973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1297080"/>
            <a:ext cx="97308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297080"/>
            <a:ext cx="158112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297080"/>
            <a:ext cx="1581120" cy="61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 sicológicos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y sicosociale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1297080"/>
            <a:ext cx="244800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71640" y="1585800"/>
            <a:ext cx="1225440" cy="3382920"/>
            <a:chOff x="2771640" y="1585800"/>
            <a:chExt cx="1225440" cy="3382920"/>
          </a:xfrm>
        </p:grpSpPr>
        <p:sp>
          <p:nvSpPr>
            <p:cNvPr id="68" name=""/>
            <p:cNvSpPr/>
            <p:nvPr/>
          </p:nvSpPr>
          <p:spPr>
            <a:xfrm>
              <a:off x="2771640" y="1585800"/>
              <a:ext cx="1225440" cy="33829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1640" y="1585800"/>
              <a:ext cx="1225440" cy="354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UnitOT-Regular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924360" y="1585800"/>
            <a:ext cx="1297080" cy="3382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1585800"/>
            <a:ext cx="1297080" cy="35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2" name=""/>
          <p:cNvSpPr/>
          <p:nvPr/>
        </p:nvSpPr>
        <p:spPr>
          <a:xfrm>
            <a:off x="7236000" y="1297080"/>
            <a:ext cx="1657080" cy="367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rganiz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1297080"/>
            <a:ext cx="1657080" cy="33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1566720"/>
            <a:ext cx="7934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5" name=""/>
          <p:cNvSpPr/>
          <p:nvPr/>
        </p:nvSpPr>
        <p:spPr>
          <a:xfrm>
            <a:off x="8029440" y="1566720"/>
            <a:ext cx="863640" cy="34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4796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1944720"/>
            <a:ext cx="315720" cy="3024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537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79" name=""/>
          <p:cNvSpPr/>
          <p:nvPr/>
        </p:nvSpPr>
        <p:spPr>
          <a:xfrm>
            <a:off x="2341440" y="453708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0" name=""/>
          <p:cNvSpPr/>
          <p:nvPr/>
        </p:nvSpPr>
        <p:spPr>
          <a:xfrm>
            <a:off x="500544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446580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532908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tOT-Regular"/>
            </a:endParaRPr>
          </a:p>
        </p:txBody>
      </p:sp>
      <p:sp>
        <p:nvSpPr>
          <p:cNvPr id="83" name="Puzzle1"/>
          <p:cNvSpPr/>
          <p:nvPr/>
        </p:nvSpPr>
        <p:spPr>
          <a:xfrm>
            <a:off x="2700360" y="5041800"/>
            <a:ext cx="2158920" cy="165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tOT-Regu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UnitOT-Regular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16T02:46:46Z</dcterms:modified>
  <cp:revision>288</cp:revision>
  <dc:subject/>
  <dc:title>Título </dc:title>
</cp:coreProperties>
</file>