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image2.png" ContentType="image/png"/>
  <Override PartName="/ppt/media/DRUMROLL.WAV" ContentType="audio/x-wav"/>
  <Override PartName="/ppt/media/APPLAUSE.WAV" ContentType="audio/x-wav"/>
  <Override PartName="/ppt/media/CHIMES.WAV" ContentType="audio/x-wav"/>
  <Override PartName="/ppt/media/CASHREG.WAV" ContentType="audio/x-wav"/>
  <Override PartName="/ppt/media/TYPE.WAV" ContentType="audio/x-wav"/>
  <Override PartName="/ppt/media/GUNSHOT.WAV" ContentType="audio/x-wav"/>
  <Override PartName="/ppt/media/WHOOSH.WAV" ContentType="audio/x-wav"/>
  <Override PartName="/ppt/media/DRIVEBY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87F-07E6-47F7-A833-88AB27B2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4D7-ADD7-405C-A4C7-1D3DFB09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397-C239-47CE-A0B9-7C29523F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4BA-1EEA-492E-9D47-77F29AA4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2C9-AFFE-4E81-998F-EF4E418E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124-DE34-4493-B300-22F839AA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D466-D0B5-4BA6-9549-4E02F00F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967-457D-4F85-BA64-3F62F3AB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720-6983-4C8E-BA58-EF50DD16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22C-10BD-4CA2-9664-9A21529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D89-404E-49FB-BF97-5AE6DA9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CD3-9142-4B10-A590-9FB6343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Unit-Medium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Unit-Light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9E1F-972C-4FEF-81FE-E49A9EA04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2311560"/>
            <a:ext cx="7772400" cy="1404720"/>
          </a:xfrm>
          <a:prstGeom prst="rect">
            <a:avLst/>
          </a:prstGeom>
          <a:blipFill rotWithShape="0">
            <a:blip r:embed="rId1">
              <a:alphaModFix amt="8000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IDERAZGO SITUACIONAL </a:t>
            </a:r>
            <a:endParaRPr b="0" lang="en-US" sz="32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rebuchet MS"/>
              </a:rPr>
              <a:t>Octubre 2008</a:t>
            </a:r>
            <a:endParaRPr b="0" lang="en-US" sz="2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Nivel 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etencia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para la tarea o meta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rebuchet MS"/>
              </a:rPr>
              <a:t>Conocimientos y habilidades transferibles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Compromis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Motivación 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99"/>
                </a:solidFill>
                <a:latin typeface="Trebuchet MS"/>
              </a:rPr>
              <a:t>Confianza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55640" y="1341360"/>
          <a:ext cx="7543800" cy="4611600"/>
        </p:xfrm>
        <a:graphic>
          <a:graphicData uri="http://schemas.openxmlformats.org/drawingml/2006/table">
            <a:tbl>
              <a:tblPr/>
              <a:tblGrid>
                <a:gridCol w="1886040"/>
                <a:gridCol w="1886040"/>
                <a:gridCol w="188568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Unit-Light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9528200">
            <a:off x="3632400" y="458064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643400">
            <a:off x="2794320" y="322380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5480" y="2567160"/>
            <a:ext cx="7458120" cy="2597040"/>
          </a:xfrm>
          <a:custGeom>
            <a:avLst/>
            <a:gdLst/>
            <a:ahLst/>
            <a:rect l="l" t="t" r="r" b="b"/>
            <a:pathLst>
              <a:path w="4698" h="1636">
                <a:moveTo>
                  <a:pt x="0" y="124"/>
                </a:moveTo>
                <a:cubicBezTo>
                  <a:pt x="15" y="118"/>
                  <a:pt x="64" y="94"/>
                  <a:pt x="92" y="85"/>
                </a:cubicBezTo>
                <a:cubicBezTo>
                  <a:pt x="120" y="76"/>
                  <a:pt x="127" y="70"/>
                  <a:pt x="170" y="72"/>
                </a:cubicBezTo>
                <a:cubicBezTo>
                  <a:pt x="213" y="74"/>
                  <a:pt x="283" y="70"/>
                  <a:pt x="353" y="98"/>
                </a:cubicBezTo>
                <a:cubicBezTo>
                  <a:pt x="423" y="126"/>
                  <a:pt x="502" y="172"/>
                  <a:pt x="589" y="242"/>
                </a:cubicBezTo>
                <a:cubicBezTo>
                  <a:pt x="676" y="312"/>
                  <a:pt x="805" y="439"/>
                  <a:pt x="877" y="517"/>
                </a:cubicBezTo>
                <a:cubicBezTo>
                  <a:pt x="949" y="595"/>
                  <a:pt x="984" y="665"/>
                  <a:pt x="1021" y="713"/>
                </a:cubicBezTo>
                <a:cubicBezTo>
                  <a:pt x="1058" y="761"/>
                  <a:pt x="1070" y="761"/>
                  <a:pt x="1100" y="805"/>
                </a:cubicBezTo>
                <a:cubicBezTo>
                  <a:pt x="1130" y="849"/>
                  <a:pt x="1160" y="901"/>
                  <a:pt x="1204" y="975"/>
                </a:cubicBezTo>
                <a:cubicBezTo>
                  <a:pt x="1248" y="1049"/>
                  <a:pt x="1300" y="1148"/>
                  <a:pt x="1361" y="1250"/>
                </a:cubicBezTo>
                <a:cubicBezTo>
                  <a:pt x="1422" y="1352"/>
                  <a:pt x="1486" y="1544"/>
                  <a:pt x="1571" y="1590"/>
                </a:cubicBezTo>
                <a:cubicBezTo>
                  <a:pt x="1656" y="1636"/>
                  <a:pt x="1722" y="1606"/>
                  <a:pt x="1872" y="1525"/>
                </a:cubicBezTo>
                <a:cubicBezTo>
                  <a:pt x="2022" y="1444"/>
                  <a:pt x="2376" y="1206"/>
                  <a:pt x="2474" y="1106"/>
                </a:cubicBezTo>
                <a:cubicBezTo>
                  <a:pt x="2572" y="1006"/>
                  <a:pt x="2417" y="929"/>
                  <a:pt x="2461" y="923"/>
                </a:cubicBezTo>
                <a:cubicBezTo>
                  <a:pt x="2505" y="917"/>
                  <a:pt x="2721" y="1087"/>
                  <a:pt x="2736" y="1067"/>
                </a:cubicBezTo>
                <a:cubicBezTo>
                  <a:pt x="2751" y="1047"/>
                  <a:pt x="2533" y="809"/>
                  <a:pt x="2553" y="805"/>
                </a:cubicBezTo>
                <a:cubicBezTo>
                  <a:pt x="2573" y="801"/>
                  <a:pt x="2830" y="1046"/>
                  <a:pt x="2854" y="1040"/>
                </a:cubicBezTo>
                <a:cubicBezTo>
                  <a:pt x="2878" y="1034"/>
                  <a:pt x="2677" y="783"/>
                  <a:pt x="2697" y="766"/>
                </a:cubicBezTo>
                <a:cubicBezTo>
                  <a:pt x="2717" y="749"/>
                  <a:pt x="2959" y="949"/>
                  <a:pt x="2972" y="936"/>
                </a:cubicBezTo>
                <a:cubicBezTo>
                  <a:pt x="2985" y="923"/>
                  <a:pt x="2758" y="707"/>
                  <a:pt x="2775" y="687"/>
                </a:cubicBezTo>
                <a:cubicBezTo>
                  <a:pt x="2792" y="667"/>
                  <a:pt x="3052" y="829"/>
                  <a:pt x="3076" y="818"/>
                </a:cubicBezTo>
                <a:cubicBezTo>
                  <a:pt x="3100" y="807"/>
                  <a:pt x="2904" y="646"/>
                  <a:pt x="2919" y="622"/>
                </a:cubicBezTo>
                <a:cubicBezTo>
                  <a:pt x="2934" y="598"/>
                  <a:pt x="3120" y="689"/>
                  <a:pt x="3168" y="674"/>
                </a:cubicBezTo>
                <a:cubicBezTo>
                  <a:pt x="3216" y="659"/>
                  <a:pt x="3096" y="619"/>
                  <a:pt x="3207" y="530"/>
                </a:cubicBezTo>
                <a:cubicBezTo>
                  <a:pt x="3318" y="441"/>
                  <a:pt x="3611" y="224"/>
                  <a:pt x="3836" y="137"/>
                </a:cubicBezTo>
                <a:cubicBezTo>
                  <a:pt x="4061" y="50"/>
                  <a:pt x="4414" y="12"/>
                  <a:pt x="4556" y="6"/>
                </a:cubicBezTo>
                <a:cubicBezTo>
                  <a:pt x="4698" y="0"/>
                  <a:pt x="4660" y="79"/>
                  <a:pt x="4687" y="9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1080" y="2284560"/>
            <a:ext cx="7461360" cy="3006720"/>
          </a:xfrm>
          <a:custGeom>
            <a:avLst/>
            <a:gdLst/>
            <a:ahLst/>
            <a:rect l="l" t="t" r="r" b="b"/>
            <a:pathLst>
              <a:path w="4700" h="1894">
                <a:moveTo>
                  <a:pt x="0" y="1894"/>
                </a:moveTo>
                <a:cubicBezTo>
                  <a:pt x="144" y="1846"/>
                  <a:pt x="559" y="1754"/>
                  <a:pt x="864" y="1593"/>
                </a:cubicBezTo>
                <a:cubicBezTo>
                  <a:pt x="1169" y="1432"/>
                  <a:pt x="1593" y="1092"/>
                  <a:pt x="1833" y="926"/>
                </a:cubicBezTo>
                <a:cubicBezTo>
                  <a:pt x="2073" y="760"/>
                  <a:pt x="2112" y="711"/>
                  <a:pt x="2304" y="598"/>
                </a:cubicBezTo>
                <a:cubicBezTo>
                  <a:pt x="2496" y="485"/>
                  <a:pt x="2697" y="341"/>
                  <a:pt x="2985" y="245"/>
                </a:cubicBezTo>
                <a:cubicBezTo>
                  <a:pt x="3273" y="149"/>
                  <a:pt x="3746" y="44"/>
                  <a:pt x="4032" y="22"/>
                </a:cubicBezTo>
                <a:cubicBezTo>
                  <a:pt x="4318" y="0"/>
                  <a:pt x="4561" y="95"/>
                  <a:pt x="4700" y="114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11556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Niveles de Madurez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Trebuchet MS"/>
              </a:rPr>
              <a:t>Colaboradores y Tareas / Meta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85440" y="259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os cuatro niveles </a:t>
            </a:r>
            <a:br>
              <a:rPr sz="3400"/>
            </a:b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de desarroll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1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ntusiasta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2: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aprendiz  desilusionad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3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oderada a alta competencia y compromiso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variabl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insegur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4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lta competencia y alto compromiso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(competente 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utónomo)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1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Normas que definan qué es un trabajo bien hech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formación sobre la tarea y la organización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2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0240" y="137160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Metas clar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spectiv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troalimentación frecuente sobre los resulta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ogio ante el progreso manifiest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ntir que los errores son comprendid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3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consejero o asesor accesibl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Oportunidades para expresar las preocupac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Las necesidades de un D4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557000"/>
            <a:ext cx="80629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versidad y desafío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Un líder que sea un consejero y colega más que un jef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imiento de sus contribuciones. 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Autonomía y autor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fianza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36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652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99"/>
                </a:solidFill>
                <a:latin typeface="Trebuchet MS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01440" y="485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3399"/>
                </a:solidFill>
                <a:latin typeface="Trebuchet MS"/>
              </a:rPr>
              <a:t>Liderazgo para el cambi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5238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Las organizaciones no pueden esperar ser diferentes mientras continúen haciendo lo mismo una y otra vez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es una oportunidad de crecimiento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Para iniciar el cambio los líderes deben definir la visión y los valor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3399"/>
                </a:solidFill>
                <a:latin typeface="Trebuchet MS"/>
              </a:rPr>
              <a:t>El cambio crea la necesidad de desarrollar nuevas habilidades.</a:t>
            </a:r>
            <a:endParaRPr b="0" lang="en-US" sz="2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57440" y="188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irectiv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7880" y="190512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e dice al colaborador qué hacer, cuándo y cómo hacer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los papeles del líder y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upervisa de cerca el desempeñ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1080" y="333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 apoyo</a:t>
            </a:r>
            <a:endParaRPr b="0" lang="en-US" sz="34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8120" y="1700280"/>
            <a:ext cx="807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Es el grado en que un líder: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e compromete más en la comunicación bilateral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proporciona apoyo y estímu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toma de decisione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y facilita la autonomía en la solución de problem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99"/>
                </a:solidFill>
                <a:latin typeface="Trebuchet MS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Estilo de liderazgo</a:t>
            </a: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2880" y="16286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trón de comportamientos que usted utiliza con sus colaboradores tal como ellos lo percibe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32080" y="414360"/>
            <a:ext cx="738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Los Cuatro Estil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_tradnl" sz="34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98080" y="1219320"/>
            <a:ext cx="5542200" cy="5081040"/>
            <a:chOff x="2098080" y="1219320"/>
            <a:chExt cx="5542200" cy="5081040"/>
          </a:xfrm>
        </p:grpSpPr>
        <p:sp>
          <p:nvSpPr>
            <p:cNvPr id="140" name=""/>
            <p:cNvSpPr/>
            <p:nvPr/>
          </p:nvSpPr>
          <p:spPr>
            <a:xfrm flipV="1">
              <a:off x="2486160" y="1620720"/>
              <a:ext cx="0" cy="4292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6440" y="3720960"/>
              <a:ext cx="2179440" cy="217656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55800" y="1584360"/>
              <a:ext cx="2170080" cy="2122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41720" y="1584360"/>
              <a:ext cx="2222640" cy="21225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1720" y="3733920"/>
              <a:ext cx="2210040" cy="2176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0560" y="6165720"/>
              <a:ext cx="402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55800" y="1590840"/>
              <a:ext cx="4397400" cy="432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98080" y="5983200"/>
              <a:ext cx="72252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Baj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60600" y="598320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3920" y="5943600"/>
              <a:ext cx="25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 DIR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20040" y="1219320"/>
              <a:ext cx="6796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500" spc="-1" strike="noStrike">
                  <a:solidFill>
                    <a:srgbClr val="003399"/>
                  </a:solidFill>
                  <a:latin typeface="Arial"/>
                </a:rPr>
                <a:t>(Alto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1600200"/>
              <a:ext cx="0" cy="4343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86040" y="3708360"/>
              <a:ext cx="4376880" cy="25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8880" y="5038560"/>
              <a:ext cx="16156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60840" y="1609560"/>
              <a:ext cx="16236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97480" y="1619280"/>
              <a:ext cx="17164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760" y="5038560"/>
              <a:ext cx="17668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003399"/>
                  </a:solidFill>
                  <a:latin typeface="Arial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1916280"/>
              <a:ext cx="219060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0" y="120"/>
                  </a:moveTo>
                  <a:lnTo>
                    <a:pt x="25" y="121"/>
                  </a:lnTo>
                  <a:lnTo>
                    <a:pt x="41" y="124"/>
                  </a:lnTo>
                  <a:lnTo>
                    <a:pt x="52" y="125"/>
                  </a:lnTo>
                  <a:lnTo>
                    <a:pt x="63" y="128"/>
                  </a:lnTo>
                  <a:lnTo>
                    <a:pt x="71" y="131"/>
                  </a:lnTo>
                  <a:lnTo>
                    <a:pt x="82" y="135"/>
                  </a:lnTo>
                  <a:lnTo>
                    <a:pt x="92" y="140"/>
                  </a:lnTo>
                  <a:lnTo>
                    <a:pt x="103" y="146"/>
                  </a:lnTo>
                  <a:lnTo>
                    <a:pt x="122" y="154"/>
                  </a:lnTo>
                  <a:lnTo>
                    <a:pt x="141" y="166"/>
                  </a:lnTo>
                  <a:lnTo>
                    <a:pt x="159" y="177"/>
                  </a:lnTo>
                  <a:lnTo>
                    <a:pt x="180" y="191"/>
                  </a:lnTo>
                  <a:lnTo>
                    <a:pt x="197" y="202"/>
                  </a:lnTo>
                  <a:lnTo>
                    <a:pt x="231" y="230"/>
                  </a:lnTo>
                  <a:lnTo>
                    <a:pt x="265" y="264"/>
                  </a:lnTo>
                  <a:lnTo>
                    <a:pt x="295" y="298"/>
                  </a:lnTo>
                  <a:lnTo>
                    <a:pt x="333" y="350"/>
                  </a:lnTo>
                  <a:lnTo>
                    <a:pt x="361" y="397"/>
                  </a:lnTo>
                  <a:lnTo>
                    <a:pt x="391" y="446"/>
                  </a:lnTo>
                  <a:lnTo>
                    <a:pt x="409" y="493"/>
                  </a:lnTo>
                  <a:lnTo>
                    <a:pt x="425" y="538"/>
                  </a:lnTo>
                  <a:lnTo>
                    <a:pt x="447" y="590"/>
                  </a:lnTo>
                  <a:lnTo>
                    <a:pt x="463" y="640"/>
                  </a:lnTo>
                  <a:lnTo>
                    <a:pt x="483" y="718"/>
                  </a:lnTo>
                  <a:lnTo>
                    <a:pt x="500" y="790"/>
                  </a:lnTo>
                  <a:lnTo>
                    <a:pt x="511" y="860"/>
                  </a:lnTo>
                  <a:lnTo>
                    <a:pt x="524" y="946"/>
                  </a:lnTo>
                  <a:lnTo>
                    <a:pt x="532" y="1004"/>
                  </a:lnTo>
                  <a:lnTo>
                    <a:pt x="542" y="1072"/>
                  </a:lnTo>
                  <a:lnTo>
                    <a:pt x="551" y="1117"/>
                  </a:lnTo>
                  <a:lnTo>
                    <a:pt x="556" y="1158"/>
                  </a:lnTo>
                  <a:lnTo>
                    <a:pt x="567" y="1210"/>
                  </a:lnTo>
                  <a:lnTo>
                    <a:pt x="581" y="1262"/>
                  </a:lnTo>
                  <a:lnTo>
                    <a:pt x="591" y="1304"/>
                  </a:lnTo>
                  <a:lnTo>
                    <a:pt x="604" y="1354"/>
                  </a:lnTo>
                  <a:lnTo>
                    <a:pt x="618" y="1402"/>
                  </a:lnTo>
                  <a:lnTo>
                    <a:pt x="630" y="1443"/>
                  </a:lnTo>
                  <a:lnTo>
                    <a:pt x="648" y="1480"/>
                  </a:lnTo>
                  <a:lnTo>
                    <a:pt x="661" y="1510"/>
                  </a:lnTo>
                  <a:lnTo>
                    <a:pt x="675" y="1541"/>
                  </a:lnTo>
                  <a:lnTo>
                    <a:pt x="696" y="1574"/>
                  </a:lnTo>
                  <a:lnTo>
                    <a:pt x="718" y="1612"/>
                  </a:lnTo>
                  <a:lnTo>
                    <a:pt x="743" y="1647"/>
                  </a:lnTo>
                  <a:lnTo>
                    <a:pt x="776" y="1691"/>
                  </a:lnTo>
                  <a:lnTo>
                    <a:pt x="809" y="1728"/>
                  </a:lnTo>
                  <a:lnTo>
                    <a:pt x="844" y="1763"/>
                  </a:lnTo>
                  <a:lnTo>
                    <a:pt x="883" y="1793"/>
                  </a:lnTo>
                  <a:lnTo>
                    <a:pt x="912" y="1812"/>
                  </a:lnTo>
                  <a:lnTo>
                    <a:pt x="935" y="1826"/>
                  </a:lnTo>
                  <a:lnTo>
                    <a:pt x="959" y="1838"/>
                  </a:lnTo>
                  <a:lnTo>
                    <a:pt x="988" y="1853"/>
                  </a:lnTo>
                  <a:lnTo>
                    <a:pt x="1021" y="1868"/>
                  </a:lnTo>
                  <a:lnTo>
                    <a:pt x="1056" y="1882"/>
                  </a:lnTo>
                  <a:lnTo>
                    <a:pt x="1094" y="1898"/>
                  </a:lnTo>
                  <a:lnTo>
                    <a:pt x="1129" y="1908"/>
                  </a:lnTo>
                  <a:lnTo>
                    <a:pt x="1161" y="1918"/>
                  </a:lnTo>
                  <a:lnTo>
                    <a:pt x="1193" y="1927"/>
                  </a:lnTo>
                  <a:lnTo>
                    <a:pt x="1228" y="1936"/>
                  </a:lnTo>
                  <a:lnTo>
                    <a:pt x="1260" y="1944"/>
                  </a:lnTo>
                  <a:lnTo>
                    <a:pt x="1304" y="1951"/>
                  </a:lnTo>
                  <a:lnTo>
                    <a:pt x="1347" y="1958"/>
                  </a:lnTo>
                  <a:lnTo>
                    <a:pt x="1347" y="1829"/>
                  </a:lnTo>
                  <a:lnTo>
                    <a:pt x="1315" y="1819"/>
                  </a:lnTo>
                  <a:lnTo>
                    <a:pt x="1270" y="1811"/>
                  </a:lnTo>
                  <a:lnTo>
                    <a:pt x="1237" y="1804"/>
                  </a:lnTo>
                  <a:lnTo>
                    <a:pt x="1199" y="1793"/>
                  </a:lnTo>
                  <a:lnTo>
                    <a:pt x="1171" y="1785"/>
                  </a:lnTo>
                  <a:lnTo>
                    <a:pt x="1149" y="1775"/>
                  </a:lnTo>
                  <a:lnTo>
                    <a:pt x="1122" y="1767"/>
                  </a:lnTo>
                  <a:lnTo>
                    <a:pt x="1090" y="1758"/>
                  </a:lnTo>
                  <a:lnTo>
                    <a:pt x="1063" y="1747"/>
                  </a:lnTo>
                  <a:lnTo>
                    <a:pt x="1038" y="1736"/>
                  </a:lnTo>
                  <a:lnTo>
                    <a:pt x="1019" y="1724"/>
                  </a:lnTo>
                  <a:lnTo>
                    <a:pt x="992" y="1709"/>
                  </a:lnTo>
                  <a:lnTo>
                    <a:pt x="957" y="1685"/>
                  </a:lnTo>
                  <a:lnTo>
                    <a:pt x="931" y="1669"/>
                  </a:lnTo>
                  <a:lnTo>
                    <a:pt x="907" y="1649"/>
                  </a:lnTo>
                  <a:lnTo>
                    <a:pt x="880" y="1623"/>
                  </a:lnTo>
                  <a:lnTo>
                    <a:pt x="851" y="1587"/>
                  </a:lnTo>
                  <a:lnTo>
                    <a:pt x="826" y="1551"/>
                  </a:lnTo>
                  <a:lnTo>
                    <a:pt x="795" y="1500"/>
                  </a:lnTo>
                  <a:lnTo>
                    <a:pt x="767" y="1450"/>
                  </a:lnTo>
                  <a:lnTo>
                    <a:pt x="745" y="1401"/>
                  </a:lnTo>
                  <a:lnTo>
                    <a:pt x="732" y="1365"/>
                  </a:lnTo>
                  <a:lnTo>
                    <a:pt x="720" y="1322"/>
                  </a:lnTo>
                  <a:lnTo>
                    <a:pt x="710" y="1290"/>
                  </a:lnTo>
                  <a:lnTo>
                    <a:pt x="699" y="1233"/>
                  </a:lnTo>
                  <a:lnTo>
                    <a:pt x="687" y="1176"/>
                  </a:lnTo>
                  <a:lnTo>
                    <a:pt x="678" y="1134"/>
                  </a:lnTo>
                  <a:lnTo>
                    <a:pt x="668" y="1075"/>
                  </a:lnTo>
                  <a:lnTo>
                    <a:pt x="660" y="1016"/>
                  </a:lnTo>
                  <a:lnTo>
                    <a:pt x="650" y="951"/>
                  </a:lnTo>
                  <a:lnTo>
                    <a:pt x="641" y="890"/>
                  </a:lnTo>
                  <a:lnTo>
                    <a:pt x="627" y="809"/>
                  </a:lnTo>
                  <a:lnTo>
                    <a:pt x="619" y="758"/>
                  </a:lnTo>
                  <a:lnTo>
                    <a:pt x="609" y="704"/>
                  </a:lnTo>
                  <a:lnTo>
                    <a:pt x="598" y="657"/>
                  </a:lnTo>
                  <a:lnTo>
                    <a:pt x="584" y="601"/>
                  </a:lnTo>
                  <a:lnTo>
                    <a:pt x="570" y="565"/>
                  </a:lnTo>
                  <a:lnTo>
                    <a:pt x="556" y="525"/>
                  </a:lnTo>
                  <a:lnTo>
                    <a:pt x="532" y="471"/>
                  </a:lnTo>
                  <a:lnTo>
                    <a:pt x="518" y="440"/>
                  </a:lnTo>
                  <a:lnTo>
                    <a:pt x="502" y="397"/>
                  </a:lnTo>
                  <a:lnTo>
                    <a:pt x="468" y="339"/>
                  </a:lnTo>
                  <a:lnTo>
                    <a:pt x="443" y="294"/>
                  </a:lnTo>
                  <a:lnTo>
                    <a:pt x="423" y="266"/>
                  </a:lnTo>
                  <a:lnTo>
                    <a:pt x="397" y="236"/>
                  </a:lnTo>
                  <a:lnTo>
                    <a:pt x="352" y="184"/>
                  </a:lnTo>
                  <a:lnTo>
                    <a:pt x="323" y="151"/>
                  </a:lnTo>
                  <a:lnTo>
                    <a:pt x="295" y="127"/>
                  </a:lnTo>
                  <a:lnTo>
                    <a:pt x="257" y="97"/>
                  </a:lnTo>
                  <a:lnTo>
                    <a:pt x="219" y="74"/>
                  </a:lnTo>
                  <a:lnTo>
                    <a:pt x="169" y="49"/>
                  </a:lnTo>
                  <a:lnTo>
                    <a:pt x="154" y="41"/>
                  </a:lnTo>
                  <a:lnTo>
                    <a:pt x="136" y="33"/>
                  </a:lnTo>
                  <a:lnTo>
                    <a:pt x="124" y="29"/>
                  </a:lnTo>
                  <a:lnTo>
                    <a:pt x="110" y="25"/>
                  </a:lnTo>
                  <a:lnTo>
                    <a:pt x="98" y="19"/>
                  </a:lnTo>
                  <a:lnTo>
                    <a:pt x="87" y="15"/>
                  </a:lnTo>
                  <a:lnTo>
                    <a:pt x="74" y="14"/>
                  </a:lnTo>
                  <a:lnTo>
                    <a:pt x="53" y="8"/>
                  </a:lnTo>
                  <a:lnTo>
                    <a:pt x="36" y="5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19520" y="1916280"/>
              <a:ext cx="2133360" cy="3109680"/>
            </a:xfrm>
            <a:custGeom>
              <a:avLst/>
              <a:gdLst/>
              <a:ahLst/>
              <a:rect l="l" t="t" r="r" b="b"/>
              <a:pathLst>
                <a:path w="1348" h="1959">
                  <a:moveTo>
                    <a:pt x="1347" y="120"/>
                  </a:moveTo>
                  <a:lnTo>
                    <a:pt x="1320" y="121"/>
                  </a:lnTo>
                  <a:lnTo>
                    <a:pt x="1306" y="124"/>
                  </a:lnTo>
                  <a:lnTo>
                    <a:pt x="1295" y="125"/>
                  </a:lnTo>
                  <a:lnTo>
                    <a:pt x="1284" y="128"/>
                  </a:lnTo>
                  <a:lnTo>
                    <a:pt x="1276" y="131"/>
                  </a:lnTo>
                  <a:lnTo>
                    <a:pt x="1264" y="135"/>
                  </a:lnTo>
                  <a:lnTo>
                    <a:pt x="1255" y="140"/>
                  </a:lnTo>
                  <a:lnTo>
                    <a:pt x="1243" y="146"/>
                  </a:lnTo>
                  <a:lnTo>
                    <a:pt x="1225" y="154"/>
                  </a:lnTo>
                  <a:lnTo>
                    <a:pt x="1206" y="166"/>
                  </a:lnTo>
                  <a:lnTo>
                    <a:pt x="1188" y="177"/>
                  </a:lnTo>
                  <a:lnTo>
                    <a:pt x="1167" y="191"/>
                  </a:lnTo>
                  <a:lnTo>
                    <a:pt x="1150" y="202"/>
                  </a:lnTo>
                  <a:lnTo>
                    <a:pt x="1115" y="230"/>
                  </a:lnTo>
                  <a:lnTo>
                    <a:pt x="1081" y="264"/>
                  </a:lnTo>
                  <a:lnTo>
                    <a:pt x="1052" y="298"/>
                  </a:lnTo>
                  <a:lnTo>
                    <a:pt x="1013" y="350"/>
                  </a:lnTo>
                  <a:lnTo>
                    <a:pt x="988" y="397"/>
                  </a:lnTo>
                  <a:lnTo>
                    <a:pt x="955" y="446"/>
                  </a:lnTo>
                  <a:lnTo>
                    <a:pt x="937" y="493"/>
                  </a:lnTo>
                  <a:lnTo>
                    <a:pt x="922" y="538"/>
                  </a:lnTo>
                  <a:lnTo>
                    <a:pt x="899" y="590"/>
                  </a:lnTo>
                  <a:lnTo>
                    <a:pt x="885" y="640"/>
                  </a:lnTo>
                  <a:lnTo>
                    <a:pt x="863" y="718"/>
                  </a:lnTo>
                  <a:lnTo>
                    <a:pt x="848" y="790"/>
                  </a:lnTo>
                  <a:lnTo>
                    <a:pt x="834" y="860"/>
                  </a:lnTo>
                  <a:lnTo>
                    <a:pt x="822" y="946"/>
                  </a:lnTo>
                  <a:lnTo>
                    <a:pt x="814" y="1004"/>
                  </a:lnTo>
                  <a:lnTo>
                    <a:pt x="804" y="1072"/>
                  </a:lnTo>
                  <a:lnTo>
                    <a:pt x="796" y="1117"/>
                  </a:lnTo>
                  <a:lnTo>
                    <a:pt x="790" y="1158"/>
                  </a:lnTo>
                  <a:lnTo>
                    <a:pt x="781" y="1210"/>
                  </a:lnTo>
                  <a:lnTo>
                    <a:pt x="767" y="1262"/>
                  </a:lnTo>
                  <a:lnTo>
                    <a:pt x="755" y="1304"/>
                  </a:lnTo>
                  <a:lnTo>
                    <a:pt x="743" y="1354"/>
                  </a:lnTo>
                  <a:lnTo>
                    <a:pt x="729" y="1402"/>
                  </a:lnTo>
                  <a:lnTo>
                    <a:pt x="716" y="1443"/>
                  </a:lnTo>
                  <a:lnTo>
                    <a:pt x="699" y="1480"/>
                  </a:lnTo>
                  <a:lnTo>
                    <a:pt x="685" y="1510"/>
                  </a:lnTo>
                  <a:lnTo>
                    <a:pt x="671" y="1541"/>
                  </a:lnTo>
                  <a:lnTo>
                    <a:pt x="650" y="1574"/>
                  </a:lnTo>
                  <a:lnTo>
                    <a:pt x="629" y="1612"/>
                  </a:lnTo>
                  <a:lnTo>
                    <a:pt x="603" y="1647"/>
                  </a:lnTo>
                  <a:lnTo>
                    <a:pt x="572" y="1691"/>
                  </a:lnTo>
                  <a:lnTo>
                    <a:pt x="539" y="1728"/>
                  </a:lnTo>
                  <a:lnTo>
                    <a:pt x="502" y="1763"/>
                  </a:lnTo>
                  <a:lnTo>
                    <a:pt x="463" y="1793"/>
                  </a:lnTo>
                  <a:lnTo>
                    <a:pt x="434" y="1812"/>
                  </a:lnTo>
                  <a:lnTo>
                    <a:pt x="413" y="1826"/>
                  </a:lnTo>
                  <a:lnTo>
                    <a:pt x="387" y="1838"/>
                  </a:lnTo>
                  <a:lnTo>
                    <a:pt x="359" y="1853"/>
                  </a:lnTo>
                  <a:lnTo>
                    <a:pt x="326" y="1868"/>
                  </a:lnTo>
                  <a:lnTo>
                    <a:pt x="291" y="1882"/>
                  </a:lnTo>
                  <a:lnTo>
                    <a:pt x="252" y="1898"/>
                  </a:lnTo>
                  <a:lnTo>
                    <a:pt x="218" y="1908"/>
                  </a:lnTo>
                  <a:lnTo>
                    <a:pt x="186" y="1918"/>
                  </a:lnTo>
                  <a:lnTo>
                    <a:pt x="154" y="1927"/>
                  </a:lnTo>
                  <a:lnTo>
                    <a:pt x="119" y="1936"/>
                  </a:lnTo>
                  <a:lnTo>
                    <a:pt x="87" y="1944"/>
                  </a:lnTo>
                  <a:lnTo>
                    <a:pt x="43" y="1951"/>
                  </a:lnTo>
                  <a:lnTo>
                    <a:pt x="0" y="1958"/>
                  </a:lnTo>
                  <a:lnTo>
                    <a:pt x="0" y="1829"/>
                  </a:lnTo>
                  <a:lnTo>
                    <a:pt x="34" y="1819"/>
                  </a:lnTo>
                  <a:lnTo>
                    <a:pt x="77" y="1811"/>
                  </a:lnTo>
                  <a:lnTo>
                    <a:pt x="109" y="1804"/>
                  </a:lnTo>
                  <a:lnTo>
                    <a:pt x="148" y="1793"/>
                  </a:lnTo>
                  <a:lnTo>
                    <a:pt x="176" y="1785"/>
                  </a:lnTo>
                  <a:lnTo>
                    <a:pt x="200" y="1775"/>
                  </a:lnTo>
                  <a:lnTo>
                    <a:pt x="227" y="1767"/>
                  </a:lnTo>
                  <a:lnTo>
                    <a:pt x="256" y="1758"/>
                  </a:lnTo>
                  <a:lnTo>
                    <a:pt x="283" y="1747"/>
                  </a:lnTo>
                  <a:lnTo>
                    <a:pt x="309" y="1736"/>
                  </a:lnTo>
                  <a:lnTo>
                    <a:pt x="329" y="1724"/>
                  </a:lnTo>
                  <a:lnTo>
                    <a:pt x="355" y="1709"/>
                  </a:lnTo>
                  <a:lnTo>
                    <a:pt x="390" y="1685"/>
                  </a:lnTo>
                  <a:lnTo>
                    <a:pt x="417" y="1669"/>
                  </a:lnTo>
                  <a:lnTo>
                    <a:pt x="441" y="1649"/>
                  </a:lnTo>
                  <a:lnTo>
                    <a:pt x="467" y="1623"/>
                  </a:lnTo>
                  <a:lnTo>
                    <a:pt x="497" y="1587"/>
                  </a:lnTo>
                  <a:lnTo>
                    <a:pt x="522" y="1551"/>
                  </a:lnTo>
                  <a:lnTo>
                    <a:pt x="553" y="1500"/>
                  </a:lnTo>
                  <a:lnTo>
                    <a:pt x="579" y="1450"/>
                  </a:lnTo>
                  <a:lnTo>
                    <a:pt x="601" y="1401"/>
                  </a:lnTo>
                  <a:lnTo>
                    <a:pt x="615" y="1365"/>
                  </a:lnTo>
                  <a:lnTo>
                    <a:pt x="627" y="1322"/>
                  </a:lnTo>
                  <a:lnTo>
                    <a:pt x="635" y="1290"/>
                  </a:lnTo>
                  <a:lnTo>
                    <a:pt x="648" y="1233"/>
                  </a:lnTo>
                  <a:lnTo>
                    <a:pt x="660" y="1176"/>
                  </a:lnTo>
                  <a:lnTo>
                    <a:pt x="669" y="1134"/>
                  </a:lnTo>
                  <a:lnTo>
                    <a:pt x="680" y="1075"/>
                  </a:lnTo>
                  <a:lnTo>
                    <a:pt x="688" y="1016"/>
                  </a:lnTo>
                  <a:lnTo>
                    <a:pt x="697" y="951"/>
                  </a:lnTo>
                  <a:lnTo>
                    <a:pt x="706" y="890"/>
                  </a:lnTo>
                  <a:lnTo>
                    <a:pt x="719" y="809"/>
                  </a:lnTo>
                  <a:lnTo>
                    <a:pt x="727" y="758"/>
                  </a:lnTo>
                  <a:lnTo>
                    <a:pt x="739" y="704"/>
                  </a:lnTo>
                  <a:lnTo>
                    <a:pt x="750" y="657"/>
                  </a:lnTo>
                  <a:lnTo>
                    <a:pt x="762" y="601"/>
                  </a:lnTo>
                  <a:lnTo>
                    <a:pt x="776" y="565"/>
                  </a:lnTo>
                  <a:lnTo>
                    <a:pt x="790" y="525"/>
                  </a:lnTo>
                  <a:lnTo>
                    <a:pt x="814" y="471"/>
                  </a:lnTo>
                  <a:lnTo>
                    <a:pt x="828" y="440"/>
                  </a:lnTo>
                  <a:lnTo>
                    <a:pt x="846" y="397"/>
                  </a:lnTo>
                  <a:lnTo>
                    <a:pt x="878" y="339"/>
                  </a:lnTo>
                  <a:lnTo>
                    <a:pt x="904" y="294"/>
                  </a:lnTo>
                  <a:lnTo>
                    <a:pt x="923" y="266"/>
                  </a:lnTo>
                  <a:lnTo>
                    <a:pt x="950" y="236"/>
                  </a:lnTo>
                  <a:lnTo>
                    <a:pt x="995" y="184"/>
                  </a:lnTo>
                  <a:lnTo>
                    <a:pt x="1024" y="151"/>
                  </a:lnTo>
                  <a:lnTo>
                    <a:pt x="1052" y="127"/>
                  </a:lnTo>
                  <a:lnTo>
                    <a:pt x="1091" y="97"/>
                  </a:lnTo>
                  <a:lnTo>
                    <a:pt x="1127" y="74"/>
                  </a:lnTo>
                  <a:lnTo>
                    <a:pt x="1178" y="49"/>
                  </a:lnTo>
                  <a:lnTo>
                    <a:pt x="1193" y="41"/>
                  </a:lnTo>
                  <a:lnTo>
                    <a:pt x="1211" y="33"/>
                  </a:lnTo>
                  <a:lnTo>
                    <a:pt x="1224" y="29"/>
                  </a:lnTo>
                  <a:lnTo>
                    <a:pt x="1236" y="25"/>
                  </a:lnTo>
                  <a:lnTo>
                    <a:pt x="1250" y="19"/>
                  </a:lnTo>
                  <a:lnTo>
                    <a:pt x="1260" y="15"/>
                  </a:lnTo>
                  <a:lnTo>
                    <a:pt x="1273" y="14"/>
                  </a:lnTo>
                  <a:lnTo>
                    <a:pt x="1294" y="8"/>
                  </a:lnTo>
                  <a:lnTo>
                    <a:pt x="1309" y="5"/>
                  </a:lnTo>
                  <a:lnTo>
                    <a:pt x="1323" y="3"/>
                  </a:lnTo>
                  <a:lnTo>
                    <a:pt x="1347" y="0"/>
                  </a:lnTo>
                  <a:lnTo>
                    <a:pt x="1347" y="120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6080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8120" y="4195800"/>
              <a:ext cx="1463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00640" y="2782800"/>
              <a:ext cx="146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3320" y="4195800"/>
              <a:ext cx="14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99"/>
                  </a:solidFill>
                  <a:latin typeface="Arial Black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1420560" y="3474720"/>
              <a:ext cx="2503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COMPORTAMIENTO</a:t>
              </a:r>
              <a:r>
                <a:rPr b="1" lang="es-ES_tradnl" sz="10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003399"/>
                  </a:solidFill>
                  <a:latin typeface="Arial"/>
                </a:rPr>
                <a:t>DE APOY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stilo de liderazgo </a:t>
            </a:r>
            <a:r>
              <a:rPr b="1" lang="es-CL" sz="2200" spc="-1" strike="noStrike" u="sng">
                <a:solidFill>
                  <a:srgbClr val="003399"/>
                </a:solidFill>
                <a:uFillTx/>
                <a:latin typeface="Trebuchet MS"/>
              </a:rPr>
              <a:t>DIRIGIR</a:t>
            </a:r>
            <a:r>
              <a:rPr b="1" lang="es-CL" sz="1600" spc="-1" strike="noStrike">
                <a:solidFill>
                  <a:srgbClr val="808080"/>
                </a:solidFill>
                <a:latin typeface="Trebuchet MS"/>
              </a:rPr>
              <a:t>: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3008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el entusiasm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 las habilidades transferibles del colaborador y su progreso hast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ca los resultados, objetivos y plaz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buen trabajo y como se registrara y controlara e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rrolla un plan para que el colaborador aprenda nuev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planificación de ac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la mayoría de las decisiones relacionadas con que hacer , cuando y con qu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trices e instrucciones especif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irige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Entren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br>
              <a:rPr sz="2600"/>
            </a:b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 colaborador en la identificación de problemas y en fijar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poyo, seguridad y elog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: brinda al colaborador una oportunidad para discutir preocupaciones  y comparti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nvolucra al colaborador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oma de decisiones finales relativas a los planes de acción luego de escuchar las ideas y los sentimient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dirección y adiestramiento  para continuar  desarrollando y perfeccionando la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la razón para tomar un enfoque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que es un trajo bien hecho y como el desempeño será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ntinua haciendo seguimiento y proporcionando retroalimentación frecu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1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 el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stilo de liderazgo 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Apoy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1424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Comparte con  el colaborador tomar la iniciativa en la planificación de acciones y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Sirve como elemento de reflexión, estimulando al colaborador a discutir sus preocupaciones e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cucha y estimula al colaborador a resolver problemas y tomar decisiones autónom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seguridad, apoyo, estímulo y elogio a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xplica maneras para hacer la meta o tarea mas interesante y desafiante, cuando la motivación es ba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ayuda en la solución de problemas compartiendo ideas, cuando se la solici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Trabaja con el colaborador en la evaluación de su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7920" y="2282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uando un líder utiliza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el estilo de liderazgo </a:t>
            </a:r>
            <a:r>
              <a:rPr b="1" lang="es-CL" sz="2600" spc="-1" strike="noStrike" u="sng">
                <a:solidFill>
                  <a:srgbClr val="003399"/>
                </a:solidFill>
                <a:uFillTx/>
                <a:latin typeface="Trebuchet MS"/>
              </a:rPr>
              <a:t>Delegar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6600" y="1542600"/>
            <a:ext cx="762012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ermite al colaborador hacerse car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e con el colaborador los problemas y los resultados dese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stimula al colaborador a evaluar su propio 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Proporciona oportunidades para que el colaborador comparta y celebre éxitos y prepare a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Reconoce, valora y premia las contribuciones del colaborador a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safía al colaborador a alcanzar niveles de desempeño aun mas al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4120" y="71100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Estilos de toma de decisiones</a:t>
            </a:r>
            <a:endParaRPr b="0" lang="en-US" sz="28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73" name=""/>
          <p:cNvSpPr/>
          <p:nvPr/>
        </p:nvSpPr>
        <p:spPr>
          <a:xfrm>
            <a:off x="2424240" y="2384280"/>
            <a:ext cx="20700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Apo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ambos decidi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7600" y="238428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Ent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Hablemos, 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24240" y="4365720"/>
            <a:ext cx="20700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Tú dec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57600" y="4365720"/>
            <a:ext cx="207036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El líder en el esti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Dir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i="1" lang="es-CL" sz="1400" spc="-1" strike="noStrike">
                <a:solidFill>
                  <a:srgbClr val="003399"/>
                </a:solidFill>
                <a:latin typeface="Trebuchet MS"/>
              </a:rPr>
              <a:t>Yo dec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7520" y="1854360"/>
            <a:ext cx="4292640" cy="4292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854360"/>
            <a:ext cx="0" cy="429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87520" y="3962520"/>
            <a:ext cx="4292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2720" y="30456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iderazgo eficaz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47" name=""/>
          <p:cNvSpPr/>
          <p:nvPr/>
        </p:nvSpPr>
        <p:spPr>
          <a:xfrm>
            <a:off x="618480" y="370512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rebuchet MS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41360" y="4205160"/>
            <a:ext cx="2011320" cy="427320"/>
            <a:chOff x="441360" y="4205160"/>
            <a:chExt cx="2011320" cy="427320"/>
          </a:xfrm>
        </p:grpSpPr>
        <p:grpSp>
          <p:nvGrpSpPr>
            <p:cNvPr id="49" name=""/>
            <p:cNvGrpSpPr/>
            <p:nvPr/>
          </p:nvGrpSpPr>
          <p:grpSpPr>
            <a:xfrm>
              <a:off x="441360" y="4205160"/>
              <a:ext cx="426960" cy="427320"/>
              <a:chOff x="441360" y="4205160"/>
              <a:chExt cx="426960" cy="427320"/>
            </a:xfrm>
          </p:grpSpPr>
          <p:sp>
            <p:nvSpPr>
              <p:cNvPr id="50" name=""/>
              <p:cNvSpPr/>
              <p:nvPr/>
            </p:nvSpPr>
            <p:spPr>
              <a:xfrm>
                <a:off x="44136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94280" y="4268880"/>
                <a:ext cx="2923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025720" y="4205160"/>
              <a:ext cx="426960" cy="427320"/>
              <a:chOff x="2025720" y="4205160"/>
              <a:chExt cx="426960" cy="427320"/>
            </a:xfrm>
          </p:grpSpPr>
          <p:sp>
            <p:nvSpPr>
              <p:cNvPr id="53" name=""/>
              <p:cNvSpPr/>
              <p:nvPr/>
            </p:nvSpPr>
            <p:spPr>
              <a:xfrm>
                <a:off x="2025720" y="4205160"/>
                <a:ext cx="426960" cy="427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081880" y="4268880"/>
                <a:ext cx="2880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s-CL" sz="1800" spc="-1" strike="noStrike">
                    <a:solidFill>
                      <a:srgbClr val="003399"/>
                    </a:solidFill>
                    <a:latin typeface="Trebuchet MS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971640" y="4419720"/>
              <a:ext cx="95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67360" y="1382760"/>
            <a:ext cx="2549520" cy="3943800"/>
            <a:chOff x="5967360" y="1382760"/>
            <a:chExt cx="2549520" cy="3943800"/>
          </a:xfrm>
        </p:grpSpPr>
        <p:sp>
          <p:nvSpPr>
            <p:cNvPr id="57" name=""/>
            <p:cNvSpPr/>
            <p:nvPr/>
          </p:nvSpPr>
          <p:spPr>
            <a:xfrm>
              <a:off x="7130160" y="1382760"/>
              <a:ext cx="7563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23880" y="5040360"/>
              <a:ext cx="97128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INEFICA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967360" y="1671480"/>
              <a:ext cx="2549520" cy="3302280"/>
              <a:chOff x="5967360" y="1671480"/>
              <a:chExt cx="2549520" cy="3302280"/>
            </a:xfrm>
          </p:grpSpPr>
          <p:sp>
            <p:nvSpPr>
              <p:cNvPr id="60" name=""/>
              <p:cNvSpPr/>
              <p:nvPr/>
            </p:nvSpPr>
            <p:spPr>
              <a:xfrm rot="16200000">
                <a:off x="5540400" y="2201400"/>
                <a:ext cx="3095640" cy="2241720"/>
              </a:xfrm>
              <a:prstGeom prst="triangle">
                <a:avLst>
                  <a:gd name="adj" fmla="val 50625"/>
                </a:avLst>
              </a:prstGeom>
              <a:solidFill>
                <a:srgbClr val="bbe0e3"/>
              </a:solidFill>
              <a:ln w="1260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17000" y="1671480"/>
                <a:ext cx="0" cy="330228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2200" y="18302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2200" y="4876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53360" y="20844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63080" y="23385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53360" y="25909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2200" y="284472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53360" y="30988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53360" y="335268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53360" y="360684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63080" y="386064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360" y="4114800"/>
                <a:ext cx="25416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63080" y="43689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63080" y="4622760"/>
                <a:ext cx="253800" cy="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806880" y="2967120"/>
              <a:ext cx="148968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ACTITUD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COMPROMI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s-CL" sz="1400" spc="-1" strike="noStrike">
                  <a:solidFill>
                    <a:srgbClr val="003399"/>
                  </a:solidFill>
                  <a:latin typeface="Trebuchet MS"/>
                </a:rPr>
                <a:t>SENT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753000" y="2525760"/>
            <a:ext cx="1128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7240" y="6183360"/>
            <a:ext cx="10400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17760" y="2814480"/>
            <a:ext cx="3095640" cy="3302280"/>
            <a:chOff x="2417760" y="2814480"/>
            <a:chExt cx="3095640" cy="3302280"/>
          </a:xfrm>
        </p:grpSpPr>
        <p:sp>
          <p:nvSpPr>
            <p:cNvPr id="79" name=""/>
            <p:cNvSpPr/>
            <p:nvPr/>
          </p:nvSpPr>
          <p:spPr>
            <a:xfrm rot="16200000">
              <a:off x="2844000" y="2916720"/>
              <a:ext cx="2243160" cy="3095640"/>
            </a:xfrm>
            <a:prstGeom prst="triangle">
              <a:avLst>
                <a:gd name="adj" fmla="val 50625"/>
              </a:avLst>
            </a:prstGeom>
            <a:solidFill>
              <a:srgbClr val="bbe0e3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92560" y="2814480"/>
              <a:ext cx="0" cy="330228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18120" y="29732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18120" y="60199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9280" y="32274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34815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29280" y="373392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18120" y="398772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29280" y="42418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29280" y="449568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29280" y="474984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138640" y="500364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9280" y="5257800"/>
              <a:ext cx="25380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38640" y="55119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8640" y="5765760"/>
              <a:ext cx="2541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89680" y="4110120"/>
            <a:ext cx="189648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003399"/>
                </a:solidFill>
                <a:latin typeface="Trebuchet MS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Un líder tiene tres opciones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7720" y="2057400"/>
            <a:ext cx="764064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Utilizar el estilo requerido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excesiva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-4572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Supervisar insuficientemente.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excesiva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4880" y="1925280"/>
            <a:ext cx="6985080" cy="41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Participación disminuid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autonomía en el desempeño</a:t>
            </a:r>
            <a:endParaRPr b="0" lang="en-US" sz="28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nsecuencias de l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upervisión insufic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Trebuchet MS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0280" y="43920"/>
            <a:ext cx="9118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187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   </a:t>
            </a: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6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0640" y="115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El Proceso de administración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del desempeñ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1000" y="206064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1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Planific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2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Asesoría día a día utilizando el estilo de liderazgo acordad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  <a:p>
            <a:pPr marL="4064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3.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Evaluación del desempeño.</a:t>
            </a:r>
            <a:endParaRPr b="0" lang="en-US" sz="3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9118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1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Enseñe a sus colaboradores el modelo del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Liderazgo Situacional II (SLII®)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2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Identifique las áreas claves de responsabilidad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3. 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Defina las metas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  <p:sp>
        <p:nvSpPr>
          <p:cNvPr id="192" name=""/>
          <p:cNvSpPr/>
          <p:nvPr/>
        </p:nvSpPr>
        <p:spPr>
          <a:xfrm>
            <a:off x="3174480" y="342900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53316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Alianza para el desempeño/Acuerdo</a:t>
            </a:r>
            <a:br>
              <a:rPr sz="2600"/>
            </a:br>
            <a:r>
              <a:rPr b="1" lang="es-CL" sz="2600" spc="-1" strike="noStrike">
                <a:solidFill>
                  <a:srgbClr val="003399"/>
                </a:solidFill>
                <a:latin typeface="Trebuchet MS"/>
              </a:rPr>
              <a:t>sobre el estilo de liderazgo</a:t>
            </a:r>
            <a:endParaRPr b="0" lang="en-US" sz="2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4. Evalúe el nivel de desarrollo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34308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99"/>
                </a:solidFill>
                <a:latin typeface="Trebuchet MS"/>
              </a:rPr>
              <a:t>Lo importante como líder no es lo que sucede cuando usted está supervisando; es lo que sucede cuando usted no está presente.</a:t>
            </a:r>
            <a:endParaRPr b="0" lang="en-US" sz="40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Creencias y valor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acerca de las personas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ueden y quieren desarrollarse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a alianz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personas prosperan mediante la participación y la comunic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41400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3399"/>
                </a:solidFill>
                <a:latin typeface="Trebuchet MS"/>
              </a:rPr>
              <a:t>Liderazgo</a:t>
            </a:r>
            <a:br>
              <a:rPr sz="3000"/>
            </a:br>
            <a:endParaRPr b="0" lang="en-US" sz="46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l liderazgo es un proceso de influencia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Es trabajar con los colaboradores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para alcanzar sus metas personales y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 algn="ctr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las metas de la organización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tres habilidades de 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un líder situacional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Diagnosticar: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 determinar las necesidades de desarroll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Flexibilidad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utilizar una variedad de estilos de liderazgo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Trebuchet MS"/>
              </a:rPr>
              <a:t>Alianza para el desempeño/Acuerdo sobre el estilo de liderazgo</a:t>
            </a:r>
            <a:r>
              <a:rPr b="0" lang="es-CL" sz="2400" spc="-1" strike="noStrike">
                <a:solidFill>
                  <a:srgbClr val="003399"/>
                </a:solidFill>
                <a:latin typeface="Trebuchet MS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2760" y="269640"/>
            <a:ext cx="778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Las cuatro funciones</a:t>
            </a:r>
            <a:br>
              <a:rPr sz="3000"/>
            </a:br>
            <a:r>
              <a:rPr b="0" lang="es-CL" sz="3000" spc="-1" strike="noStrike">
                <a:solidFill>
                  <a:srgbClr val="003399"/>
                </a:solidFill>
                <a:latin typeface="Trebuchet MS"/>
              </a:rPr>
              <a:t>del liderazgo</a:t>
            </a:r>
            <a:endParaRPr b="0" lang="en-US" sz="3000" spc="-1" strike="noStrike">
              <a:solidFill>
                <a:srgbClr val="808080"/>
              </a:solidFill>
              <a:latin typeface="Unit-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47640" y="1773360"/>
            <a:ext cx="65865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1. Fijar met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2. Retroalimentar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3. Solucionar problemas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  <a:p>
            <a:pPr marL="285840" indent="0">
              <a:lnSpc>
                <a:spcPts val="4799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Trebuchet MS"/>
              </a:rPr>
              <a:t>4. Proporcionar reconocimiento.</a:t>
            </a:r>
            <a:endParaRPr b="0" lang="en-US" sz="3200" spc="-1" strike="noStrike">
              <a:solidFill>
                <a:srgbClr val="808080"/>
              </a:solidFill>
              <a:latin typeface="Unit-Light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3399"/>
                </a:solidFill>
                <a:latin typeface="Trebuchet MS"/>
              </a:rPr>
              <a:t>Diagnostic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4130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3399"/>
                </a:solidFill>
                <a:latin typeface="Trebuchet MS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10-14T01:16:46Z</dcterms:modified>
  <cp:revision>35</cp:revision>
  <dc:subject/>
  <dc:title>Título </dc:title>
</cp:coreProperties>
</file>