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900-E212-4C58-A5C9-F392E81A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FA7-2B8B-4383-AF48-4C612E6D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FB2-8861-40D8-ABD3-6355729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95A-D671-4AA7-8465-9E221D18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B09-C11E-40BC-A24E-CDB49E26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83F-12C8-40F5-8D5B-9D95E41E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E62-F877-4CA8-A23A-3548571F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E7B-235C-4C0D-89E1-C7D4C33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47C-1D98-499F-A7AE-3A36C0F9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4EB-A885-4B6E-B398-5BC1EE2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2EA-D04A-48EA-8B8A-FB83CDBE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D28-E65A-4ECE-A6EC-6686503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F12-37DF-4217-81FB-C319963F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 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4T01:16:46Z</dcterms:modified>
  <cp:revision>35</cp:revision>
  <dc:subject/>
  <dc:title>Título </dc:title>
</cp:coreProperties>
</file>