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4B3-0E75-4696-B833-822CD2F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752-53BF-485C-91F3-B086426D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ABE-59BC-455A-A362-69CFE863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BE8-AF56-4C17-AE45-BF09FB1A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7C9-6FAC-451B-91EB-2FC1F39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CB7-8396-4179-8E80-C512162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723-CC27-47FD-AE82-2F35D89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084-92BC-4EB2-A0B8-71185D77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E9D-F30E-427E-ABCF-C04212E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D0B-74DE-42AB-BE04-652D77E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84D-D414-479C-A884-D4738F4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7DF-2846-47C0-A512-719FE66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C92-1D40-42BD-B311-676DA8F5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8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8-10-05T16:53:39Z</dcterms:modified>
  <cp:revision>16</cp:revision>
  <dc:subject/>
  <dc:title>Diapositiva 1</dc:title>
</cp:coreProperties>
</file>