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103-E017-47F3-8696-ACD91E5C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95E-932F-412F-8A23-F4DB9E6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612-8755-4846-8C2E-DB1BBD13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84D-FE6E-49E8-8545-E9F14D82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6E2-FC9A-4D78-9783-738EE5E8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EB3-A798-4960-B487-A62C69DA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3AF-2160-42D2-B508-5D6FCD9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1F0-F958-4AF0-BB17-4FE16DD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D3D-44E2-451E-B799-5F9590F4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FD7-D278-4C07-8ED3-46E98C1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552-5057-4148-ABC8-9910B16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CA5-BC8B-4CA2-A454-BAC1398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E231-89E8-4330-95A1-6C56AEE36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8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8-10-05T16:53:39Z</dcterms:modified>
  <cp:revision>16</cp:revision>
  <dc:subject/>
  <dc:title>Diapositiva 1</dc:title>
</cp:coreProperties>
</file>