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0DD-E5D8-4777-B58F-57E7F4C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DFC-F793-4A66-B7A8-7EAEFE24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72C-5916-4AB4-8B3D-48500807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7AA-8260-4D11-99D1-01AEFF54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ACB-4896-4593-B682-1932A3A5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BE0-05E8-4B94-B136-B752B33E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20C-7931-4407-8428-C1AC3A43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56A-A5FE-43D7-B3EA-16DA4BD3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CEA-77F6-4E58-A2EC-2C678B5A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D7F-A0AC-4A18-AACC-7E221F7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BCF-ECD0-4931-B116-7AD59DF1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0D1-BB2E-4A08-A7EE-DD7781F1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1C44-796A-4291-BF2D-3A276BDF0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8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8-10-05T16:53:39Z</dcterms:modified>
  <cp:revision>16</cp:revision>
  <dc:subject/>
  <dc:title>Diapositiva 1</dc:title>
</cp:coreProperties>
</file>