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32.wmf" ContentType="image/x-wmf"/>
  <Override PartName="/ppt/media/image15.png" ContentType="image/png"/>
  <Override PartName="/ppt/media/image3.jpeg" ContentType="image/jpeg"/>
  <Override PartName="/ppt/media/image30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1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18.png" ContentType="image/png"/>
  <Override PartName="/ppt/media/image6.jpeg" ContentType="image/jpeg"/>
  <Override PartName="/ppt/media/image21.wmf" ContentType="image/x-wmf"/>
  <Override PartName="/ppt/media/image9.png" ContentType="image/png"/>
  <Override PartName="/ppt/media/image22.jpeg" ContentType="image/jpeg"/>
  <Override PartName="/ppt/media/image23.png" ContentType="image/png"/>
  <Override PartName="/ppt/media/image25.png" ContentType="image/png"/>
  <Override PartName="/ppt/media/image26.png" ContentType="image/png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A9A4-4851-428A-89F9-2F5A4B6A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4853-4F00-4BED-A5C4-2B16B872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6B4D-C5C1-443A-AD90-E036F3E1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2E30-4D64-420E-B1C5-3BEA01D9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1121-3E1D-4CF5-B205-98270EED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C32E-19CE-4E1D-AFDE-BF7B7814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0D06-2A41-4CE3-AFD1-6FE60D85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25A2-F0B5-48F0-880C-5D08AAAC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320F-5ACD-43B1-9F60-54E93C2E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CB94-F36D-4310-9A66-C7A498D1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40EA-064D-4FA7-B1BE-063669BE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3EF3-F02A-48F4-90AB-B324118A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61E7-2575-4B0B-8A5B-671BAF4C3D4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falabella.cl/" TargetMode="External"/><Relationship Id="rId8" Type="http://schemas.openxmlformats.org/officeDocument/2006/relationships/image" Target="../media/image14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amazon.com/" TargetMode="External"/><Relationship Id="rId11" Type="http://schemas.openxmlformats.org/officeDocument/2006/relationships/image" Target="../media/image15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ge.com/en/citizenship/index_c_flash.htm" TargetMode="External"/><Relationship Id="rId8" Type="http://schemas.openxmlformats.org/officeDocument/2006/relationships/image" Target="../media/image16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2.coca-cola.com/" TargetMode="External"/><Relationship Id="rId11" Type="http://schemas.openxmlformats.org/officeDocument/2006/relationships/image" Target="../media/image17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8.pn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rollingstone.com/" TargetMode="External"/><Relationship Id="rId8" Type="http://schemas.openxmlformats.org/officeDocument/2006/relationships/image" Target="../media/image19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mtv.com/" TargetMode="External"/><Relationship Id="rId11" Type="http://schemas.openxmlformats.org/officeDocument/2006/relationships/image" Target="../media/image20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2.jpeg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8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9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0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mallplaza.cl/" TargetMode="External"/><Relationship Id="rId8" Type="http://schemas.openxmlformats.org/officeDocument/2006/relationships/image" Target="../media/image31.png"/><Relationship Id="rId9" Type="http://schemas.openxmlformats.org/officeDocument/2006/relationships/package" Target="../embeddings/oleObject2.xlsx"/><Relationship Id="rId10" Type="http://schemas.openxmlformats.org/officeDocument/2006/relationships/image" Target="../media/image32.wmf"/><Relationship Id="rId11" Type="http://schemas.openxmlformats.org/officeDocument/2006/relationships/image" Target="../media/image27.wmf"/><Relationship Id="rId1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conchaytoro.cl/home.html" TargetMode="External"/><Relationship Id="rId8" Type="http://schemas.openxmlformats.org/officeDocument/2006/relationships/image" Target="../media/image8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cocacola.cl/" TargetMode="External"/><Relationship Id="rId11" Type="http://schemas.openxmlformats.org/officeDocument/2006/relationships/image" Target="../media/image9.png"/><Relationship Id="rId12" Type="http://schemas.openxmlformats.org/officeDocument/2006/relationships/hyperlink" Target="http://www.apple.com/la" TargetMode="External"/><Relationship Id="rId13" Type="http://schemas.openxmlformats.org/officeDocument/2006/relationships/image" Target="../media/image10.jpe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elmercurio.cl/" TargetMode="External"/><Relationship Id="rId8" Type="http://schemas.openxmlformats.org/officeDocument/2006/relationships/image" Target="../media/image11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dhl.cl/" TargetMode="External"/><Relationship Id="rId11" Type="http://schemas.openxmlformats.org/officeDocument/2006/relationships/image" Target="../media/image12.png"/><Relationship Id="rId12" Type="http://schemas.openxmlformats.org/officeDocument/2006/relationships/oleObject" Target="../embeddings/oleObject3.bin"/><Relationship Id="rId13" Type="http://schemas.openxmlformats.org/officeDocument/2006/relationships/hyperlink" Target="http://www.tramitefacil.cl/" TargetMode="External"/><Relationship Id="rId14" Type="http://schemas.openxmlformats.org/officeDocument/2006/relationships/image" Target="../media/image13.png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ACCION DE MARKETING</a:t>
            </a:r>
            <a:br>
              <a:rPr sz="3600"/>
            </a:br>
            <a:br>
              <a:rPr sz="3600"/>
            </a:b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“ANALISIS DE UN SITIO WEB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076640"/>
            <a:ext cx="813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María José Chu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Gary Condori 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Patricio Riquelme Card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58800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380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world-wide-web"/>
          <p:cNvPicPr/>
          <p:nvPr/>
        </p:nvPicPr>
        <p:blipFill>
          <a:blip r:embed="rId5"/>
          <a:stretch/>
        </p:blipFill>
        <p:spPr>
          <a:xfrm>
            <a:off x="8172360" y="587700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00000" y="1628640"/>
            <a:ext cx="727236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comercio electrón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n como objetivo la venta de productos a través de int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ca importancia a la empresa, centrado en las características del produ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aracterísticas: catalogo de productos, carrito de compras y facilidad para el medio de pa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124000" y="4724280"/>
          <a:ext cx="520920" cy="71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4724280"/>
                    <a:ext cx="520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995640" y="4869000"/>
          <a:ext cx="1728720" cy="3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95640" y="4869000"/>
                    <a:ext cx="17287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0000" y="1628640"/>
            <a:ext cx="7272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imagen corpor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dicados al reforzamiento de la mar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sicionar marca y llegar con un mensaje al consumi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24360" y="4005360"/>
          <a:ext cx="758880" cy="1225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4005360"/>
                    <a:ext cx="75888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580000" y="4437000"/>
          <a:ext cx="3086280" cy="59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1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80000" y="4437000"/>
                    <a:ext cx="308628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476360" y="4005360"/>
          <a:ext cx="920880" cy="934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76360" y="4005360"/>
                    <a:ext cx="9208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14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00000" y="1628640"/>
            <a:ext cx="727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entreten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con el proposito de entregar entretenimiento a sus visi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87280" y="3573360"/>
          <a:ext cx="2519640" cy="70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2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3573360"/>
                    <a:ext cx="251964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724360" y="3716280"/>
          <a:ext cx="1368720" cy="97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24360" y="3716280"/>
                    <a:ext cx="136872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3. EVALUACIÓ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2987640" y="1916280"/>
            <a:ext cx="30243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3. EVALUACIÓ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1484280"/>
            <a:ext cx="7416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evaluación de un sitio web se hace mediante diferentes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dise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1197000"/>
            <a:ext cx="74170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e realiza para verificar la veracidad y relevancia de los datos contenidos en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se hace con el método de las 5 Ws que se refiere a preguntas acerc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ién es responsable de esta págin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é tipo de página 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ándo el sitio fue creado / actualiza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Dónde puedes encontrar más inform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Por qué este sitio fue cread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1197000"/>
            <a:ext cx="74170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e realiza para verificar la veracidad y relevancia de los datos contenidos en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se hace con el método de las 5 Ws que se refiere a preguntas acerc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ién es responsable de esta págin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é tipo de página 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ándo el sitio fue creado / actualiza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Dónde puedes encontrar más inform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Por qué este sitio fue cread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1197000"/>
            <a:ext cx="741708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usabilidad es la forma de diseñar un sitio web, con el fin de que  los usuarios puedan interactuar de la manera más fácil, comoda e intu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desarrollo y diseño  de un sitio web debe estar centrado en el usuario o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2268360" y="4005360"/>
            <a:ext cx="4019760" cy="1476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1700280"/>
            <a:ext cx="7417080" cy="43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será “usable” si es que permite al usuario centrarse en su tarea y no en como funciona el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evaluación de la usabilidad de un sitio web, se hace de acuerdo a una serie de criterios, que están agrupados en categor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170028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uales son los objetivos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finir una URL clara y definida al igual que sus subdomin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iseño del sitio orientado al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mpo de actualización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sistencia entre su apariencia y funcio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407664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3640" cy="80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308720" y="580536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1480" y="1844640"/>
            <a:ext cx="86425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TIPOS DE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ANALISIS DE UN SITIO  WE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ANALISIS PRACTICO DE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CONCLUSIONES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170028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dentidad (Branding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ostrar la naturaleza o identidad del negocio en la página de bienvenida (home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ementos de la marca (logo) o de imagen corporativa en todas las pági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marca tiene un lugar importante en el diseño de la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170028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enguaje y redac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tiene que estar escrito en un lenguaje conocido por la mayoría de los 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frecer versiones en diferentes idio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enguaje claro, conciso, am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00000" y="1484280"/>
            <a:ext cx="7417080" cy="68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structura y nave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po de estructur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Árbol                     Lista                            Mixta                       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Regla de oro </a:t>
            </a:r>
            <a:r>
              <a:rPr b="0" i="1" lang="es-BO" sz="2200" spc="-1" strike="noStrike">
                <a:solidFill>
                  <a:srgbClr val="000000"/>
                </a:solidFill>
                <a:latin typeface="Arial"/>
              </a:rPr>
              <a:t>“Usuario debe llegar con 4 clics a lo que busc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1042920" y="2852640"/>
            <a:ext cx="1076400" cy="11908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2700360" y="3213000"/>
            <a:ext cx="1828800" cy="457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5219640" y="2708280"/>
            <a:ext cx="1343160" cy="1143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7164360" y="2637000"/>
            <a:ext cx="1400040" cy="1143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1700280"/>
            <a:ext cx="7417080" cy="51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structura y nave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Recomendable tener un mapa del sit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los enlaces ro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ementos que indiquen al usuario donde esta y como volver atr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menús con muchos elementos (sobrecarga memorística, regla es 7+/- 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1700280"/>
            <a:ext cx="741708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 y retroaliment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ratar de que el usuario tenga el control del sit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nformar de que esta pasando o ya pa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reveer sistemas de respuesta en caso de interacción con el usuari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ar tiempo de respuesta (max 10 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sibilidad de que el usuario se ponga en contacto para sugerencias o recla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1197000"/>
            <a:ext cx="741708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 tecnologías o formatos escasamente populares aumentan las barreras de entrada y provoca que su sitio Web sea escasamente accesibl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00000" y="119700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¿Cómo ser accesibles para los usuario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ar siempre estándares de publ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itar formatos propie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usar características especificas de un navegador o platafor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ultar estadísticas de penet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creer que con invitaciones a utilizar determinado software se lograra el objetiv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119700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eficios de tener una política correcta de accesibil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menta nuestra audiencia poten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iza el tiempo de estancia de nuestros visitan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ifica la gestión y la mantencion del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menta el tiempo de vida del sitio Web y por tanto en dinero, recursos y tiem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00000" y="1197000"/>
            <a:ext cx="741708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contenido debe ser coherente c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bjetivos del sit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racterísticas de los visi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lidad de redac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rtograf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untu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i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00000" y="692280"/>
            <a:ext cx="741708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acción corta y precis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página, un obje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párrafo, una id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de Rotulado estánd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ión detallada y organiz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620800" y="2128680"/>
            <a:ext cx="390240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00000" y="692280"/>
            <a:ext cx="7417080" cy="39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icios de valor añadid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tor de búsqueda inter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ente de información detal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170028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isposición de los elemen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provechar zonas de alta jerarquía para información import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nterfaz limpia sin ruido visual, colocar zonas en “blanc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ar la longitud de la pági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áximo 3 col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00000" y="1484280"/>
            <a:ext cx="74170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Banners y public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ptimizar el tamaño de los ban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bicación de los ban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ptimizar las imágenes para reducir su tama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scripción de las imáge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sar animación en flash sólo si es neces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las animaciones cícl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4. 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203640" y="1916280"/>
            <a:ext cx="31687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4. 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220500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ara analizar un sitio web, se utiliza una encu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s preguntas están en función de las 5 dimensiones que se tomaron en cuenta en el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s preguntas son un resumen de las que consideramos las más importantes (para acortar la encues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6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24000" y="1268280"/>
          <a:ext cx="8496000" cy="448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4000" y="1268280"/>
                    <a:ext cx="849600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95280" y="1557360"/>
          <a:ext cx="8424720" cy="371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557360"/>
                    <a:ext cx="842472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2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68360" y="1413000"/>
          <a:ext cx="8351640" cy="3755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1413000"/>
                    <a:ext cx="835164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1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42920" y="1844640"/>
            <a:ext cx="6913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que se analizará e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www.mallplaza.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924360" y="3141720"/>
          <a:ext cx="1657440" cy="64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0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3141720"/>
                    <a:ext cx="16574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3419640" y="4221000"/>
          <a:ext cx="2736720" cy="3621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221000"/>
                    <a:ext cx="27367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3" name="" descr=""/>
          <p:cNvPicPr/>
          <p:nvPr/>
        </p:nvPicPr>
        <p:blipFill>
          <a:blip r:embed="rId11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42920" y="1413000"/>
            <a:ext cx="756144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no existe una metodología estándar para evaluar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calidad de un sitio están en función del evaluador y de su experi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con las 5 dimensiones, trata de hacer un resumen de los diferentes méto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o más importante es la parte de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debe estar alineado con la estrategia de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2205000"/>
            <a:ext cx="806436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a página web es un documento que se encuentra en la World Wide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iene información (texto, imágenes y enlaces a otras págin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79280" y="5661000"/>
            <a:ext cx="151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55640" y="1989000"/>
            <a:ext cx="806436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es un conjunto de páginas web que estan interrelacion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esta asociado a un dominio o subdominio  de internet y a una UR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179280" y="5661000"/>
            <a:ext cx="151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44364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7308720" y="5877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world-wide-web"/>
          <p:cNvPicPr/>
          <p:nvPr/>
        </p:nvPicPr>
        <p:blipFill>
          <a:blip r:embed="rId5"/>
          <a:stretch/>
        </p:blipFill>
        <p:spPr>
          <a:xfrm>
            <a:off x="8101080" y="58784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2556000" y="2060640"/>
            <a:ext cx="42480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44364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308720" y="5877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world-wide-web"/>
          <p:cNvPicPr/>
          <p:nvPr/>
        </p:nvPicPr>
        <p:blipFill>
          <a:blip r:embed="rId5"/>
          <a:stretch/>
        </p:blipFill>
        <p:spPr>
          <a:xfrm>
            <a:off x="8101080" y="587844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2205000"/>
            <a:ext cx="7632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xisten 5 diferentes  tipos o géneros de sitios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ada tipo de sitio esta especializado en un uso particular y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definir el genero de un sitio web esta en función de las aspiraciones de una empresa, que pueden ir desde sólo tener presencia en internet hasta el e-comme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0000" y="1557360"/>
            <a:ext cx="777564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 de nego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 como objetivo el dar a conocer a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romover sus productos y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rientados a la mercadotec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ntregar información relevante de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116000" y="4437000"/>
          <a:ext cx="2592360" cy="560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6000" y="4437000"/>
                    <a:ext cx="25923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5940360" y="4221000"/>
          <a:ext cx="2476440" cy="83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5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40360" y="4221000"/>
                    <a:ext cx="24764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27640" y="4292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42920" y="1557360"/>
            <a:ext cx="72723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servi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n como fin ofrecer un servicio a sus clientes, proveedores y socios comer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sultas a bases de datos, seguimiento, noticias, información financi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ntrega servicios complemen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58920" y="4869000"/>
          <a:ext cx="2592360" cy="271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4869000"/>
                    <a:ext cx="259236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067280" y="4797360"/>
          <a:ext cx="1400040" cy="40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67280" y="4797360"/>
                    <a:ext cx="14000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227640" y="4437000"/>
          <a:ext cx="2376720" cy="838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9" name="" descr="">
                    <a:hlinkClick r:id="rId13"/>
                  </p:cNvPr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27640" y="4437000"/>
                    <a:ext cx="23767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15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02:16:34Z</dcterms:created>
  <dc:creator>Gary Condori Arce</dc:creator>
  <dc:description/>
  <dc:language>en-US</dc:language>
  <cp:lastModifiedBy>Jorge Lara</cp:lastModifiedBy>
  <dcterms:modified xsi:type="dcterms:W3CDTF">2006-11-03T19:19:38Z</dcterms:modified>
  <cp:revision>15</cp:revision>
  <dc:subject/>
  <dc:title>ACCION DE MARKETING  “ANALISIS DE UN SITIO WEB”</dc:title>
</cp:coreProperties>
</file>