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9.png" ContentType="image/png"/>
  <Override PartName="/ppt/media/image22.jpeg" ContentType="image/jpeg"/>
  <Override PartName="/ppt/media/image23.png" ContentType="image/png"/>
  <Override PartName="/ppt/media/image25.png" ContentType="image/png"/>
  <Override PartName="/ppt/media/image26.png" ContentType="image/png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5FA-97C0-4BB8-AD35-1E593A14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156-0887-4A59-B734-B124D843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926-8E29-41E3-9F95-71EE5D59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9028-A1B0-46CA-BDCC-907B0B0A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41F-88AD-414F-B580-47EF4FAA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1C36-ADA4-436D-8DCD-43655A15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80D-A711-4CDE-8320-0718C579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01D-028E-4828-9E10-3B19913E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D5B-BE5D-4722-94EA-D0074918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15E-C5B7-4FBA-9E40-D66E45C9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FA4-3610-45DF-81E1-862D2615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A18-C4C2-4CA0-96AA-BA90F8D7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C22E-1AFE-4243-82C3-D0A1B931A5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falabella.cl/" TargetMode="External"/><Relationship Id="rId8" Type="http://schemas.openxmlformats.org/officeDocument/2006/relationships/image" Target="../media/image14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amazon.com/" TargetMode="External"/><Relationship Id="rId11" Type="http://schemas.openxmlformats.org/officeDocument/2006/relationships/image" Target="../media/image15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ge.com/en/citizenship/index_c_flash.htm" TargetMode="External"/><Relationship Id="rId8" Type="http://schemas.openxmlformats.org/officeDocument/2006/relationships/image" Target="../media/image16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2.coca-cola.com/" TargetMode="External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pn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rollingstone.com/" TargetMode="External"/><Relationship Id="rId8" Type="http://schemas.openxmlformats.org/officeDocument/2006/relationships/image" Target="../media/image19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mtv.com/" TargetMode="External"/><Relationship Id="rId11" Type="http://schemas.openxmlformats.org/officeDocument/2006/relationships/image" Target="../media/image20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2.jpe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9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mallplaza.cl/" TargetMode="External"/><Relationship Id="rId8" Type="http://schemas.openxmlformats.org/officeDocument/2006/relationships/image" Target="../media/image31.png"/><Relationship Id="rId9" Type="http://schemas.openxmlformats.org/officeDocument/2006/relationships/package" Target="../embeddings/oleObject2.xlsx"/><Relationship Id="rId10" Type="http://schemas.openxmlformats.org/officeDocument/2006/relationships/image" Target="../media/image32.wmf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conchaytoro.cl/home.html" TargetMode="External"/><Relationship Id="rId8" Type="http://schemas.openxmlformats.org/officeDocument/2006/relationships/image" Target="../media/image8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cocacola.cl/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www.apple.com/la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elmercurio.cl/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dhl.cl/" TargetMode="External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3.bin"/><Relationship Id="rId13" Type="http://schemas.openxmlformats.org/officeDocument/2006/relationships/hyperlink" Target="http://www.tramitefacil.cl/" TargetMode="External"/><Relationship Id="rId14" Type="http://schemas.openxmlformats.org/officeDocument/2006/relationships/image" Target="../media/image13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ACCION DE MARKETING</a:t>
            </a:r>
            <a:br>
              <a:rPr sz="3600"/>
            </a:br>
            <a:br>
              <a:rPr sz="3600"/>
            </a:b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“ANALISIS DE UN SITIO WEB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07664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María José Chu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Gary Condori 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Patricio Riquelme Car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8800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380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world-wide-web"/>
          <p:cNvPicPr/>
          <p:nvPr/>
        </p:nvPicPr>
        <p:blipFill>
          <a:blip r:embed="rId5"/>
          <a:stretch/>
        </p:blipFill>
        <p:spPr>
          <a:xfrm>
            <a:off x="8172360" y="5877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1628640"/>
            <a:ext cx="72723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comercio electró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objetivo la venta de productos a través de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ca importancia a la empresa, centrado en las características del 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racterísticas: catalogo de productos, carrito de compras y facilidad para el medio de p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4724280"/>
          <a:ext cx="52092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724280"/>
                    <a:ext cx="520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95640" y="4869000"/>
          <a:ext cx="172872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4869000"/>
                    <a:ext cx="1728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628640"/>
            <a:ext cx="72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imagen corpo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dicados al reforzamiento de la mar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cionar marca y llegar con un mensaje al consumi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24360" y="4005360"/>
          <a:ext cx="758880" cy="122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4005360"/>
                    <a:ext cx="7588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80000" y="4437000"/>
          <a:ext cx="3086280" cy="59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4437000"/>
                    <a:ext cx="3086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76360" y="4005360"/>
          <a:ext cx="920880" cy="93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6360" y="4005360"/>
                    <a:ext cx="920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628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entre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con el proposito de entregar entretenimiento a su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3573360"/>
          <a:ext cx="2519640" cy="7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573360"/>
                    <a:ext cx="25196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24360" y="3716280"/>
          <a:ext cx="1368720" cy="97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24360" y="3716280"/>
                    <a:ext cx="136872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1916280"/>
            <a:ext cx="3024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484280"/>
            <a:ext cx="74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un sitio web se hace mediante diferentes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dis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197000"/>
            <a:ext cx="7417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usabilidad es la forma de diseñar un sitio web, con el fin de que  los usuarios puedan interactuar de la manera más fácil, comoda e intu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sarrollo y diseño  de un sitio web debe estar centrado en el usuario o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4019760" cy="1476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700280"/>
            <a:ext cx="741708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será “usable” si es que permite al usuario centrarse en su tarea y no en como funciona 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la usabilidad de un sitio web, se hace de acuerdo a una serie de criterios, que están agrupados en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uales son los objetivos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finir una URL clara y definida al igual que sus subdomin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eño del sitio orientado al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mpo de actualización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istencia entre su apariencia y fun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076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364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08720" y="5805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1480" y="1844640"/>
            <a:ext cx="8642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TIPOS DE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DE UN SITIO  W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PRACTICO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170028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dentidad (Brand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ostrar la naturaleza o identidad del negocio en la página de bienvenida (home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de la marca (logo) o de imagen corporativa en todas las pág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marca tiene un lugar importante en el diseño de la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y redac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tiene que estar escrito en un lenguaje conocido por la mayoría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frecer versiones en diferentes idi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claro, conciso, am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484280"/>
            <a:ext cx="7417080" cy="68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po de estruct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Árbol                     Lista                            Mixta                       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gla de oro </a:t>
            </a:r>
            <a:r>
              <a:rPr b="0" i="1" lang="es-BO" sz="2200" spc="-1" strike="noStrike">
                <a:solidFill>
                  <a:srgbClr val="000000"/>
                </a:solidFill>
                <a:latin typeface="Arial"/>
              </a:rPr>
              <a:t>“Usuario debe llegar con 4 clics a lo que bus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042920" y="2852640"/>
            <a:ext cx="1076400" cy="119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321300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5219640" y="2708280"/>
            <a:ext cx="134316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7164360" y="263700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700280"/>
            <a:ext cx="741708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comendable tener un mapa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os enlaces ro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que indiquen al usuario donde esta y como volver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menús con muchos elementos (sobrecarga memorística, regla es 7+/-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700280"/>
            <a:ext cx="7417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 y retroaliment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ratar de que el usuario tenga el control del sit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formar de que esta pasando o ya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eveer sistemas de respuesta en caso de interacción con el usuar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tiempo de respuesta (max 10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bilidad de que el usuario se ponga en contacto para sugerencias o recl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1197000"/>
            <a:ext cx="741708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tecnologías o formatos escasamente populares aumentan las barreras de entrada y provoca que su sitio Web sea escasamente accesib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119700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r accesibles para los usuari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r siempre estándares de publ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formatos propi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usar características especificas de un navegador o plata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r estadísticas de pene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reer que con invitaciones a utilizar determinado software se lograra el obje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19700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cios de tener una política correcta de accesibil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nuestra audiencia pote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iza el tiempo de estancia de nuestros visit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 la gestión y la mantencion d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el tiempo de vida del sitio Web y por tanto en dinero, recursos y ti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1197000"/>
            <a:ext cx="7417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contenido debe ser coherente 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bjetivos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acterísticas de lo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lidad de reda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unt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692280"/>
            <a:ext cx="74170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acción corta y preci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gina, u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rrafo, una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Rotulado está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tallada y organ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692280"/>
            <a:ext cx="741708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ios de valor añadi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or de búsqueda inte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ente de información detal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70028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posición de los ele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provechar zonas de alta jerarquía para información impor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terfaz limpia sin ruido visual, colocar zonas en “blanc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la longitud de la pág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áximo 3 col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00000" y="1484280"/>
            <a:ext cx="7417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Banners y publi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el tamaño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bicación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las imágenes para reducir su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scripción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sar animación en flash sól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as animaciones cíc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203640" y="1916280"/>
            <a:ext cx="3168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2050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ara analizar un sitio web, se utiliza una enc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están en función de las 5 dimensiones que se tomaron en cuenta en el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son un resumen de las que consideramos las más importantes (para acortar la encue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24000" y="1268280"/>
          <a:ext cx="8496000" cy="448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268280"/>
                    <a:ext cx="84960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95280" y="1557360"/>
          <a:ext cx="8424720" cy="371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557360"/>
                    <a:ext cx="84247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8360" y="1413000"/>
          <a:ext cx="8351640" cy="375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413000"/>
                    <a:ext cx="83516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1844640"/>
            <a:ext cx="6913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que se analizará 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www.mallplaza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24360" y="3141720"/>
          <a:ext cx="1657440" cy="64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0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3141720"/>
                    <a:ext cx="1657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419640" y="4221000"/>
          <a:ext cx="2736720" cy="362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221000"/>
                    <a:ext cx="27367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" descr=""/>
          <p:cNvPicPr/>
          <p:nvPr/>
        </p:nvPicPr>
        <p:blipFill>
          <a:blip r:embed="rId11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413000"/>
            <a:ext cx="75614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no existe una metodología estándar para evaluar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calidad de un sitio están en función del evaluador y de su exper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con las 5 dimensiones, trata de hacer un resumen de los diferente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o más importante es la parte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debe estar alineado con la estrategia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2205000"/>
            <a:ext cx="80643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a página web es un documento que se encuentra en la World Wid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iene información (texto, imágenes y enlaces a otras pági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989000"/>
            <a:ext cx="806436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 un conjunto de páginas web que estan interrelacio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ta asociado a un dominio o subdominio  de internet y a una U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556000" y="2060640"/>
            <a:ext cx="4248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205000"/>
            <a:ext cx="763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xisten 5 diferentes  tipos o géneros de sitio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da tipo de sitio esta especializado en un uso particular y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finir el genero de un sitio web esta en función de las aspiraciones de una empresa, que pueden ir desde sólo tener presencia en internet hasta el e-comme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1557360"/>
            <a:ext cx="777564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 de neg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 como objetivo el dar a conocer 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omover sus productos y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rientados a la mercadotec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r información relevante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4437000"/>
          <a:ext cx="2592360" cy="56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4437000"/>
                    <a:ext cx="2592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940360" y="4221000"/>
          <a:ext cx="247644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4221000"/>
                    <a:ext cx="2476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29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42920" y="1557360"/>
            <a:ext cx="72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fin ofrecer un servicio a sus clientes, proveedores y socios come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ultas a bases de datos, seguimiento, noticias, información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 servicios complemen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4869000"/>
          <a:ext cx="2592360" cy="27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869000"/>
                    <a:ext cx="259236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067280" y="4797360"/>
          <a:ext cx="140004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7280" y="4797360"/>
                    <a:ext cx="1400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27640" y="4437000"/>
          <a:ext cx="237672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" descr="">
                    <a:hlinkClick r:id="rId13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437000"/>
                    <a:ext cx="2376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2:16:34Z</dcterms:created>
  <dc:creator>Gary Condori Arce</dc:creator>
  <dc:description/>
  <dc:language>en-US</dc:language>
  <cp:lastModifiedBy>Jorge Lara</cp:lastModifiedBy>
  <dcterms:modified xsi:type="dcterms:W3CDTF">2006-11-03T19:19:38Z</dcterms:modified>
  <cp:revision>15</cp:revision>
  <dc:subject/>
  <dc:title>ACCION DE MARKETING  “ANALISIS DE UN SITIO WEB”</dc:title>
</cp:coreProperties>
</file>