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2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21.wmf" ContentType="image/x-wmf"/>
  <Override PartName="/ppt/media/image9.png" ContentType="image/png"/>
  <Override PartName="/ppt/media/image22.jpeg" ContentType="image/jpeg"/>
  <Override PartName="/ppt/media/image23.png" ContentType="image/png"/>
  <Override PartName="/ppt/media/image25.png" ContentType="image/png"/>
  <Override PartName="/ppt/media/image26.png" ContentType="image/png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F6B0-7C70-44D8-BC87-07A6FD0B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2A27-BC3E-448C-829E-E2209CE0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623-F85A-4B46-B5C0-2389AB94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AAC-1E95-4CC8-95C9-07721503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EF4-0E37-43B5-9538-2E65D8B0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E6A-639B-4EDD-B1CF-DF22FFEF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96F-8AB2-4B16-BB37-04E80D14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66C-1F90-4056-85EA-D9C27E1D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BA2-5B52-4238-BAB1-B33D90ED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496-3908-40A9-8C72-2C3E0F2D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3B3-CF3D-4E48-8975-BD7AA66E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B21-CC3C-41B5-BD2F-F1E2E7F0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6F5C-019B-445E-B996-F3C4AB13942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falabella.cl/" TargetMode="External"/><Relationship Id="rId8" Type="http://schemas.openxmlformats.org/officeDocument/2006/relationships/image" Target="../media/image14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amazon.com/" TargetMode="External"/><Relationship Id="rId11" Type="http://schemas.openxmlformats.org/officeDocument/2006/relationships/image" Target="../media/image15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ge.com/en/citizenship/index_c_flash.htm" TargetMode="External"/><Relationship Id="rId8" Type="http://schemas.openxmlformats.org/officeDocument/2006/relationships/image" Target="../media/image16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2.coca-cola.com/" TargetMode="External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.pn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rollingstone.com/" TargetMode="External"/><Relationship Id="rId8" Type="http://schemas.openxmlformats.org/officeDocument/2006/relationships/image" Target="../media/image19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mtv.com/" TargetMode="External"/><Relationship Id="rId11" Type="http://schemas.openxmlformats.org/officeDocument/2006/relationships/image" Target="../media/image20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2.jpe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8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9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0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mallplaza.cl/" TargetMode="External"/><Relationship Id="rId8" Type="http://schemas.openxmlformats.org/officeDocument/2006/relationships/image" Target="../media/image31.png"/><Relationship Id="rId9" Type="http://schemas.openxmlformats.org/officeDocument/2006/relationships/package" Target="../embeddings/oleObject2.xlsx"/><Relationship Id="rId10" Type="http://schemas.openxmlformats.org/officeDocument/2006/relationships/image" Target="../media/image32.wmf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conchaytoro.cl/home.html" TargetMode="External"/><Relationship Id="rId8" Type="http://schemas.openxmlformats.org/officeDocument/2006/relationships/image" Target="../media/image8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cocacola.cl/" TargetMode="External"/><Relationship Id="rId11" Type="http://schemas.openxmlformats.org/officeDocument/2006/relationships/image" Target="../media/image9.png"/><Relationship Id="rId12" Type="http://schemas.openxmlformats.org/officeDocument/2006/relationships/hyperlink" Target="http://www.apple.com/la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elmercurio.cl/" TargetMode="External"/><Relationship Id="rId8" Type="http://schemas.openxmlformats.org/officeDocument/2006/relationships/image" Target="../media/image11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dhl.cl/" TargetMode="External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3.bin"/><Relationship Id="rId13" Type="http://schemas.openxmlformats.org/officeDocument/2006/relationships/hyperlink" Target="http://www.tramitefacil.cl/" TargetMode="External"/><Relationship Id="rId14" Type="http://schemas.openxmlformats.org/officeDocument/2006/relationships/image" Target="../media/image13.pn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ACCION DE MARKETING</a:t>
            </a:r>
            <a:br>
              <a:rPr sz="3600"/>
            </a:br>
            <a:br>
              <a:rPr sz="3600"/>
            </a:b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“ANALISIS DE UN SITIO WEB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076640"/>
            <a:ext cx="813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María José Chu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Gary Condori 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Patricio Riquelme Card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8800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380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world-wide-web"/>
          <p:cNvPicPr/>
          <p:nvPr/>
        </p:nvPicPr>
        <p:blipFill>
          <a:blip r:embed="rId5"/>
          <a:stretch/>
        </p:blipFill>
        <p:spPr>
          <a:xfrm>
            <a:off x="8172360" y="5877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1628640"/>
            <a:ext cx="727236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comercio electró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objetivo la venta de productos a través de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ca importancia a la empresa, centrado en las características del produ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racterísticas: catalogo de productos, carrito de compras y facilidad para el medio de pa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4724280"/>
          <a:ext cx="52092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4724280"/>
                    <a:ext cx="520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95640" y="4869000"/>
          <a:ext cx="172872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5640" y="4869000"/>
                    <a:ext cx="17287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1628640"/>
            <a:ext cx="72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imagen corpo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dicados al reforzamiento de la mar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cionar marca y llegar con un mensaje al consumi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24360" y="4005360"/>
          <a:ext cx="758880" cy="1225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4005360"/>
                    <a:ext cx="7588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80000" y="4437000"/>
          <a:ext cx="3086280" cy="59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0000" y="4437000"/>
                    <a:ext cx="30862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476360" y="4005360"/>
          <a:ext cx="920880" cy="93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76360" y="4005360"/>
                    <a:ext cx="9208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1628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entreten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con el proposito de entregar entretenimiento a su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3573360"/>
          <a:ext cx="2519640" cy="70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573360"/>
                    <a:ext cx="25196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24360" y="3716280"/>
          <a:ext cx="1368720" cy="97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24360" y="3716280"/>
                    <a:ext cx="136872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987640" y="1916280"/>
            <a:ext cx="30243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1484280"/>
            <a:ext cx="7416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un sitio web se hace mediante diferentes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dise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197000"/>
            <a:ext cx="74170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usabilidad es la forma de diseñar un sitio web, con el fin de que  los usuarios puedan interactuar de la manera más fácil, comoda e intu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sarrollo y diseño  de un sitio web debe estar centrado en el usuario o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2268360" y="4005360"/>
            <a:ext cx="4019760" cy="1476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1700280"/>
            <a:ext cx="741708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será “usable” si es que permite al usuario centrarse en su tarea y no en como funciona 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la usabilidad de un sitio web, se hace de acuerdo a una serie de criterios, que están agrupados en 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uales son los objetivos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finir una URL clara y definida al igual que sus subdomin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eño del sitio orientado al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mpo de actualización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istencia entre su apariencia y fun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076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3640" cy="80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308720" y="580536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1480" y="1844640"/>
            <a:ext cx="86425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TIPOS DE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DE UN SITIO  W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PRACTICO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170028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dentidad (Branding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ostrar la naturaleza o identidad del negocio en la página de bienvenida (home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de la marca (logo) o de imagen corporativa en todas las pág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marca tiene un lugar importante en el diseño de la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y redac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tiene que estar escrito en un lenguaje conocido por la mayoría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frecer versiones en diferentes idi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claro, conciso, am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484280"/>
            <a:ext cx="7417080" cy="68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po de estructu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Árbol                     Lista                            Mixta                       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gla de oro </a:t>
            </a:r>
            <a:r>
              <a:rPr b="0" i="1" lang="es-BO" sz="2200" spc="-1" strike="noStrike">
                <a:solidFill>
                  <a:srgbClr val="000000"/>
                </a:solidFill>
                <a:latin typeface="Arial"/>
              </a:rPr>
              <a:t>“Usuario debe llegar con 4 clics a lo que bus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042920" y="2852640"/>
            <a:ext cx="1076400" cy="1190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700360" y="321300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5219640" y="2708280"/>
            <a:ext cx="1343160" cy="114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7164360" y="2637000"/>
            <a:ext cx="1400040" cy="1143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1700280"/>
            <a:ext cx="7417080" cy="51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comendable tener un mapa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os enlaces ro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que indiquen al usuario donde esta y como volver at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menús con muchos elementos (sobrecarga memorística, regla es 7+/-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1700280"/>
            <a:ext cx="741708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 y retroaliment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ratar de que el usuario tenga el control del sit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formar de que esta pasando o ya p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eveer sistemas de respuesta en caso de interacción con el usuar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tiempo de respuesta (max 10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bilidad de que el usuario se ponga en contacto para sugerencias o recl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1197000"/>
            <a:ext cx="741708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 tecnologías o formatos escasamente populares aumentan las barreras de entrada y provoca que su sitio Web sea escasamente accesibl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119700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Cómo ser accesibles para los usuario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r siempre estándares de publ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tar formatos propi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usar características especificas de un navegador o plata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ar estadísticas de penet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reer que con invitaciones a utilizar determinado software se lograra el obje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119700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cios de tener una política correcta de accesibil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nuestra audiencia pote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iza el tiempo de estancia de nuestros visita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 la gestión y la mantencion d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el tiempo de vida del sitio Web y por tanto en dinero, recursos y ti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1197000"/>
            <a:ext cx="7417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contenido debe ser coherente c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bjetivos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acterísticas de lo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lidad de reda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unt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692280"/>
            <a:ext cx="741708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acción corta y precis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gina, un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rrafo, una id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Rotulado está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detallada y organ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620800" y="2128680"/>
            <a:ext cx="39024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692280"/>
            <a:ext cx="741708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ios de valor añadid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or de búsqueda inte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ente de información detal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170028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posición de los elemen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provechar zonas de alta jerarquía para información impor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terfaz limpia sin ruido visual, colocar zonas en “blanc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la longitud de la pág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áximo 3 col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00000" y="1484280"/>
            <a:ext cx="74170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Banners y publi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el tamaño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bicación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las imágenes para reducir su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scripción de las imá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sar animación en flash sólo si es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as animaciones cíc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203640" y="1916280"/>
            <a:ext cx="3168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22050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ara analizar un sitio web, se utiliza una enc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están en función de las 5 dimensiones que se tomaron en cuenta en el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son un resumen de las que consideramos las más importantes (para acortar la encue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24000" y="1268280"/>
          <a:ext cx="8496000" cy="448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1268280"/>
                    <a:ext cx="849600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95280" y="1557360"/>
          <a:ext cx="8424720" cy="371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557360"/>
                    <a:ext cx="84247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68360" y="1413000"/>
          <a:ext cx="8351640" cy="375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413000"/>
                    <a:ext cx="83516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1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2920" y="1844640"/>
            <a:ext cx="6913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que se analizará 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www.mallplaza.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924360" y="3141720"/>
          <a:ext cx="1657440" cy="64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0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3141720"/>
                    <a:ext cx="1657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419640" y="4221000"/>
          <a:ext cx="2736720" cy="3621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221000"/>
                    <a:ext cx="27367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3" name="" descr=""/>
          <p:cNvPicPr/>
          <p:nvPr/>
        </p:nvPicPr>
        <p:blipFill>
          <a:blip r:embed="rId11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2920" y="1413000"/>
            <a:ext cx="756144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no existe una metodología estándar para evaluar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calidad de un sitio están en función del evaluador y de su experi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con las 5 dimensiones, trata de hacer un resumen de los diferentes mét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o más importante es la parte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debe estar alineado con la estrategia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2205000"/>
            <a:ext cx="806436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a página web es un documento que se encuentra en la World Wid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iene información (texto, imágenes y enlaces a otras pági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1989000"/>
            <a:ext cx="806436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 un conjunto de páginas web que estan interrelacion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ta asociado a un dominio o subdominio  de internet y a una U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2556000" y="2060640"/>
            <a:ext cx="4248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2205000"/>
            <a:ext cx="7632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xisten 5 diferentes  tipos o géneros de sitio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da tipo de sitio esta especializado en un uso particular y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finir el genero de un sitio web esta en función de las aspiraciones de una empresa, que pueden ir desde sólo tener presencia en internet hasta el e-comme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1557360"/>
            <a:ext cx="777564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 de neg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 como objetivo el dar a conocer a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omover sus productos y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rientados a la mercadotec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r información relevante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6000" y="4437000"/>
          <a:ext cx="2592360" cy="56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4437000"/>
                    <a:ext cx="2592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940360" y="4221000"/>
          <a:ext cx="247644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4221000"/>
                    <a:ext cx="2476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7640" y="4292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42920" y="1557360"/>
            <a:ext cx="72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fin ofrecer un servicio a sus clientes, proveedores y socios come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ultas a bases de datos, seguimiento, noticias, información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 servicios complemen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58920" y="4869000"/>
          <a:ext cx="2592360" cy="27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869000"/>
                    <a:ext cx="259236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067280" y="4797360"/>
          <a:ext cx="140004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67280" y="4797360"/>
                    <a:ext cx="14000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227640" y="4437000"/>
          <a:ext cx="237672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" name="" descr="">
                    <a:hlinkClick r:id="rId13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27640" y="4437000"/>
                    <a:ext cx="23767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2:16:34Z</dcterms:created>
  <dc:creator>Gary Condori Arce</dc:creator>
  <dc:description/>
  <dc:language>en-US</dc:language>
  <cp:lastModifiedBy>Jorge Lara</cp:lastModifiedBy>
  <dcterms:modified xsi:type="dcterms:W3CDTF">2006-11-03T19:19:38Z</dcterms:modified>
  <cp:revision>15</cp:revision>
  <dc:subject/>
  <dc:title>ACCION DE MARKETING  “ANALISIS DE UN SITIO WEB”</dc:title>
</cp:coreProperties>
</file>