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E0ED9-F82F-4E1B-A955-F13F01A1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396D0-230B-41CB-A4EF-986E1BF9E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D9036-DD23-411B-A56C-F900CCE8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823-65C2-4C7B-AAA5-99EF0335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iembr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268280"/>
          <a:ext cx="8591400" cy="52880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plan estratégico de marke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Modelo de comportamiento de los consumidores, y características que afectan el comportamiento de los consumidores de marketing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Segmentación de mercados”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análisis del atractivo del mercado de referenci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t-Ireland-Hoskisson, “El ambiente interno: Recursos, Capacidades y Competencias centrale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197000"/>
          <a:ext cx="8664120" cy="5533920"/>
        </p:xfrm>
        <a:graphic>
          <a:graphicData uri="http://schemas.openxmlformats.org/drawingml/2006/table">
            <a:tbl>
              <a:tblPr/>
              <a:tblGrid>
                <a:gridCol w="1417680"/>
                <a:gridCol w="1969200"/>
                <a:gridCol w="527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“Construyendo diferenciación de marcas en una época de paridad de producto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desarrollo para el lanzamiento de nuevos producto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ter David H, “Chapter 10: How Clients Choose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“Posicionamient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 elección de una estrategia de marketing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anagement, “En busca de la lealtad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Porter, “Strategy and interne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“What is a strong brand?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“Price, costs and prof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s decisiones estratégicas de comunicación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 equipos de 5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tegr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3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 la falt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infinita al errar intentando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9:3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30 – 10:00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Ana Cecilia Pilarte Donaire</cp:lastModifiedBy>
  <cp:lastPrinted>2000-05-08T17:12:16Z</cp:lastPrinted>
  <dcterms:modified xsi:type="dcterms:W3CDTF">2008-10-10T00:05:27Z</dcterms:modified>
  <cp:revision>455</cp:revision>
  <dc:subject/>
  <dc:title>UCAD Call Centre Transition Plan</dc:title>
</cp:coreProperties>
</file>