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DAF-1B26-4E49-8084-4EF76CEC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51F-F0F7-4715-A9ED-EA926898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43D-B321-45BF-9457-16E3D480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B99-CEA5-4DFA-85E1-C4EA6CC2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0785-8E51-402E-9359-FEE540DE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39AE-5EC2-49BB-914E-5003F7F4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529B-F2F0-4630-BC52-25527D92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4530-80EF-48E5-ABD0-2F8DF838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B6E4-0752-4EE8-8673-5BB076E7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C3D1-5F1F-414F-A7F9-8DB9C1CD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9E25-1CFD-48CF-836F-46864482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2AF-43B1-4038-85F8-6522E738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AAB2-BEDC-4906-AAD2-CFD29542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CECC-837B-4D10-A3D4-C815F9C4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BA41-FAC0-4390-9CFE-7831456E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7F6B-B8E9-406B-9FB5-9F73543E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4C51-6FCA-47AD-8AFB-9BEEBD71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685-2860-4B6B-9070-89FDC159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3FE-05E6-487D-AE27-75B69113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A08-0771-4F8C-B7C9-F1360A8E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32A-6C53-481A-B613-75A13F66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EC2-0453-466A-A52B-E477CE37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F47-FCB6-4D74-9C8C-FA47E11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E1C-15A0-4E6E-970C-D97B00CD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F0E2-AB75-41F5-8347-039E3518E1A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CC36-F21B-4BA6-B9C3-F72AC9FB3DE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6. La instalación del modelo de protección social y los debates de ciudadanía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511200"/>
          <a:ext cx="8425080" cy="543888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50328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0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bajo el enfoque d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Garamond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Funciones que el enfoque define al gobierno en 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jecutar medidas de política para la prevención del ries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cilitar el establecimiento de instituciones financieras de mercado, supervisar y fiscalizar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tregar instrumentos de MSR en aquellas áreas donde el sector privado no funciona bien  o donde los individuos carecen de información paras cubrirse adecuada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porcionar redes de protección social para aliviar el efecto de los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cretar la redistribución de ingresos si los resultados de mercado se consideran inaceptables desde el punto de vista del bienestar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isión algo mas compleja y mutivariable de la pobreza y mas centrada en caus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plantea la idea de transferencias condicionadas y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Unidad de intervención es la famil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texto reconoce la importancia de fortalecer voz y capacidades en sectores pobres y de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conoce también la centralidad de variables políticas y de p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cluye o amplia el espectro de actores o agentes pero supone que siguen lógicas de acción determinadas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crític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nfoque centrado en el individuo/familia 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obreenfatiza costos y inefectividad de los sistemas informales, privilegia los de mercado y  acepta los públicos “siempre que estén bien diseñados” (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hay mención al financiamiento de los sistemas (solidario o individu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Aplicación instrumental del enfoque: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HILE, FOSIS,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Siguiendo una parte de las categorías incluidas en el enfoque de MSR elabora una matriz de análisis de riesgo por región y comuna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La matriz 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El  panorama se complementa con una “mapa de oportunidades” que representa la oferta programática del FOSIS y de otros en el  territo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aramond"/>
              </a:rPr>
              <a:t>Preguntas / du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¿Sobre énfasis en carencias y escasamente en  potencialidades de desarrollo? Define acciones en lógica de défici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ebilidad factores de riesgo y protectores en el nivel comunit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apel municipio, gestión y desarrollo loc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imensiones del enfoque de MSR que no incluye: riesgos a niveles meso y mac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eocupaciones / riesgos de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272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tom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ecnologización de la acc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lient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mbitos propios d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empleo -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comunitaria - capital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iudadanía (definiciones teóricas)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osesión formal y real de 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liberación, debate público y participación activa en la construcción de un proyecto de soci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formación, interés por los asuntos públicos, plena integración a la sociedad política, económica y cult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Dos dimensiones de ciudadaní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Dimensión política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rechos civiles y políticos aseguran la libertad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estado de derec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  <a:ea typeface="Arial Unicode MS"/>
              </a:rPr>
              <a:t>Dimensión social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derechos sociales y económicos aseguran la igualdad → estado de bienestar (política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obreza vs equidad (temas de debate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on objetivos de política disti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uperación de la pob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recimiento económ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s sociales foc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Fomento de la 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distribución del crecimiento vía impu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 social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cuerdo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Ciudadanía (definiciones)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Estatus que se concede a los miembros de pleno derecho de una comunidad. Sus beneficiarios son iguales en cuanto a los derechos y obligaciones que implica” (T.H. Marshall, Ciudadanía y clase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4 modelos de ciudadaní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rvad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ocialdemócr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unita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public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nservador (neoliberal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791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415160"/>
            <a:ext cx="5327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. Énfasis en derechos civiles (y polític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34639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ínima. Estado regulador y subsidiario. Ciudadanos esperan la mínima interferencia posible del Estado en su vida privada, respeto y reconocimiento de sus derechos ci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inactivo: no partic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socialdemócrat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007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1161000"/>
            <a:ext cx="5905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 y sociales. Énfasis en derechos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; pagar impuestos a cambio de servicios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430440"/>
            <a:ext cx="59054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ado garante del bienestar. Ciudadanos poseen derechos en tanto cumplen sus oblig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rol social del estado omniprot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reactivo: participa como respuesta a problemas que le afec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060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365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munitar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104940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, pero subordinados al ejercicio de la responsab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lta valoración de la responsabilidad social en la mantención del orde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5017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ediada por la comun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que el estado sea garante de los valores definidos por la comun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activo: participa por que se siente miembro de una comunidad conc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4508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Republican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70316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90504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, sociales y cul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jercicio de derechos exigen contraprestación de deberes cívicos asociados a una vida virtu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103560"/>
            <a:ext cx="532764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cción estatal requiere de ciudadanos activos, comprometidos con el bien com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se conciben como co-participes en la consecución de una sociedad justa y equ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Garamond"/>
              </a:rPr>
              <a:t>Ciudadano activo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: participa por que le preocupa el bien comú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2133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Secuencia de evolución de los derechos de ciudadanía (Marshall) no se da en A. Latina: ampliación de derechos sociales tiene lugar en forma previa a la consagración universal de derechos civiles y polít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Forma de construcción de la relación entre el Estado y los ciudadanos: procesos de luchas de integración versus construcción de la sociedad desde la exclusión y discriminación (desconfianza en las relaciones interpersona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Reconocimiento de derechos versus preocupaciones centradas en la consolidación de la democra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América Latina: rezago en las garantías de dere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Énfasis en profundizar la democracia, establecer formas más sólidas de convivencia y mejorar las condiciones de vida para las perso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Análisis de  formas emergentes de ciudadanía en el marco del desplazamiento del Estado hacia la sociedad de 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 ciudadanía a partir de los cambios que tienen lugar en la socie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Individualización, predominio del mercado, crisis de la política, retraimiento del Estado Social, debilitamiento del vínculo social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cesos de cambio se entienden como tendencias irreversibles del mundo contemporáne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liga ciudadanía a gobernabilidad democr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ivindicación de formas de ciudadanía local (capital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iudadanía en Chile se encuentra poco desarroll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edominan valores individualis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valoración de la política y el espacio público como lugares de encuentro y resolución de problemas cole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conciencia de posesión de derech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oblemas para la materialización de derechos: pobreza y desigual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motivación a la participa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cepciones ciudadanas diferenciadas por N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están más disconformes con el modelo económico y manifiestan mayor distancia respecto de la política que el conjunto de la pobl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ntre los pobres se percibe en mayor medida el predominio de valores políticos y económicos liberales y se constata un sentimiento generalizado de impotencia respecto de la posibilidad de influir sobre el curso de los acontecimient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tienen mayor conciencia de la desigualdad y la vivencian como discriminación e injusticia, pero tienen menos información sobre sus derechos y menos herramientas para reclamarl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Tendencias hacia el fomento de la equida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Tematización de derechos sociales de ciudadanía: cambiar el foco de la asistencia a los dere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ínimos” sociales garantizados (¿derecho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ponsabilizar a los individuos por sus condicion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Exigencia de contrapres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ógica per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76360" y="54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Esfuerz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440" y="1348200"/>
            <a:ext cx="3163680" cy="142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mpliar / modificar polític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440" y="4515840"/>
            <a:ext cx="3163680" cy="1857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umentar participación y fortalecer ciudadan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1268280"/>
            <a:ext cx="2160720" cy="1472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Disminuy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Se mantiene des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4365720"/>
            <a:ext cx="2160360" cy="2082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articipación instr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iudadanos no se apropian de los espa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191628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22936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3201840"/>
            <a:ext cx="2595600" cy="10998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DERECHO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40720" y="306864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517400">
            <a:off x="6876720" y="299700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549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Protección social y riesg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mirada “tradicional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Riesgos asociados al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Protección a través de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Actor central: Estado,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iversificación de los riesgos: naturales, salud, ciclo vital, sociales, económicos, políticos, ambientales  (no solo trabaj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: se expresan en quiebre de ingresos o incremento en necesidades de subsistenc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ueden tener origen a nivel macro (social, económico o político),  a nivel meso o a nivel micro (famil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aracterísticas del ries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orrelación (idiosincráticos y covari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recu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tensidad (severida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 varían según su severidad, frecuencia y número de afectad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371600"/>
          <a:ext cx="8305920" cy="4673520"/>
        </p:xfrm>
        <a:graphic>
          <a:graphicData uri="http://schemas.openxmlformats.org/drawingml/2006/table">
            <a:tbl>
              <a:tblPr/>
              <a:tblGrid>
                <a:gridCol w="1482840"/>
                <a:gridCol w="1808280"/>
                <a:gridCol w="2423880"/>
                <a:gridCol w="1435320"/>
                <a:gridCol w="11556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-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tur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luvias – inund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rupciones volcáni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lizamientos de tier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orna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s 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emo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lu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erme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es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apac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iclo vit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cianidad Muer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íme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lincu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iolencia Intrafamili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oris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andill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moción civ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uerr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turbios 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447920"/>
          <a:ext cx="8007480" cy="4376520"/>
        </p:xfrm>
        <a:graphic>
          <a:graphicData uri="http://schemas.openxmlformats.org/drawingml/2006/table">
            <a:tbl>
              <a:tblPr/>
              <a:tblGrid>
                <a:gridCol w="1601640"/>
                <a:gridCol w="1602000"/>
                <a:gridCol w="1600200"/>
                <a:gridCol w="1601640"/>
                <a:gridCol w="160200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conóm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mple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 y reasenta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erdida de competitividad de 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quilibrios macros y políticas de ajust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olít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riminación étnica y ra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ciones sociales masiv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estabilidad polí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olpes de Es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mbient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tamin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forest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99920"/>
            <a:ext cx="8381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Estrategias para abordar 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evención: reduce la probabilidad d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Mitigación: disminuye el posible efecto de un riesgo antes de ocurrir est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uperación: aliviar el impacto del riesgo una vez que se ha producido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Instrumentos o mecanismos en las estrategias para abordar los riesgos según su nivel de formal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 informales: autoprotección y familiares y comunitari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s de mercado: activos financieros y póliza de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vistos o ordenados por el sector públic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puesta central es aseguramiento y diversificacion de carteras y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Actores principale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dividuos / hogares, comunidades / O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stituciones internacionales que ofrecen sistemas de MS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8:57Z</dcterms:modified>
  <cp:revision>37</cp:revision>
  <dc:subject/>
  <dc:title>Diapositiva 1</dc:title>
</cp:coreProperties>
</file>