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940-A584-4A4B-BD99-04DC6F55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C5E-0183-4013-8AE0-8078B2FB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266-BAB4-4CC6-9972-8EB56867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5AF-C501-4F63-AC3F-31EE21B2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67F0-6515-40CF-88F6-2ADBEE83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B049-AC2E-485B-B8AC-2F8EDF0D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9F78-DC42-45BE-8F23-87A8EDCA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69FE-0674-47A6-9AEC-8D01E34B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6B12-8355-44DC-9129-6CCCD630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7E3D-589E-4125-B85F-4E95835A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1230-DF9A-4EB8-ADDB-F1F9E298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DDA-F375-431B-9317-B64D68FE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624C-6FD2-48C8-AF92-2FC7BF84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E092-2E58-47FD-A2E6-40794FCE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E540-AD45-4B7C-95F7-03103351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6554-A216-481F-B380-ED30EFEA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031A-6FFF-4FBF-9552-7F742248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20C-0DDD-4612-9699-F08F8DAF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E27-F85E-49ED-B3D6-E8D91D54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75D-A51C-4A69-8F24-E3476820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9CE-FB20-4F0A-A048-A3B35176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98A-88F2-41A0-8F86-1E0451BD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BC8-0FA6-4590-A0D8-AF2E52AA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A78-0477-41B4-B3A2-C84653F3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FE78-C47A-4E18-954A-EA4455C4DAF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89FE-DF74-4508-930B-DCA55F0168F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5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TERCER MÓDULO: 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NUEVOS ENFOQUES Y ESCENARIOS DE FIN DE SIGLO</a:t>
            </a:r>
            <a:br>
              <a:rPr sz="40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6. La instalación del modelo de protección social y los debates de ciudadanía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gnacia Fernán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viemb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80880" y="511200"/>
          <a:ext cx="8425080" cy="5438880"/>
        </p:xfrm>
        <a:graphic>
          <a:graphicData uri="http://schemas.openxmlformats.org/drawingml/2006/table">
            <a:tbl>
              <a:tblPr/>
              <a:tblGrid>
                <a:gridCol w="1683000"/>
                <a:gridCol w="1685880"/>
                <a:gridCol w="1685880"/>
                <a:gridCol w="1685880"/>
                <a:gridCol w="168444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. ESTRATEGIAS APLICADAS ANTES DE QUE SE PRODUZCA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ducir ocurrencia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(prevenció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acticas de salud preventiv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gr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versificación de fuentes de ingres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vitar fuentes de ingreso riesgo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versificación de la produc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vertir en educación y salu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Organización comunitaria para prevenir desastres naturales, de clima, productiv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versión de las empresas  en trabajadores y su familia, capacita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económicas Ambientales Salud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ducacio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fraestructura Labor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ormas y regulaciones sobre calidad y funcionamiento de los mercados y servici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omoción social, expandir capacidad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tigar efecto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. Reducir el potencial de repercusión en caso de materializarse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horro informal en bienes y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azos de reciprocidad y ayuda mutua en la fami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horro, crédito comun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ultivar lazos de reciprocidad y ayuda mutua comunitar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ortalecer capital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guros voluntarios (accidentes, discapacidad, muerte, salud, incendio, vejez, etc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guros obligatorios de desempleo, vejez, enfermedad, et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segurar  recursos para épocas de crisis y programas contracicl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5280" y="503280"/>
          <a:ext cx="8640720" cy="5373720"/>
        </p:xfrm>
        <a:graphic>
          <a:graphicData uri="http://schemas.openxmlformats.org/drawingml/2006/table">
            <a:tbl>
              <a:tblPr/>
              <a:tblGrid>
                <a:gridCol w="1725480"/>
                <a:gridCol w="1730520"/>
                <a:gridCol w="1726920"/>
                <a:gridCol w="1730520"/>
                <a:gridCol w="1727280"/>
              </a:tblGrid>
              <a:tr h="520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. ESTRATEGIA QUE SE APLICA UNA VEZ OCURRIDO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nfrentar  el riesg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ovilizar activos desaprovechados del hog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ender activos o bi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corporación de nuevos integrantes al emple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ducir consumo y gas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uscar / inventar fuentes e ingreso complementar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ctivación de prácticas de ayuda mut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tirar ahor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redito y endeud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ransferencias directa de bienes y servi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mpleo de emerg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bajo el enfoque del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99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Garamond"/>
              </a:rPr>
              <a:t>Protección social:</a:t>
            </a:r>
            <a:r>
              <a:rPr b="0" lang="es-ES_tradnl" sz="2300" spc="-1" strike="noStrike">
                <a:solidFill>
                  <a:srgbClr val="000000"/>
                </a:solidFill>
                <a:latin typeface="Garamond"/>
              </a:rPr>
              <a:t> Conjunto de intervenciones públicas dirigidas a apoyar a las personas, hogares y comunidades a mejorar su manejo del riesgo, particularmente a quienes se encuentran en extrema pobrez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Garamond"/>
              </a:rPr>
              <a:t>Función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teger subsistencia básica (red asistencial): prestar apoyo a los pobres en situación crí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mover la disposición a asumir riesgos (trampolín para salir gradualmente de la  pobreza crónica ): proveer herramientas para prevenir, mitigar y aliviar situaciones de quiebre de ingreso; asistir a los individuos, hogares y comunidades a manejar el riesgo de mejor fo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Funciones que el enfoque define al gobierno en el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4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jecutar medidas de política para la prevención del ries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Facilitar el establecimiento de instituciones financieras de mercado, supervisar y fiscalizar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tregar instrumentos de MSR en aquellas áreas donde el sector privado no funciona bien  o donde los individuos carecen de información paras cubrirse adecuada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porcionar redes de protección social para aliviar el efecto de los ries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cretar la redistribución de ingresos si los resultados de mercado se consideran inaceptables desde el punto de vista del bienestar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omentarios a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Va más allá de redes de protección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Visión algo mas compleja y mutivariable de la pobreza y mas centrada en caus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e plantea la idea de transferencias condicionadas y la creación de un sistema de protección social (más que programas aisl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Unidad de intervención es la famil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l texto reconoce la importancia de fortalecer voz y capacidades en sectores pobres y de modificar conduc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econoce también la centralidad de variables políticas y de p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cluye o amplia el espectro de actores o agentes pero supone que siguen lógicas de acción determinadas (racionalidad económica o utilitari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omentarios críticos a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38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nfoque centrado en el individuo/familia  y decisiones económicas que tom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obreenfatiza costos y inefectividad de los sistemas informales, privilegia los de mercado y  acepta los públicos “siempre que estén bien diseñados” (no se explicita lo que sería un buen diseñ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Restringe el sistema público a los sectores en pobreza: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No queda claro como se compatibiliza y prioriza entre quiebres transitorios y permanentes de ingreso (pobreza crónica) y si es efectivo que el enfoque contribuye a superar la pobreza crón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No hay mención al financiamiento de los sistemas (solidario o individu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l enfoque es conceptual-analítico y no hace mención a la implementación y gestión de lo que prop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Aplicación instrumental del enfoque: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HILE, FOSIS,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823760"/>
            <a:ext cx="83628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Siguiendo una parte de las categorías incluidas en el enfoque de MSR elabora una matriz de análisis de riesgo por región y comuna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La matriz  define grupos objetivos (etarios, familia y comunidad), identifica para cada uno el riesgo principal, si tiene o no las condiciones mínimas necesarias para enfrentar el riesgo principal de buena manera y si hay presencia de factores protectores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El  panorama se complementa con una “mapa de oportunidades” que representa la oferta programática del FOSIS y de otros en el  territor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Garamond"/>
              </a:rPr>
              <a:t>Preguntas / dud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¿Sobre énfasis en carencias y escasamente en  potencialidades de desarrollo? Define acciones en lógica de défici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Debilidad factores de riesgo y protectores en el nivel comunit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Papel municipio, gestión y desarrollo loc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Pertinencia en y para los territorios específicos. ¿útil para asignación de recursos globales? ¿Dificultades en lo que concierne asignación programátic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Dimensiones del enfoque de MSR que no incluye: riesgos a niveles meso y mac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eocupaciones / riesgos de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272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tom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ecnologización de la acc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lient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mbitos propios d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rea empleo -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rea comunitaria - capital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Ciudadanía (definiciones teóricas)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osesión formal y real de derechos civiles, político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eliberación, debate público y participación activa en la construcción de un proyecto de soci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formación, interés por los asuntos públicos, plena integración a la sociedad política, económica y cult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Dos dimensiones de ciudadaní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Dimensión política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erechos civiles y políticos aseguran la libertad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estado de derec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  <a:ea typeface="Arial Unicode MS"/>
              </a:rPr>
              <a:t>Dimensión social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derechos sociales y económicos aseguran la igualdad → estado de bienestar (política soc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obreza vs equidad (temas de debate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on objetivos de política disti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uperación de la pobr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crecimiento económ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políticas sociales foc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Fomento de la equ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distribución del crecimiento vía impue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política social uni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acuerdo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Ciudadanía (definiciones)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Estatus que se concede a los miembros de pleno derecho de una comunidad. Sus beneficiarios son iguales en cuanto a los derechos y obligaciones que implica” (T.H. Marshall, Ciudadanía y clase soc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Derechos civiles, político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4 modelos de ciudadaní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rvad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ocialdemócr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munita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public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conservador (neoliberal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379188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1415160"/>
            <a:ext cx="53276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posee derechos civiles, políticos y sociales. Énfasis en derechos civiles (y polític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otar periódicamente para la elección de sus representa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346392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ínima. Estado regulador y subsidiario. Ciudadanos esperan la mínima interferencia posible del Estado en su vida privada, respeto y reconocimiento de sus derechos ci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inactivo: no partic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2205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4437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socialdemócrat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00788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1161000"/>
            <a:ext cx="5905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sujeto de derechos civiles, políticos y sociales. Énfasis en derechos so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otar periódicamente para la elección de sus representantes; pagar impuestos a cambio de servicios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430440"/>
            <a:ext cx="59054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ado garante del bienestar. Ciudadanos poseen derechos en tanto cumplen sus oblig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esperan rol social del estado omniprot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reactivo: participa como respuesta a problemas que le afec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060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36572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Comunitar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86316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104940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posee derechos civiles, políticos y sociales, pero subordinados al ejercicio de la responsab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lta valoración de la responsabilidad social en la mantención del orden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350172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ediada por la comun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esperan que el estado sea garante de los valores definidos por la comun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activo: participa por que se siente miembro de una comunidad concr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205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4508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Republican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70316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86316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90504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sujeto de derechos civiles, políticos, sociales y cul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jercicio de derechos exigen contraprestación de deberes cívicos asociados a una vida virtu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103560"/>
            <a:ext cx="532764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cción estatal requiere de ciudadanos activos, comprometidos con el bien comú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se conciben como co-participes en la consecución de una sociedad justa y equi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Garamond"/>
              </a:rPr>
              <a:t>Ciudadano activo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: participa por que le preocupa el bien común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213372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4437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45160" indent="-24516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Secuencia de evolución de los derechos de ciudadanía (Marshall) no se da en A. Latina: ampliación de derechos sociales tiene lugar en forma previa a la consagración universal de derechos civiles y polít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Forma de construcción de la relación entre el Estado y los ciudadanos: procesos de luchas de integración versus construcción de la sociedad desde la exclusión y discriminación (desconfianza en las relaciones interpersona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Reconocimiento de derechos versus preocupaciones centradas en la consolidación de la democra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América Latina: rezago en las garantías de dere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Énfasis en profundizar la democracia, establecer formas más sólidas de convivencia y mejorar las condiciones de vida para las perso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Análisis de  formas emergentes de ciudadanía en el marco del desplazamiento del Estado hacia la sociedad de 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en la ciudadanía a partir de los cambios que tienen lugar en la socie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Individualización, predominio del mercado, crisis de la política, retraimiento del Estado Social, debilitamiento del vínculo social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cesos de cambio se entienden como tendencias irreversibles del mundo contemporáne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liga ciudadanía a gobernabilidad democr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Reivindicación de formas de ciudadanía local (capital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iudadanía en Chile se encuentra poco desarrolla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889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redominan valores individualist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valoración de la política y el espacio público como lugares de encuentro y resolución de problemas colec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conciencia de posesión de derechos soc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roblemas para la materialización de derechos: pobreza y desigual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motivación a la participa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ercepciones ciudadanas diferenciadas por N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os pobres están más disconformes con el modelo económico y manifiestan mayor distancia respecto de la política que el conjunto de la pobl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ntre los pobres se percibe en mayor medida el predominio de valores políticos y económicos liberales y se constata un sentimiento generalizado de impotencia respecto de la posibilidad de influir sobre el curso de los acontecimient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os pobres tienen mayor conciencia de la desigualdad y la vivencian como discriminación e injusticia, pero tienen menos información sobre sus derechos y menos herramientas para reclamarl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Tendencias hacia el fomento de la equida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Tematización de derechos sociales de ciudadanía: cambiar el foco de la asistencia a los dere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Mínimos” sociales garantizados (¿derecho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sponsabilizar a los individuos por sus condicion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Exigencia de contrapres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Lógica per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76360" y="54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Garamond"/>
              </a:rPr>
              <a:t>Esfuerz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440" y="1348200"/>
            <a:ext cx="3163680" cy="142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mpliar / modificar polític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440" y="4515840"/>
            <a:ext cx="3163680" cy="1857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umentar participación y fortalecer ciudadan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1268280"/>
            <a:ext cx="2160720" cy="1472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Disminuy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Se mantiene desigual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4365720"/>
            <a:ext cx="2160360" cy="2082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articipación instru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iudadanos no se apropian de los espa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1916280"/>
            <a:ext cx="1873080" cy="360360"/>
          </a:xfrm>
          <a:prstGeom prst="rightArrow">
            <a:avLst>
              <a:gd name="adj1" fmla="val 50000"/>
              <a:gd name="adj2" fmla="val 129945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5229360"/>
            <a:ext cx="1873080" cy="360360"/>
          </a:xfrm>
          <a:prstGeom prst="rightArrow">
            <a:avLst>
              <a:gd name="adj1" fmla="val 50000"/>
              <a:gd name="adj2" fmla="val 129945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3201840"/>
            <a:ext cx="2595600" cy="10998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DERECHO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40720" y="3068640"/>
            <a:ext cx="431640" cy="1008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517400">
            <a:off x="6876720" y="2997000"/>
            <a:ext cx="431640" cy="1008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72360" y="549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Garamond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Protección social y riesgo: 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mirada “tradicional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Riesgos asociados al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der capacidad de trabajo por enfermedad, accidente o 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der el trabajo (desempleo, cesantí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Protección a través de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evi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versión en capital humano (educación, salu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edes de seguridad para los más pobres (empleo emergencia, subsidio único familiar, pensión asistenc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Actor central: Estado, política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828800"/>
            <a:ext cx="800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iversificación de los riesgos: naturales, salud, ciclo vital, sociales, económicos, políticos, ambientales  (no solo trabaj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iesgo: se expresan en quiebre de ingresos o incremento en necesidades de subsistenc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ueden tener origen a nivel macro (social, económico o político),  a nivel meso o a nivel micro (famil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aracterísticas del riesg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orrelación (idiosincráticos y covari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Frecu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tensidad (severida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iesgo varían según su severidad, frecuencia y número de afectad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371600"/>
          <a:ext cx="8305920" cy="4673520"/>
        </p:xfrm>
        <a:graphic>
          <a:graphicData uri="http://schemas.openxmlformats.org/drawingml/2006/table">
            <a:tbl>
              <a:tblPr/>
              <a:tblGrid>
                <a:gridCol w="1482840"/>
                <a:gridCol w="1808280"/>
                <a:gridCol w="2423880"/>
                <a:gridCol w="1435320"/>
                <a:gridCol w="11556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uente de ries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diosincr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o famili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cal / subnacion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onales/ reg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und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rnacio-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tur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luvias – inundac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rupciones volcánic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lizamientos de tier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ornad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s anteriores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erremo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alu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nferme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es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capac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iclo vit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ncianidad Muer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oc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ríme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lincu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iolencia Intrafamili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erroris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andill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nmoción civ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Guerr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turbios soc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04920" y="15228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Garamond"/>
                <a:ea typeface="Arial"/>
              </a:rPr>
              <a:t>Fuentes de riesgo y a quienes afecta (idiosincráticos o covariado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Garamond"/>
                <a:ea typeface="Arial"/>
              </a:rPr>
              <a:t>Fuentes de riesgo y a quienes afecta (idiosincráticos o covariados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1447920"/>
          <a:ext cx="8007480" cy="4376520"/>
        </p:xfrm>
        <a:graphic>
          <a:graphicData uri="http://schemas.openxmlformats.org/drawingml/2006/table">
            <a:tbl>
              <a:tblPr/>
              <a:tblGrid>
                <a:gridCol w="1601640"/>
                <a:gridCol w="1602000"/>
                <a:gridCol w="1600200"/>
                <a:gridCol w="1601640"/>
                <a:gridCol w="1602000"/>
              </a:tblGrid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uente de ries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diosincr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o famili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cal / subnacion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onales/ reg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und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rnac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conómic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emple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gración y reasenta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erdida de competitividad de 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nteriores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equilibrios macros y políticas de ajust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olític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criminación étnica y rac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ovilizaciones sociales masiv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estabilidad polí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Golpes de Es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mbient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ntamin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forest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99920"/>
            <a:ext cx="8381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Estrategias para abordar el riesg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evención: reduce la probabilidad del riesg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Mitigación: disminuye el posible efecto de un riesgo antes de ocurrir est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uperación: aliviar el impacto del riesgo una vez que se ha producido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Instrumentos o mecanismos en las estrategias para abordar los riesgos según su nivel de formal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istema informales: autoprotección y familiares y comunitari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istemas de mercado: activos financieros y póliza de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vistos o ordenados por el sector públic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puesta central es aseguramiento y diversificacion de carteras y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661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Actores principale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Individuos / hogares, comunidades / O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Bancos y compañías de segu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Gobi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Instituciones internacionales que ofrecen sistemas de MS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stos actores ofrecen sistemas de MSR pero también por su actividad generan riesg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8:57Z</dcterms:modified>
  <cp:revision>37</cp:revision>
  <dc:subject/>
  <dc:title>Diapositiva 1</dc:title>
</cp:coreProperties>
</file>