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8E37-F0F7-48B1-8C9F-19EF4803E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7D32-ECE4-476B-9D75-DA6C2DF88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E712-FF8B-4ED6-9325-716AEC9C4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A4F0-869C-45CF-A4E6-02BC7EA51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07ED6-A50A-407F-9C2D-4AD92AB8A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BFEC9-3A76-4498-A80C-97C4DA7F0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A2996-2A4A-4813-8B47-CC5830B97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94BD3-3410-472C-A1A2-70F99310D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9CB2C-9E51-483A-9366-222BF5DB6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8BDA2-6B96-4329-99B0-0B59A907F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09512-B1B7-4AED-9FCF-599A046A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D7E3-F52D-4574-9094-BB7ABC90D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54096-6428-4EFC-B34B-D8BB2D35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A6E11-0168-4B58-B561-B3CB66FD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02658-F6C7-429D-8CE4-FDEA8120F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4C06B-ACAA-4953-AAAF-29D4665AA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14492-A486-4233-B69F-774714108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D6AA-4EC8-454C-89B6-C1E6D7022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3D7D-9047-48EE-8F70-ED1FE3CFD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38D4-7F39-4365-BC9C-4FDE5906E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AF4F-1E55-451B-8CC7-DAC7C06DB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E11A-CADB-4BE8-8D20-E3E28E3E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43DB-22EC-4788-8559-C4ED18B0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57AF-7782-432A-9792-991ADCBE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39280" y="6248520"/>
            <a:ext cx="799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Octubre - Noviembre,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02126-7958-47FA-8D54-87101025A078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468360" y="6243480"/>
            <a:ext cx="792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Octubre - Noviembre,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08EE5-4507-4FD7-BA62-1437B29E5EA1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1280" y="1125000"/>
            <a:ext cx="853272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TERCER MÓDULO: </a:t>
            </a:r>
            <a:br>
              <a:rPr sz="4000"/>
            </a:b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NUEVOS ENFOQUES Y ESCENARIOS DE FIN DE SIGLO</a:t>
            </a:r>
            <a:br>
              <a:rPr sz="40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ema 6. La instalación del modelo de protección social y los debates de ciudadanía 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79280" y="4436640"/>
            <a:ext cx="6553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gnacia Fernández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Noviembre de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380880" y="511200"/>
          <a:ext cx="8425080" cy="5438880"/>
        </p:xfrm>
        <a:graphic>
          <a:graphicData uri="http://schemas.openxmlformats.org/drawingml/2006/table">
            <a:tbl>
              <a:tblPr/>
              <a:tblGrid>
                <a:gridCol w="1683000"/>
                <a:gridCol w="1685880"/>
                <a:gridCol w="1685880"/>
                <a:gridCol w="1685880"/>
                <a:gridCol w="1684440"/>
              </a:tblGrid>
              <a:tr h="291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Estrategia para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ecanismo inform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ecanismo form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Individual /famili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Comunida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ercad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Estado – politicas y regulaciones sana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A. ESTRATEGIAS APLICADAS ANTES DE QUE SE PRODUZCA EL RIESG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6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Reducir ocurrencia del riesgo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 (prevención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Practicas de salud preventiv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igració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Diversificación de fuentes de ingreso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Evitar fuentes de ingreso riesgos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Diversificación de la producció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Invertir en educación y salud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Organización comunitaria para prevenir desastres naturales, de clima, productivo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Inversión de las empresas  en trabajadores y su familia, capacitación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acroeconómicas Ambientales Salud públic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Educacional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Infraestructura Laboral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Normas y regulaciones sobre calidad y funcionamiento de los mercados y servicio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Promoción social, expandir capacidade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itigar efecto del riesgo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. Reducir el potencial de repercusión en caso de materializarse el riesg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Ahorro informal en bienes y diner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Lazos de reciprocidad y ayuda mutua en la famil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Ahorro, crédito comunitari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Cultivar lazos de reciprocidad y ayuda mutua comunitaria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Fortalecer capital soci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Seguros voluntarios (accidentes, discapacidad, muerte, salud, incendio, vejez, etc.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Seguros obligatorios de desempleo, vejez, enfermedad, etc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Asegurar  recursos para épocas de crisis y programas contraciclic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395280" y="503280"/>
          <a:ext cx="8640720" cy="5373720"/>
        </p:xfrm>
        <a:graphic>
          <a:graphicData uri="http://schemas.openxmlformats.org/drawingml/2006/table">
            <a:tbl>
              <a:tblPr/>
              <a:tblGrid>
                <a:gridCol w="1725480"/>
                <a:gridCol w="1730520"/>
                <a:gridCol w="1726920"/>
                <a:gridCol w="1730520"/>
                <a:gridCol w="1727280"/>
              </a:tblGrid>
              <a:tr h="5209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Estrategia para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ecanismo inform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ecanismo form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Individual /famili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Comunida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ercad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Estado – politicas y regulaciones sana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B. ESTRATEGIA QUE SE APLICA UNA VEZ OCURRIDO EL RIESG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4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Enfrentar  el riesgo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ovilizar activos desaprovechados del hog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Vender activos o bien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Incorporación de nuevos integrantes al emple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Reducir consumo y gast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Buscar / inventar fuentes e ingreso complementari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Activación de prácticas de ayuda mutu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Retirar ahorr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Credito y endeudamient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Transferencias directa de bienes y servici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Empleo de emergenc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5352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Garamond"/>
              </a:rPr>
              <a:t>Protección social bajo el enfoque del MSR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7991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 u="sng">
                <a:solidFill>
                  <a:srgbClr val="000000"/>
                </a:solidFill>
                <a:uFillTx/>
                <a:latin typeface="Garamond"/>
              </a:rPr>
              <a:t>Protección social:</a:t>
            </a:r>
            <a:r>
              <a:rPr b="0" lang="es-ES_tradnl" sz="2300" spc="-1" strike="noStrike">
                <a:solidFill>
                  <a:srgbClr val="000000"/>
                </a:solidFill>
                <a:latin typeface="Garamond"/>
              </a:rPr>
              <a:t> Conjunto de intervenciones públicas dirigidas a apoyar a las personas, hogares y comunidades a mejorar su manejo del riesgo, particularmente a quienes se encuentran en extrema pobrez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Garamond"/>
              </a:rPr>
              <a:t>Función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9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Proteger subsistencia básica (red asistencial): prestar apoyo a los pobres en situación crític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9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Promover la disposición a asumir riesgos (trampolín para salir gradualmente de la  pobreza crónica ): proveer herramientas para prevenir, mitigar y aliviar situaciones de quiebre de ingreso; asistir a los individuos, hogares y comunidades a manejar el riesgo de mejor form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Garamond"/>
              </a:rPr>
              <a:t>Funciones que el enfoque define al gobierno en el MSR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4724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lvl="1" marL="602640" indent="-29268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Ejecutar medidas de política para la prevención del riesg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Facilitar el establecimiento de instituciones financieras de mercado, supervisar y fiscalizarl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Entregar instrumentos de MSR en aquellas áreas donde el sector privado no funciona bien  o donde los individuos carecen de información paras cubrirse adecuadament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Proporcionar redes de protección social para aliviar el efecto de los riesg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Decretar la redistribución de ingresos si los resultados de mercado se consideran inaceptables desde el punto de vista del bienestar socia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Garamond"/>
              </a:rPr>
              <a:t>Comentarios al enfoque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800244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Va más allá de redes de protección asistenci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Visión algo mas compleja y mutivariable de la pobreza y mas centrada en causa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Se plantea la idea de transferencias condicionadas y la creación de un sistema de protección social (más que programas aislad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Unidad de intervención es la famili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El texto reconoce la importancia de fortalecer voz y capacidades en sectores pobres y de modificar conduct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Reconoce también la centralidad de variables políticas y de po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Incluye o amplia el espectro de actores o agentes pero supone que siguen lógicas de acción determinadas (racionalidad económica o utilitarist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5352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Garamond"/>
              </a:rPr>
              <a:t>Comentarios críticos al enfoque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777384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Enfoque centrado en el individuo/familia  y decisiones económicas que toma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Sobreenfatiza costos y inefectividad de los sistemas informales, privilegia los de mercado y  acepta los públicos “siempre que estén bien diseñados” (no se explicita lo que sería un buen diseño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Restringe el sistema público a los sectores en pobreza: focalizado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No queda claro como se compatibiliza y prioriza entre quiebres transitorios y permanentes de ingreso (pobreza crónica) y si es efectivo que el enfoque contribuye a superar la pobreza crónic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No hay mención al financiamiento de los sistemas (solidario o individual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El enfoque es conceptual-analítico y no hace mención a la implementación y gestión de lo que propon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280" y="244440"/>
            <a:ext cx="83026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Garamond"/>
              </a:rPr>
              <a:t>Aplicación instrumental del enfoque:</a:t>
            </a:r>
            <a:br>
              <a:rPr sz="3200"/>
            </a:br>
            <a:r>
              <a:rPr b="1" lang="es-ES_tradnl" sz="3200" spc="-1" strike="noStrike">
                <a:solidFill>
                  <a:srgbClr val="006633"/>
                </a:solidFill>
                <a:latin typeface="Garamond"/>
              </a:rPr>
              <a:t>CHILE, FOSIS, asignación territorial y programática de recursos</a:t>
            </a:r>
            <a:r>
              <a:rPr b="1" lang="es-ES_tradnl" sz="31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1823760"/>
            <a:ext cx="836280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b812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aramond"/>
              </a:rPr>
              <a:t>Siguiendo una parte de las categorías incluidas en el enfoque de MSR elabora una matriz de análisis de riesgo por región y comuna.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b812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aramond"/>
              </a:rPr>
              <a:t>La matriz  define grupos objetivos (etarios, familia y comunidad), identifica para cada uno el riesgo principal, si tiene o no las condiciones mínimas necesarias para enfrentar el riesgo principal de buena manera y si hay presencia de factores protectores 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b812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aramond"/>
              </a:rPr>
              <a:t>El  panorama se complementa con una “mapa de oportunidades” que representa la oferta programática del FOSIS y de otros en el  territori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b812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Garamond"/>
              </a:rPr>
              <a:t>Preguntas / duda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Garamond"/>
              </a:rPr>
              <a:t>¿Sobre énfasis en carencias y escasamente en  potencialidades de desarrollo? Define acciones en lógica de déficit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Garamond"/>
              </a:rPr>
              <a:t>Debilidad factores de riesgo y protectores en el nivel comunitari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Garamond"/>
              </a:rPr>
              <a:t>Papel municipio, gestión y desarrollo loca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Garamond"/>
              </a:rPr>
              <a:t>Pertinencia en y para los territorios específicos. ¿útil para asignación de recursos globales? ¿Dificultades en lo que concierne asignación programática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Garamond"/>
              </a:rPr>
              <a:t>Dimensiones del enfoque de MSR que no incluye: riesgos a niveles meso y macr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Garamond"/>
              </a:rPr>
              <a:t>Preocupaciones / riesgos del enfoque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2723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Individual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Atom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Tecnologización de la acción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epend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liente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esvinculación ámbitos propios del desarr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esvinculación área empleo -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esvinculación área comunitaria - capital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6633"/>
                </a:solidFill>
                <a:latin typeface="Garamond"/>
              </a:rPr>
              <a:t>Ciudadanía (definiciones teóricas)</a:t>
            </a:r>
            <a:endParaRPr b="0" lang="en-US" sz="3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Posesión formal y real de derechos civiles, políticos y soci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Deliberación, debate público y participación activa en la construcción de un proyecto de socie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Información, interés por los asuntos públicos, plena integración a la sociedad política, económica y cultur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Dos dimensiones de ciudadaní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Garamond"/>
              </a:rPr>
              <a:t>Dimensión política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derechos civiles y políticos aseguran la libertad 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  <a:ea typeface="Times New Roman"/>
              </a:rPr>
              <a:t>→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estado de derech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Garamond"/>
                <a:ea typeface="Arial Unicode MS"/>
              </a:rPr>
              <a:t>Dimensión social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  <a:ea typeface="Arial Unicode MS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  <a:ea typeface="Arial Unicode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  <a:ea typeface="Arial Unicode MS"/>
              </a:rPr>
              <a:t>derechos sociales y económicos aseguran la igualdad → estado de bienestar (política soci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33"/>
                </a:solidFill>
                <a:latin typeface="Garamond"/>
              </a:rPr>
              <a:t>Pobreza vs equidad (temas de debate)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Son objetivos de política disti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Superación de la pobre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10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crecimiento económ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10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políticas sociales focaliz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Fomento de la equ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10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redistribución del crecimiento vía impuest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10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política social univer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10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acuerdo soci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33"/>
                </a:solidFill>
                <a:latin typeface="Garamond"/>
              </a:rPr>
              <a:t>Ciudadanía (definiciones)</a:t>
            </a: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0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s-ES_tradnl" sz="3000" spc="-1" strike="noStrike">
                <a:solidFill>
                  <a:srgbClr val="000000"/>
                </a:solidFill>
                <a:latin typeface="Garamond"/>
              </a:rPr>
              <a:t>Estatus que se concede a los miembros de pleno derecho de una comunidad. Sus beneficiarios son iguales en cuanto a los derechos y obligaciones que implica” (T.H. Marshall, Ciudadanía y clase soci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Garamond"/>
              </a:rPr>
              <a:t>Derechos civiles, políticos y soci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Garamond"/>
              </a:rPr>
              <a:t>4 modelos de ciudadanía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conservado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socialdemócrat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comunitari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republica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Modelo conservador (neoliberal)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"/>
          <p:cNvSpPr/>
          <p:nvPr/>
        </p:nvSpPr>
        <p:spPr>
          <a:xfrm>
            <a:off x="468360" y="1776240"/>
            <a:ext cx="201600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erechos y deberes de ciudadan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3791880"/>
            <a:ext cx="2016000" cy="1557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lación del Estado con sus ciudad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48000" y="1415160"/>
            <a:ext cx="5327640" cy="19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iudadano posee derechos civiles, políticos y sociales. Énfasis en derechos civiles (y político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Votar periódicamente para la elección de sus representan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48000" y="3463920"/>
            <a:ext cx="5327640" cy="26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Mínima. Estado regulador y subsidiario. Ciudadanos esperan la mínima interferencia posible del Estado en su vida privada, respeto y reconocimiento de sus derechos civ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iudadano inactivo: no partici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00360" y="2205000"/>
            <a:ext cx="360360" cy="287280"/>
          </a:xfrm>
          <a:prstGeom prst="rightArrow">
            <a:avLst>
              <a:gd name="adj1" fmla="val 50000"/>
              <a:gd name="adj2" fmla="val 3136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700360" y="4437000"/>
            <a:ext cx="360360" cy="287280"/>
          </a:xfrm>
          <a:prstGeom prst="rightArrow">
            <a:avLst>
              <a:gd name="adj1" fmla="val 50000"/>
              <a:gd name="adj2" fmla="val 3136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Modelo socialdemócrata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"/>
          <p:cNvSpPr/>
          <p:nvPr/>
        </p:nvSpPr>
        <p:spPr>
          <a:xfrm>
            <a:off x="250920" y="1776240"/>
            <a:ext cx="201600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erechos y deberes de ciudadan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4007880"/>
            <a:ext cx="2016000" cy="1557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lación del Estado con sus ciudad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987640" y="1161000"/>
            <a:ext cx="59054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iudadano sujeto de derechos civiles, políticos y sociales. Énfasis en derechos soci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Votar periódicamente para la elección de sus representantes; pagar impuestos a cambio de servicios</a:t>
            </a:r>
            <a:r>
              <a:rPr b="1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87640" y="3430440"/>
            <a:ext cx="5905440" cy="26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Estado garante del bienestar. Ciudadanos poseen derechos en tanto cumplen sus obligaci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iudadanos esperan rol social del estado omniprotec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iudadano reactivo: participa como respuesta a problemas que le afect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060640"/>
            <a:ext cx="360360" cy="287280"/>
          </a:xfrm>
          <a:prstGeom prst="rightArrow">
            <a:avLst>
              <a:gd name="adj1" fmla="val 50000"/>
              <a:gd name="adj2" fmla="val 3136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4365720"/>
            <a:ext cx="360360" cy="287280"/>
          </a:xfrm>
          <a:prstGeom prst="rightArrow">
            <a:avLst>
              <a:gd name="adj1" fmla="val 50000"/>
              <a:gd name="adj2" fmla="val 3136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Modelo Comunitario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"/>
          <p:cNvSpPr/>
          <p:nvPr/>
        </p:nvSpPr>
        <p:spPr>
          <a:xfrm>
            <a:off x="324000" y="1776240"/>
            <a:ext cx="201600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erechos y deberes de ciudadan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5280" y="3863160"/>
            <a:ext cx="2016000" cy="1557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lación del Estado con sus ciudad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03640" y="1049400"/>
            <a:ext cx="5327640" cy="26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iudadano posee derechos civiles, políticos y sociales, pero subordinados al ejercicio de la responsabilidad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Alta valoración de la responsabilidad social en la mantención del orden</a:t>
            </a:r>
            <a:r>
              <a:rPr b="1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03640" y="3501720"/>
            <a:ext cx="5327640" cy="26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Mediada por la comunid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iudadanos esperan que el estado sea garante de los valores definidos por la comunid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iudadano activo: participa por que se siente miembro de una comunidad concr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627280" y="2205000"/>
            <a:ext cx="360360" cy="287280"/>
          </a:xfrm>
          <a:prstGeom prst="rightArrow">
            <a:avLst>
              <a:gd name="adj1" fmla="val 50000"/>
              <a:gd name="adj2" fmla="val 3136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4508640"/>
            <a:ext cx="360360" cy="287280"/>
          </a:xfrm>
          <a:prstGeom prst="rightArrow">
            <a:avLst>
              <a:gd name="adj1" fmla="val 50000"/>
              <a:gd name="adj2" fmla="val 3136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Modelo Republicano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1703160"/>
            <a:ext cx="201600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erechos y deberes de ciudadan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4000" y="3863160"/>
            <a:ext cx="2016000" cy="1557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lación del Estado con sus ciudad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03640" y="905040"/>
            <a:ext cx="5327640" cy="26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iudadano sujeto de derechos civiles, políticos, sociales y cultu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Ejercicio de derechos exigen contraprestación de deberes cívicos asociados a una vida virtu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03640" y="3103560"/>
            <a:ext cx="5327640" cy="302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Acción estatal requiere de ciudadanos activos, comprometidos con el bien comú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iudadanos se conciben como co-participes en la consecución de una sociedad justa y equit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Garamond"/>
              </a:rPr>
              <a:t>Ciudadano activo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: participa por que le preocupa el bien común</a:t>
            </a:r>
            <a:r>
              <a:rPr b="1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56000" y="2133720"/>
            <a:ext cx="360360" cy="287280"/>
          </a:xfrm>
          <a:prstGeom prst="rightArrow">
            <a:avLst>
              <a:gd name="adj1" fmla="val 50000"/>
              <a:gd name="adj2" fmla="val 3136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56000" y="4437000"/>
            <a:ext cx="360360" cy="287280"/>
          </a:xfrm>
          <a:prstGeom prst="rightArrow">
            <a:avLst>
              <a:gd name="adj1" fmla="val 50000"/>
              <a:gd name="adj2" fmla="val 3136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33"/>
                </a:solidFill>
                <a:latin typeface="Garamond"/>
              </a:rPr>
              <a:t>Debate sobre ciudadanía y capital social en América Latina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45160" indent="-24516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3000" spc="-1" strike="noStrike">
                <a:solidFill>
                  <a:srgbClr val="000000"/>
                </a:solidFill>
                <a:latin typeface="Garamond"/>
              </a:rPr>
              <a:t>Secuencia de evolución de los derechos de ciudadanía (Marshall) no se da en A. Latina: ampliación de derechos sociales tiene lugar en forma previa a la consagración universal de derechos civiles y polític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45160" indent="-24516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3000" spc="-1" strike="noStrike">
                <a:solidFill>
                  <a:srgbClr val="000000"/>
                </a:solidFill>
                <a:latin typeface="Garamond"/>
              </a:rPr>
              <a:t>Forma de construcción de la relación entre el Estado y los ciudadanos: procesos de luchas de integración versus construcción de la sociedad desde la exclusión y discriminación (desconfianza en las relaciones interpersonal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33"/>
                </a:solidFill>
                <a:latin typeface="Garamond"/>
              </a:rPr>
              <a:t>Debate sobre ciudadanía y capital social en América Latina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48040" indent="-2480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Reconocimiento de derechos versus preocupaciones centradas en la consolidación de la democrac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2516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América Latina: rezago en las garantías de derech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2516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Énfasis en profundizar la democracia, establecer formas más sólidas de convivencia y mejorar las condiciones de vida para las person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3000" spc="-1" strike="noStrike">
                <a:solidFill>
                  <a:srgbClr val="000000"/>
                </a:solidFill>
                <a:latin typeface="Garamond"/>
              </a:rPr>
              <a:t>Análisis de  formas emergentes de ciudadanía en el marco del desplazamiento del Estado hacia la sociedad de merca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33"/>
                </a:solidFill>
                <a:latin typeface="Garamond"/>
              </a:rPr>
              <a:t>Debate sobre ciudadanía y capital social en América Latina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48040" indent="-2480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Cambios en la ciudadanía a partir de los cambios que tienen lugar en la sociedad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25160">
              <a:lnSpc>
                <a:spcPct val="8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Individualización, predominio del mercado, crisis de la política, retraimiento del Estado Social, debilitamiento del vínculo social</a:t>
            </a: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25160">
              <a:lnSpc>
                <a:spcPct val="8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Procesos de cambio se entienden como tendencias irreversibles del mundo contemporáne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25160">
              <a:lnSpc>
                <a:spcPct val="8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Se liga ciudadanía a gobernabilidad democrát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Particip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Reivindicación de formas de ciudadanía local (capital soci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Ciudadanía en Chile se encuentra poco desarrollad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95280" y="188928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Predominan valores individualista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Escasa valoración de la política y el espacio público como lugares de encuentro y resolución de problemas colectiv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Escasa conciencia de posesión de derechos social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Problemas para la materialización de derechos: pobreza y desigual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Escasa motivación a la participació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Percepciones ciudadanas diferenciadas por NSE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6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Los pobres están más disconformes con el modelo económico y manifiestan mayor distancia respecto de la política que el conjunto de la població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Entre los pobres se percibe en mayor medida el predominio de valores políticos y económicos liberales y se constata un sentimiento generalizado de impotencia respecto de la posibilidad de influir sobre el curso de los acontecimiento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Los pobres tienen mayor conciencia de la desigualdad y la vivencian como discriminación e injusticia, pero tienen menos información sobre sus derechos y menos herramientas para reclamarlo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6633"/>
                </a:solidFill>
                <a:latin typeface="Garamond"/>
              </a:rPr>
              <a:t>Tendencias hacia el fomento de la equidad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Tematización de derechos sociales de ciudadanía: cambiar el foco de la asistencia a los derech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Mínimos” sociales garantizados (¿derechos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Responsabilizar a los individuos por sus condiciones de v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10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Exigencia de contraprest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10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Lógica perver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476360" y="5493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Garamond"/>
              </a:rPr>
              <a:t>Esfuerz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41440" y="1348200"/>
            <a:ext cx="3163680" cy="14263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Ampliar / modificar políticas soc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41440" y="4515840"/>
            <a:ext cx="3163680" cy="18572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Aumentar participación y fortalecer ciudadan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300720" y="1268280"/>
            <a:ext cx="2160720" cy="1472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Disminuye pobre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Se mantiene desigual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372360" y="4365720"/>
            <a:ext cx="2160360" cy="2082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Participación instrum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Ciudadanos no se apropian de los espacios públ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40360" y="1916280"/>
            <a:ext cx="1873080" cy="360360"/>
          </a:xfrm>
          <a:prstGeom prst="rightArrow">
            <a:avLst>
              <a:gd name="adj1" fmla="val 50000"/>
              <a:gd name="adj2" fmla="val 129945"/>
            </a:avLst>
          </a:prstGeom>
          <a:solidFill>
            <a:srgbClr val="3b81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211640" y="5229360"/>
            <a:ext cx="1873080" cy="360360"/>
          </a:xfrm>
          <a:prstGeom prst="rightArrow">
            <a:avLst>
              <a:gd name="adj1" fmla="val 50000"/>
              <a:gd name="adj2" fmla="val 129945"/>
            </a:avLst>
          </a:prstGeom>
          <a:solidFill>
            <a:srgbClr val="3b81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492360" y="3201840"/>
            <a:ext cx="2595600" cy="109980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Garamond"/>
              </a:rPr>
              <a:t>DERECHOS SO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740720" y="3068640"/>
            <a:ext cx="431640" cy="1008000"/>
          </a:xfrm>
          <a:custGeom>
            <a:avLst/>
            <a:gdLst>
              <a:gd name="textAreaLeft" fmla="*/ 57600 w 431640"/>
              <a:gd name="textAreaRight" fmla="*/ 374040 w 431640"/>
              <a:gd name="textAreaTop" fmla="*/ 176400 h 1008000"/>
              <a:gd name="textAreaBottom" fmla="*/ 7308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b81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10517400">
            <a:off x="6876720" y="2997000"/>
            <a:ext cx="431640" cy="1008000"/>
          </a:xfrm>
          <a:custGeom>
            <a:avLst/>
            <a:gdLst>
              <a:gd name="textAreaLeft" fmla="*/ 57600 w 431640"/>
              <a:gd name="textAreaRight" fmla="*/ 374040 w 431640"/>
              <a:gd name="textAreaTop" fmla="*/ 176400 h 1008000"/>
              <a:gd name="textAreaBottom" fmla="*/ 7308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b81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372360" y="54936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Garamond"/>
              </a:rPr>
              <a:t>Resul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6633"/>
                </a:solidFill>
                <a:latin typeface="Garamond"/>
              </a:rPr>
              <a:t>Protección social y riesgo: </a:t>
            </a:r>
            <a:br>
              <a:rPr sz="3400"/>
            </a:br>
            <a:r>
              <a:rPr b="1" lang="es-ES_tradnl" sz="3400" spc="-1" strike="noStrike">
                <a:solidFill>
                  <a:srgbClr val="006633"/>
                </a:solidFill>
                <a:latin typeface="Garamond"/>
              </a:rPr>
              <a:t>mirada “tradicional”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Garamond"/>
              </a:rPr>
              <a:t>Riesgos asociados al trabaj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Perder capacidad de trabajo por enfermedad, accidente o e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Perder el trabajo (desempleo, cesantí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Garamond"/>
              </a:rPr>
              <a:t>Protección a través de polític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Labor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Previsión so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Inversión en capital humano (educación, salu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Redes de seguridad para los más pobres (empleo emergencia, subsidio único familiar, pensión asistencia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Garamond"/>
              </a:rPr>
              <a:t>Actor central: Estado, política públ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Garamond"/>
              </a:rPr>
              <a:t>Protección social y riesgo: mirada del enfoque de Manejo Social del Riesgo (MSR)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000" y="1828800"/>
            <a:ext cx="8007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Diversificación de los riesgos: naturales, salud, ciclo vital, sociales, económicos, políticos, ambientales  (no solo trabaj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Riesgo: se expresan en quiebre de ingresos o incremento en necesidades de subsistenci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Pueden tener origen a nivel macro (social, económico o político),  a nivel meso o a nivel micro (familia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Características del riesg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Correlación (idiosincráticos y covariad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Frecue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Intensidad (severidad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Riesgo varían según su severidad, frecuencia y número de afectado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38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80880" y="1371600"/>
          <a:ext cx="8305920" cy="4673520"/>
        </p:xfrm>
        <a:graphic>
          <a:graphicData uri="http://schemas.openxmlformats.org/drawingml/2006/table">
            <a:tbl>
              <a:tblPr/>
              <a:tblGrid>
                <a:gridCol w="1482840"/>
                <a:gridCol w="1808280"/>
                <a:gridCol w="2423880"/>
                <a:gridCol w="1435320"/>
                <a:gridCol w="1155600"/>
              </a:tblGrid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Fuente de riesg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icr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Idiosincrátic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Individual o famili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es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Local / subnacional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acro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Nacionales/ regional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acr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undial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Internacio-nal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Natural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Lluvias – inundacion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Erupciones volcánic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Deslizamientos de tierr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Tornad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Los anteriores 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Terremot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Salu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Enfermeda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Lesion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Discapacida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Epidemi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Epidemia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Epidemi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Ciclo vital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Nacimien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Ancianidad Muer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Social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Crímen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Delincuenci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Violencia Intrafamilia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Terrorism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Pandill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Conmoción civi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Guerr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Disturbios social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304920" y="152280"/>
            <a:ext cx="84978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6633"/>
                </a:solidFill>
                <a:latin typeface="Garamond"/>
                <a:ea typeface="Arial"/>
              </a:rPr>
              <a:t>Fuentes de riesgo y a quienes afecta (idiosincráticos o covariados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851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6633"/>
                </a:solidFill>
                <a:latin typeface="Garamond"/>
                <a:ea typeface="Arial"/>
              </a:rPr>
              <a:t>Fuentes de riesgo y a quienes afecta (idiosincráticos o covariados)</a:t>
            </a:r>
            <a:br>
              <a:rPr sz="3400"/>
            </a:b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85800" y="1447920"/>
          <a:ext cx="8007480" cy="4376520"/>
        </p:xfrm>
        <a:graphic>
          <a:graphicData uri="http://schemas.openxmlformats.org/drawingml/2006/table">
            <a:tbl>
              <a:tblPr/>
              <a:tblGrid>
                <a:gridCol w="1601640"/>
                <a:gridCol w="1602000"/>
                <a:gridCol w="1600200"/>
                <a:gridCol w="1601640"/>
                <a:gridCol w="1602000"/>
              </a:tblGrid>
              <a:tr h="100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Fuente de riesg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icr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Idiosincrátic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Individual o famili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es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Local / subnacional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acro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Nacionales/ regional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acr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undial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Internacional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Económica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Desemple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igración y reasentamien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Perdida de competitividad de produc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Anteriores 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Desequilibrios macros y políticas de ajust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Política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Discriminación étnica y raci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ovilizaciones sociales masiv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Inestabilidad polític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Golpes de Estad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Ambiental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Contaminació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Deforestació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Garamond"/>
              </a:rPr>
              <a:t>Protección social y riesgo: mirada del enfoque de Manejo Social del Riesgo (MSR)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1699920"/>
            <a:ext cx="8381880" cy="46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aramond"/>
              </a:rPr>
              <a:t>Estrategias para abordar el riesgo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10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Prevención: reduce la probabilidad del riesgo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10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Mitigación: disminuye el posible efecto de un riesgo antes de ocurrir est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10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Superación: aliviar el impacto del riesgo una vez que se ha producido </a:t>
            </a: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aramond"/>
              </a:rPr>
              <a:t>Instrumentos o mecanismos en las estrategias para abordar los riesgos según su nivel de formalida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10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Sistema informales: autoprotección y familiares y comunitario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10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Sistemas de mercado: activos financieros y póliza de segur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10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Provistos o ordenados por el sector público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10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Propuesta central es aseguramiento y diversificacion de carteras y segur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Garamond"/>
              </a:rPr>
              <a:t>Protección social y riesgo: mirada del enfoque de Manejo Social del Riesgo (MSR)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661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aramond"/>
              </a:rPr>
              <a:t>Actores principales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Individuos / hogares, comunidades / O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Bancos y compañías de segur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Gobiern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Instituciones internacionales que ofrecen sistemas de MS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Estos actores ofrecen sistemas de MSR pero también por su actividad generan riesgo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00:09:26Z</dcterms:created>
  <dc:creator>Ignacia Fernandez</dc:creator>
  <dc:description/>
  <dc:language>en-US</dc:language>
  <cp:lastModifiedBy>Ignacia Fernandez</cp:lastModifiedBy>
  <dcterms:modified xsi:type="dcterms:W3CDTF">2008-10-07T01:38:57Z</dcterms:modified>
  <cp:revision>37</cp:revision>
  <dc:subject/>
  <dc:title>Diapositiva 1</dc:title>
</cp:coreProperties>
</file>