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FCC-0A3A-46D7-9383-6FFE209E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89E-A9C1-42F5-99DC-B29F421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907-BBB1-4089-9DC9-19719E15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C4D-3FD1-4CC6-B58B-F9924FB3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5EBB-D43F-4D87-B4BC-75667BEE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07C0-37D3-4AB3-B77E-D1BE5F9A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B082-AF84-4164-BD5F-06C66D74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EDF2-F0D8-40F7-94E0-7E6ACCB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5C9A-4ED8-470D-8F2F-68F2A392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EE8-0435-4B66-8F0B-7A9F376F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2978-20FB-4ADE-9622-AC63A21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C19-0FB3-4BA0-B3DA-8922A003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BE1-63EF-4932-9814-633F933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B60F-19C6-43B3-9D53-F48EE08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4D7-5990-4325-8F32-B7FD99F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74CF-945C-4068-9AFF-725782D5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4D14-8472-4F01-B01B-7E71DFDF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4FF-FD6D-4FA6-ADE5-8551877D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0AA-30DB-4DFE-A1C6-4157D89E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D2D-4B54-4FB4-B7CE-A2C53CE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157-6C19-4025-9AF4-290F0745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CA3-C6EA-49CB-ABE6-09B4014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EF7-9E28-4425-AC49-3F9620E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40C-B055-45CF-BB2C-ADED5E32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C622-327C-418D-8C01-49CD365B8C1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5B7-AC14-44B8-810B-B0D4B3E2824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6. La instalación del modelo de protección social y los debates de ciudadanía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11200"/>
          <a:ext cx="8425080" cy="543888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0328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bajo el enfoque d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Garamond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Funciones que el enfoque define al gobierno en 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jecutar medidas de política para la prevención del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cilitar el establecimiento de instituciones financieras de mercado, supervisar y fiscalizar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tregar instrumentos de MSR en aquellas áreas donde el sector privado no funciona bien  o donde los individuos carecen de información paras cubrirse adecuad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porcionar redes de protección social para aliviar el efecto de los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cretar la redistribución de ingresos si los resultados de mercado se consideran inaceptables desde el punto de vista del bienestar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isión algo mas compleja y mutivariable de la pobreza y mas centrada en cau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plantea la idea de transferencias condicionadas y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Unidad de intervención es la famil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texto reconoce la importancia de fortalecer voz y capacidades en sectores pobres y de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conoce también la centralidad de variables políticas y de p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cluye o amplia el espectro de actores o agentes pero supone que siguen lógicas de acción determinadas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crític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nfoque centrado en el individuo/familia 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obreenfatiza costos y inefectividad de los sistemas informales, privilegia los de mercado y  acepta los públicos “siempre que estén bien diseñados” (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hay mención al financiamiento de los sistemas (solidario o individu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Aplicación instrumental del enfoque: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HILE, FOSIS,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Siguiendo una parte de las categorías incluidas en el enfoque de MSR elabora una matriz de análisis de riesgo por región y comun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La matriz 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El  panorama se complementa con una “mapa de oportunidades” que representa la oferta programática del FOSIS y de otros en el  territo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aramond"/>
              </a:rPr>
              <a:t>Preguntas / du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¿Sobre énfasis en carencias y escasamente en  potencialidades de desarrollo? Define acciones en lógica de défic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ebilidad factores de riesgo y protectores en el nivel comuni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apel municipio, gestión y desarrollo lo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imensiones del enfoque de MSR que no incluye: riesgos a niveles meso y mac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eocupaciones / riesgos de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tom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ecnologización de la a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lient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mbitos propi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empleo -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comunitaria -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iudadanía (definiciones teóricas)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osesión formal y real de 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liberación, debate público y participación activa en la construcción de un proyecto de soc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formación, interés por los asuntos públicos, plena integración a la sociedad política, económica y 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s dimensiones de ciudadan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Dimensión polític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rechos civiles y políticos aseguran la libertad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estado de derec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  <a:ea typeface="Arial Unicode MS"/>
              </a:rPr>
              <a:t>Dimensión social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rechos sociales y económicos aseguran la igualdad → estado de bienestar (política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obreza vs equidad (temas de debate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on objetivos de política disti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uperación de la 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recimiento económ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s sociales foc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Fomento de la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distribución del crecimiento vía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 social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cuerd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Ciudadanía (definiciones)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Estatus que se concede a los miembros de pleno derecho de una comunidad. Sus beneficiarios son iguales en cuanto a los derechos y obligaciones que implica” (T.H. Marshall, Ciudadanía y clase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4 modelos de ciudadaní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rvad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ocialdemócr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unit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public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nservador (neoliberal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91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415160"/>
            <a:ext cx="5327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. Énfasis en derechos civiles (y políti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639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ínima. Estado regulador y subsidiario. Ciudadanos esperan la mínima interferencia posible del Estado en su vida privada, respeto y reconocimiento de sus derechos ci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inactivo: no partic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socialdemócra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7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1161000"/>
            <a:ext cx="590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 y sociales. Énfasis en derecho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; pagar impuestos a cambio de servicios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430440"/>
            <a:ext cx="59054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ado garante del bienestar. Ciudadanos poseen derechos en tanto cumplen sus oblig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rol social del estado omni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reactivo: participa como respuesta a problemas que le 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060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365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munitar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104940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, pero subordinados al ejercicio de la responsab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lta valoración de la responsabilidad social en la mantención del orde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017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ediada por la comu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que el estado sea garante de los valores definidos por la comu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activo: participa por que se siente miembro de una comunidad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50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Republican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316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90504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, soci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jercicio de derechos exigen contraprestación de deberes cívicos asociados a una vida virtu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103560"/>
            <a:ext cx="532764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cción estatal requiere de ciudadanos activos, comprometidos con el bien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se conciben como co-participes en la consecución de una sociedad justa y equ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aramond"/>
              </a:rPr>
              <a:t>Ciudadano activo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: participa por que le preocupa el bien comú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133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Secuencia de evolución de los derechos de ciudadanía (Marshall) no se da en A. Latina: ampliación de derechos sociales tiene lugar en forma previa a la consagración universal de derechos civiles y polít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Forma de construcción de la relación entre el Estado y los ciudadanos: procesos de luchas de integración versus construcción de la sociedad desde la exclusión y discriminación (desconfianza en las relaciones interpersona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Reconocimiento de derechos versus preocupaciones centradas en la consolidación de la democra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América Latina: rezago en las garantía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Énfasis en profundizar la democracia, establecer formas más sólidas de convivencia y mejorar las condiciones de vida para las perso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Análisis de  formas emergentes de ciudadanía en el marco del desplazamiento del Estado hacia la sociedad de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 ciudadanía a partir de los cambios que tienen lugar en la socie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Individualización, predominio del mercado, crisis de la política, retraimiento del Estado Social, debilitamiento del vínculo social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cesos de cambio se entienden como tendencias irreversibles del mundo contemporán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liga ciudadanía a gobernabilidad democr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ivindicación de formas de ciudadanía local (capital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iudadanía en Chile se encuentra poco desarroll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dominan valores individualis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valoración de la política y el espacio público como lugares de encuentro y resolución de problemas cole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conciencia de posesión de derech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oblemas para la materialización de derechos: pobreza y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motivación a la participa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cepciones ciudadanas diferenciadas por 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están más disconformes con el modelo económico y manifiestan mayor distancia respecto de la política que el conjunto de la pobl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re los pobres se percibe en mayor medida el predominio de valores políticos y económicos liberales y se constata un sentimiento generalizado de impotencia respecto de la posibilidad de influir sobre el curso de los acontecimien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tienen mayor conciencia de la desigualdad y la vivencian como discriminación e injusticia, pero tienen menos información sobre sus derechos y menos herramientas para reclamarl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Tendencias hacia el fomento de la equida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Tematización de derechos sociales de ciudadanía: cambiar el foco de la asistencia a los der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ínimos” sociales garantizados (¿derech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ponsabilizar a los individuos por sus condicion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xigencia de contra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ógica per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348200"/>
            <a:ext cx="3163680" cy="142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mpliar / modificar polític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4515840"/>
            <a:ext cx="3163680" cy="1857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mentar participación y fortalecer ciudadan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268280"/>
            <a:ext cx="2160720" cy="147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Disminuy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 mantiene des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365720"/>
            <a:ext cx="2160360" cy="2082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articipación instr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iudadanos no se apropian de los 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191628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22936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201840"/>
            <a:ext cx="2595600" cy="10998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DERECHO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06864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517400">
            <a:off x="6876720" y="299700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4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Protección social y riesg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rada “tradicional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Riesgos asociados al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Protección a través de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ctor central: Estado,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iversificación de los riesgos: naturales, salud, ciclo vital, sociales, económicos, políticos, ambientales  (no solo trabaj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: se expresan en quiebre de ingresos o incremento en necesidades de subsiste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ueden tener origen a nivel macro (social, económico o político),  a nivel meso o a nivel micro (famil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aracterísticas del ries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orrelación (idiosincráticos y covar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r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tensidad (severid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 varían según su severidad, frecuencia y número de afect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71600"/>
          <a:ext cx="8305920" cy="4673520"/>
        </p:xfrm>
        <a:graphic>
          <a:graphicData uri="http://schemas.openxmlformats.org/drawingml/2006/table">
            <a:tbl>
              <a:tblPr/>
              <a:tblGrid>
                <a:gridCol w="1482840"/>
                <a:gridCol w="1808280"/>
                <a:gridCol w="2423880"/>
                <a:gridCol w="1435320"/>
                <a:gridCol w="11556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-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tur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luvias – inund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rupciones volcán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lizamientos de tier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rn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s 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emo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erme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s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iclo vi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cianidad Muer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íme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incu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olencia Intrafamili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or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ndill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moción civ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uer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turbios 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447920"/>
          <a:ext cx="8007480" cy="437652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0200"/>
                <a:gridCol w="1601640"/>
                <a:gridCol w="16020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conóm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mple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 y reasenta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dida de competitividad de 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quilibrios macros y políticas de ajus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olít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riminación étnica y ra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ciones sociales mas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estabilidad polí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olpes de Es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mbi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tamin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fores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381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Estrategias para abordar 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evención: reduce la probabilidad d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Mitigación: disminuye el posible efecto de un riesgo antes de ocurrir es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uperación: aliviar el impacto del riesgo una vez que se ha producido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Instrumentos o mecanismos en las estrategias para abordar los riesgos según su nivel de forma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 informales: autoprotección y familiares y comunitari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s de mercado: activos financieros y póliza de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vistos o ordenados por el sector públ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puesta central es aseguramiento y diversificacion de carter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ctores principal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dividuos / hogares, comunidades / 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stituciones internacionales que ofrecen sistemas de M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8:57Z</dcterms:modified>
  <cp:revision>37</cp:revision>
  <dc:subject/>
  <dc:title>Diapositiva 1</dc:title>
</cp:coreProperties>
</file>