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66F8-8BB0-402C-8875-61CC8A8C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23D8-3904-4C3B-A9DB-7B8290E8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2B64-6154-422E-B095-C779DBD37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3478-7E97-4976-ABCB-5ECC64675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85AE-3ADC-4D7A-AFAD-9443EAADE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C63D-5B12-44CA-880A-33031D00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2392-D0F3-4830-B616-DE607EBC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B500-404E-447C-8473-703B3816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0EA5-80A7-4605-876B-115CE9F4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571F-CD0F-4AE2-93C6-84D8E688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8DD17-9DCC-4065-A7F4-F8F87852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0F92-747C-46E8-A92E-53B133BB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36B8-E4D5-4005-8C50-A12789CE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1ED2-F4BB-4FC0-A1A0-917A76AE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D791-E5EE-49CA-B420-C2A9B511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44F6-710B-40D0-99EE-9E5B1798F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98D6-0C4E-4ECD-84B6-E3EFDE228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4658-B2EE-4680-9954-E9A23475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B54D-9D2F-45C1-868E-01F44C1E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FAD3-1D8E-46F4-BA99-9B12307D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AD05-7DAB-4A2C-BDB2-411FEE52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A2BC-C158-4504-83BB-71149F82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A982-D456-4373-821D-483E8AF3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8602-F59B-4B92-9372-D1D158E0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016B-C810-40E7-909C-2D7786DA054C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FEE6-4054-45A7-8231-F2C592A5A001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5327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TERCER MÓDULO: </a:t>
            </a:r>
            <a:br>
              <a:rPr sz="4000"/>
            </a:b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NUEVOS ENFOQUES Y ESCENARIOS DE FIN DE SIGLO</a:t>
            </a:r>
            <a:br>
              <a:rPr sz="40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ema 6. La instalación del modelo de protección social y los debates de ciudadanía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79280" y="4436640"/>
            <a:ext cx="6553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gnacia Fernánde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oviembre de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80880" y="511200"/>
          <a:ext cx="8425080" cy="5438880"/>
        </p:xfrm>
        <a:graphic>
          <a:graphicData uri="http://schemas.openxmlformats.org/drawingml/2006/table">
            <a:tbl>
              <a:tblPr/>
              <a:tblGrid>
                <a:gridCol w="1683000"/>
                <a:gridCol w="1685880"/>
                <a:gridCol w="1685880"/>
                <a:gridCol w="1685880"/>
                <a:gridCol w="1684440"/>
              </a:tblGrid>
              <a:tr h="291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strategia par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canismo inf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canismo f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dividual /famili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omunid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rc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stado – politicas y regulaciones san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. ESTRATEGIAS APLICADAS ANTES DE QUE SE PRODUZCA EL RIESG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6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Reducir ocurrencia del riesgo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 (prevención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racticas de salud preventiv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igra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iversificación de fuentes de ingreso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vitar fuentes de ingreso riesgos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iversificación de la produc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vertir en educación y salu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Organización comunitaria para prevenir desastres naturales, de clima, productivo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versión de las empresas  en trabajadores y su familia, capacitació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acroeconómicas Ambientales Salud públ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ducacional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fraestructura Laboral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Normas y regulaciones sobre calidad y funcionamiento de los mercados y servicio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romoción social, expandir capacidade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itigar efecto del riesgo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. Reducir el potencial de repercusión en caso de materializarse el riesg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horro informal en bienes y diner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Lazos de reciprocidad y ayuda mutua en la famil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horro, crédito comunitar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ultivar lazos de reciprocidad y ayuda mutua comunitari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Fortalecer capital so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Seguros voluntarios (accidentes, discapacidad, muerte, salud, incendio, vejez, etc.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Seguros obligatorios de desempleo, vejez, enfermedad, etc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segurar  recursos para épocas de crisis y programas contraciclic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395280" y="503280"/>
          <a:ext cx="8640720" cy="5373720"/>
        </p:xfrm>
        <a:graphic>
          <a:graphicData uri="http://schemas.openxmlformats.org/drawingml/2006/table">
            <a:tbl>
              <a:tblPr/>
              <a:tblGrid>
                <a:gridCol w="1725480"/>
                <a:gridCol w="1730520"/>
                <a:gridCol w="1726920"/>
                <a:gridCol w="1730520"/>
                <a:gridCol w="1727280"/>
              </a:tblGrid>
              <a:tr h="520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strategia par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canismo inf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canismo f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dividual /famili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omunid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rc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stado – politicas y regulaciones san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B. ESTRATEGIA QUE SE APLICA UNA VEZ OCURRIDO EL RIESG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4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nfrentar  el riesgo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ovilizar activos desaprovechados del hog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Vender activos o bie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corporación de nuevos integrantes al emple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Reducir consumo y gas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Buscar / inventar fuentes e ingreso complementari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ctivación de prácticas de ayuda mutu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Retirar ahorr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redito y endeudami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Transferencias directa de bienes y servici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mpleo de emerge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Protección social bajo el enfoque del MSR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991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 u="sng">
                <a:solidFill>
                  <a:srgbClr val="000000"/>
                </a:solidFill>
                <a:uFillTx/>
                <a:latin typeface="Garamond"/>
              </a:rPr>
              <a:t>Protección social:</a:t>
            </a:r>
            <a:r>
              <a:rPr b="0" lang="es-ES_tradnl" sz="2300" spc="-1" strike="noStrike">
                <a:solidFill>
                  <a:srgbClr val="000000"/>
                </a:solidFill>
                <a:latin typeface="Garamond"/>
              </a:rPr>
              <a:t> Conjunto de intervenciones públicas dirigidas a apoyar a las personas, hogares y comunidades a mejorar su manejo del riesgo, particularmente a quienes se encuentran en extrema pobrez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Garamond"/>
              </a:rPr>
              <a:t>Función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Proteger subsistencia básica (red asistencial): prestar apoyo a los pobres en situación crític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Promover la disposición a asumir riesgos (trampolín para salir gradualmente de la  pobreza crónica ): proveer herramientas para prevenir, mitigar y aliviar situaciones de quiebre de ingreso; asistir a los individuos, hogares y comunidades a manejar el riesgo de mejor for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Funciones que el enfoque define al gobierno en el MSR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472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02640" indent="-29268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jecutar medidas de política para la prevención del ries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Facilitar el establecimiento de instituciones financieras de mercado, supervisar y fiscalizar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ntregar instrumentos de MSR en aquellas áreas donde el sector privado no funciona bien  o donde los individuos carecen de información paras cubrirse adecuadamen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Proporcionar redes de protección social para aliviar el efecto de los riesg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Decretar la redistribución de ingresos si los resultados de mercado se consideran inaceptables desde el punto de vista del bienestar soci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Comentarios al enfoqu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024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Va más allá de redes de protección asisten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Visión algo mas compleja y mutivariable de la pobreza y mas centrada en caus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e plantea la idea de transferencias condicionadas y la creación de un sistema de protección social (más que programas aislad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Unidad de intervención es la famili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El texto reconoce la importancia de fortalecer voz y capacidades en sectores pobres y de modificar conduc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Reconoce también la centralidad de variables políticas y de po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Incluye o amplia el espectro de actores o agentes pero supone que siguen lógicas de acción determinadas (racionalidad económica o utilitarist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Comentarios críticos al enfoqu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77738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Enfoque centrado en el individuo/familia  y decisiones económicas que tom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Sobreenfatiza costos y inefectividad de los sistemas informales, privilegia los de mercado y  acepta los públicos “siempre que estén bien diseñados” (no se explicita lo que sería un buen diseño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Restringe el sistema público a los sectores en pobreza: focalizad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No queda claro como se compatibiliza y prioriza entre quiebres transitorios y permanentes de ingreso (pobreza crónica) y si es efectivo que el enfoque contribuye a superar la pobreza crónic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No hay mención al financiamiento de los sistemas (solidario o individua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El enfoque es conceptual-analítico y no hace mención a la implementación y gestión de lo que propo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280" y="244440"/>
            <a:ext cx="83026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Aplicación instrumental del enfoque:</a:t>
            </a:r>
            <a:br>
              <a:rPr sz="3200"/>
            </a:b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CHILE, FOSIS, asignación territorial y programática de recursos</a:t>
            </a:r>
            <a:r>
              <a:rPr b="1" lang="es-ES_tradnl" sz="31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823760"/>
            <a:ext cx="836280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aramond"/>
              </a:rPr>
              <a:t>Siguiendo una parte de las categorías incluidas en el enfoque de MSR elabora una matriz de análisis de riesgo por región y comuna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aramond"/>
              </a:rPr>
              <a:t>La matriz  define grupos objetivos (etarios, familia y comunidad), identifica para cada uno el riesgo principal, si tiene o no las condiciones mínimas necesarias para enfrentar el riesgo principal de buena manera y si hay presencia de factores protectores 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aramond"/>
              </a:rPr>
              <a:t>El  panorama se complementa con una “mapa de oportunidades” que representa la oferta programática del FOSIS y de otros en el  territori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Garamond"/>
              </a:rPr>
              <a:t>Preguntas / dud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Garamond"/>
              </a:rPr>
              <a:t>¿Sobre énfasis en carencias y escasamente en  potencialidades de desarrollo? Define acciones en lógica de déficit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Garamond"/>
              </a:rPr>
              <a:t>Debilidad factores de riesgo y protectores en el nivel comunitar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Garamond"/>
              </a:rPr>
              <a:t>Papel municipio, gestión y desarrollo loc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Garamond"/>
              </a:rPr>
              <a:t>Pertinencia en y para los territorios específicos. ¿útil para asignación de recursos globales? ¿Dificultades en lo que concierne asignación programática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Garamond"/>
              </a:rPr>
              <a:t>Dimensiones del enfoque de MSR que no incluye: riesgos a niveles meso y macr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Preocupaciones / riesgos del enfoqu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2723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Individual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Atom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Tecnologización de la acción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pend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liente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svinculación ámbitos propios del 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svinculación área empleo -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svinculación área comunitaria - capital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33"/>
                </a:solidFill>
                <a:latin typeface="Garamond"/>
              </a:rPr>
              <a:t>Ciudadanía (definiciones teóricas)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Posesión formal y real de derechos civiles, políticos y soc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Deliberación, debate público y participación activa en la construcción de un proyecto de socie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Información, interés por los asuntos públicos, plena integración a la sociedad política, económica y cultur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Dos dimensiones de ciudadaní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aramond"/>
              </a:rPr>
              <a:t>Dimensión política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derechos civiles y políticos aseguran la libertad 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  <a:ea typeface="Times New Roman"/>
              </a:rPr>
              <a:t>→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estado de derech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aramond"/>
                <a:ea typeface="Arial Unicode MS"/>
              </a:rPr>
              <a:t>Dimensión social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  <a:ea typeface="Arial Unicode MS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  <a:ea typeface="Arial Unicode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  <a:ea typeface="Arial Unicode MS"/>
              </a:rPr>
              <a:t>derechos sociales y económicos aseguran la igualdad → estado de bienestar (política soci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33"/>
                </a:solidFill>
                <a:latin typeface="Garamond"/>
              </a:rPr>
              <a:t>Pobreza vs equidad (temas de debate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Son objetivos de política disti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Superación de la pobr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crecimiento económ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políticas sociales focaliz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Fomento de la equ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redistribución del crecimiento vía impues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política social univer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acuerdo soc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33"/>
                </a:solidFill>
                <a:latin typeface="Garamond"/>
              </a:rPr>
              <a:t>Ciudadanía (definiciones)</a:t>
            </a: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Estatus que se concede a los miembros de pleno derecho de una comunidad. Sus beneficiarios son iguales en cuanto a los derechos y obligaciones que implica” (T.H. Marshall, Ciudadanía y clase soci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Derechos civiles, políticos y soc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4 modelos de ciudadaní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onservado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socialdemócrat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omunitari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republica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Modelo conservador (neoliberal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1776240"/>
            <a:ext cx="201600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rechos y deberes de ciudadan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3791880"/>
            <a:ext cx="201600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lación del Estado con sus ciudad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48000" y="1415160"/>
            <a:ext cx="532764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 posee derechos civiles, políticos y sociales. Énfasis en derechos civiles (y político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Votar periódicamente para la elección de sus representan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48000" y="3463920"/>
            <a:ext cx="532764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Mínima. Estado regulador y subsidiario. Ciudadanos esperan la mínima interferencia posible del Estado en su vida privada, respeto y reconocimiento de sus derechos civ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 inactivo: no partici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00360" y="220500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00360" y="443700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Modelo socialdemócrat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1776240"/>
            <a:ext cx="201600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rechos y deberes de ciudadan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4007880"/>
            <a:ext cx="201600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lación del Estado con sus ciudad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87640" y="1161000"/>
            <a:ext cx="59054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 sujeto de derechos civiles, políticos y sociales. Énfasis en derechos soc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Votar periódicamente para la elección de sus representantes; pagar impuestos a cambio de servicios</a:t>
            </a:r>
            <a:r>
              <a:rPr b="1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430440"/>
            <a:ext cx="590544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stado garante del bienestar. Ciudadanos poseen derechos en tanto cumplen sus obliga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s esperan rol social del estado omniprotec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 reactivo: participa como respuesta a problemas que le afec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06064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436572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Modelo Comunitario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1776240"/>
            <a:ext cx="201600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rechos y deberes de ciudadan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3863160"/>
            <a:ext cx="201600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lación del Estado con sus ciudad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3640" y="1049400"/>
            <a:ext cx="532764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 posee derechos civiles, políticos y sociales, pero subordinados al ejercicio de la responsabilidad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Alta valoración de la responsabilidad social en la mantención del orden</a:t>
            </a:r>
            <a:r>
              <a:rPr b="1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3640" y="3501720"/>
            <a:ext cx="532764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Mediada por la comun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s esperan que el estado sea garante de los valores definidos por la comun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 activo: participa por que se siente miembro de una comunidad concr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27280" y="220500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450864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Modelo Republicano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1703160"/>
            <a:ext cx="201600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rechos y deberes de ciudadan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3863160"/>
            <a:ext cx="201600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lación del Estado con sus ciudad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3640" y="905040"/>
            <a:ext cx="532764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 sujeto de derechos civiles, políticos, sociales y cultu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jercicio de derechos exigen contraprestación de deberes cívicos asociados a una vida virtu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03640" y="3103560"/>
            <a:ext cx="5327640" cy="302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Acción estatal requiere de ciudadanos activos, comprometidos con el bien comú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iudadanos se conciben como co-participes en la consecución de una sociedad justa y equit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Garamond"/>
              </a:rPr>
              <a:t>Ciudadano activo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: participa por que le preocupa el bien común</a:t>
            </a:r>
            <a:r>
              <a:rPr b="1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56000" y="213372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443700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33"/>
                </a:solidFill>
                <a:latin typeface="Garamond"/>
              </a:rPr>
              <a:t>Debate sobre ciudadanía y capital social en América Latin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45160" indent="-24516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Secuencia de evolución de los derechos de ciudadanía (Marshall) no se da en A. Latina: ampliación de derechos sociales tiene lugar en forma previa a la consagración universal de derechos civiles y polít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5160" indent="-24516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Forma de construcción de la relación entre el Estado y los ciudadanos: procesos de luchas de integración versus construcción de la sociedad desde la exclusión y discriminación (desconfianza en las relaciones interpersonal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33"/>
                </a:solidFill>
                <a:latin typeface="Garamond"/>
              </a:rPr>
              <a:t>Debate sobre ciudadanía y capital social en América Latin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48040" indent="-2480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Reconocimiento de derechos versus preocupaciones centradas en la consolidación de la democrac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2516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América Latina: rezago en las garantías de derech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2516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Énfasis en profundizar la democracia, establecer formas más sólidas de convivencia y mejorar las condiciones de vida para las person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Análisis de  formas emergentes de ciudadanía en el marco del desplazamiento del Estado hacia la sociedad de merc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33"/>
                </a:solidFill>
                <a:latin typeface="Garamond"/>
              </a:rPr>
              <a:t>Debate sobre ciudadanía y capital social en América Latin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48040" indent="-2480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Cambios en la ciudadanía a partir de los cambios que tienen lugar en la socieda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2516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Individualización, predominio del mercado, crisis de la política, retraimiento del Estado Social, debilitamiento del vínculo social</a:t>
            </a: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2516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Procesos de cambio se entienden como tendencias irreversibles del mundo contemporáne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2516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Se liga ciudadanía a gobernabilidad democrát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Particip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Reivindicación de formas de ciudadanía local (capital soci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Ciudadanía en Chile se encuentra poco desarrollad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5280" y="1889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Predominan valores individualist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Escasa valoración de la política y el espacio público como lugares de encuentro y resolución de problemas colectiv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Escasa conciencia de posesión de derechos social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Problemas para la materialización de derechos: pobreza y desigual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Escasa motivación a la participació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Percepciones ciudadanas diferenciadas por NS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6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Los pobres están más disconformes con el modelo económico y manifiestan mayor distancia respecto de la política que el conjunto de la població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Entre los pobres se percibe en mayor medida el predominio de valores políticos y económicos liberales y se constata un sentimiento generalizado de impotencia respecto de la posibilidad de influir sobre el curso de los acontecimiento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Los pobres tienen mayor conciencia de la desigualdad y la vivencian como discriminación e injusticia, pero tienen menos información sobre sus derechos y menos herramientas para reclamarlo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Tendencias hacia el fomento de la equidad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Tematización de derechos sociales de ciudadanía: cambiar el foco de la asistencia a los derech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Mínimos” sociales garantizados (¿derechos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Responsabilizar a los individuos por sus condiciones de v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Exigencia de contraprest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Lógica perver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76360" y="549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Garamond"/>
              </a:rPr>
              <a:t>Esfuerz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1440" y="1348200"/>
            <a:ext cx="3163680" cy="14263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Ampliar / modificar políticas so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1440" y="4515840"/>
            <a:ext cx="3163680" cy="18572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Aumentar participación y fortalecer ciudadan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00720" y="1268280"/>
            <a:ext cx="2160720" cy="1472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Disminuye pob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Se mantiene desigual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72360" y="4365720"/>
            <a:ext cx="2160360" cy="2082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Participación instru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Ciudadanos no se apropian de los espacio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40360" y="1916280"/>
            <a:ext cx="1873080" cy="360360"/>
          </a:xfrm>
          <a:prstGeom prst="rightArrow">
            <a:avLst>
              <a:gd name="adj1" fmla="val 50000"/>
              <a:gd name="adj2" fmla="val 129945"/>
            </a:avLst>
          </a:pr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11640" y="5229360"/>
            <a:ext cx="1873080" cy="360360"/>
          </a:xfrm>
          <a:prstGeom prst="rightArrow">
            <a:avLst>
              <a:gd name="adj1" fmla="val 50000"/>
              <a:gd name="adj2" fmla="val 129945"/>
            </a:avLst>
          </a:pr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92360" y="3201840"/>
            <a:ext cx="2595600" cy="10998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Garamond"/>
              </a:rPr>
              <a:t>DERECHO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740720" y="3068640"/>
            <a:ext cx="431640" cy="1008000"/>
          </a:xfrm>
          <a:custGeom>
            <a:avLst/>
            <a:gdLst>
              <a:gd name="textAreaLeft" fmla="*/ 57600 w 431640"/>
              <a:gd name="textAreaRight" fmla="*/ 374040 w 43164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0517400">
            <a:off x="6876720" y="2997000"/>
            <a:ext cx="431640" cy="1008000"/>
          </a:xfrm>
          <a:custGeom>
            <a:avLst/>
            <a:gdLst>
              <a:gd name="textAreaLeft" fmla="*/ 57600 w 431640"/>
              <a:gd name="textAreaRight" fmla="*/ 374040 w 43164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72360" y="54936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Garamond"/>
              </a:rPr>
              <a:t>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Protección social y riesgo: </a:t>
            </a:r>
            <a:br>
              <a:rPr sz="3400"/>
            </a:b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mirada “tradicional”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Garamond"/>
              </a:rPr>
              <a:t>Riesgos asociados al tr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erder capacidad de trabajo por enfermedad, accidente o e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erder el trabajo (desempleo, cesantí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Garamond"/>
              </a:rPr>
              <a:t>Protección a través de polít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Labor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revisión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Inversión en capital humano (educación, salu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Redes de seguridad para los más pobres (empleo emergencia, subsidio único familiar, pensión asistenci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Garamond"/>
              </a:rPr>
              <a:t>Actor central: Estado, política públ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Protección social y riesgo: mirada del enfoque de Manejo Social del Riesgo (MSR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000" y="1828800"/>
            <a:ext cx="8007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Diversificación de los riesgos: naturales, salud, ciclo vital, sociales, económicos, políticos, ambientales  (no solo trabaj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Riesgo: se expresan en quiebre de ingresos o incremento en necesidades de subsistenci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ueden tener origen a nivel macro (social, económico o político),  a nivel meso o a nivel micro (famili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Características del riesg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Correlación (idiosincráticos y covariad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Frecu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Intensidad (severidad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Riesgo varían según su severidad, frecuencia y número de afectad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8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0880" y="1371600"/>
          <a:ext cx="8305920" cy="4673520"/>
        </p:xfrm>
        <a:graphic>
          <a:graphicData uri="http://schemas.openxmlformats.org/drawingml/2006/table">
            <a:tbl>
              <a:tblPr/>
              <a:tblGrid>
                <a:gridCol w="1482840"/>
                <a:gridCol w="1808280"/>
                <a:gridCol w="2423880"/>
                <a:gridCol w="1435320"/>
                <a:gridCol w="1155600"/>
              </a:tblGrid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Fuente de riesg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ic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diosincrát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dividual o famili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s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Local / subnacional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acro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Nacionales/ region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ac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undi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ternacio-n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Natur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Lluvias – inundacion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rupciones volcánic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eslizamientos de tierr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Tornad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Los anteriores 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Terremot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Salu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nfermeda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Lesion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iscapacida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pidemi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pidemia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pidemi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iclo vital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Nacimien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ncianidad Muer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Soci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rímen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elincuenc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Violencia Intrafamilia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Terrorism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andill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onmoción civi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Guerr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isturbios soci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304920" y="152280"/>
            <a:ext cx="8497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6633"/>
                </a:solidFill>
                <a:latin typeface="Garamond"/>
                <a:ea typeface="Arial"/>
              </a:rPr>
              <a:t>Fuentes de riesgo y a quienes afecta (idiosincráticos o covariados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851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6633"/>
                </a:solidFill>
                <a:latin typeface="Garamond"/>
                <a:ea typeface="Arial"/>
              </a:rPr>
              <a:t>Fuentes de riesgo y a quienes afecta (idiosincráticos o covariados)</a:t>
            </a:r>
            <a:br>
              <a:rPr sz="34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5800" y="1447920"/>
          <a:ext cx="8007480" cy="4376520"/>
        </p:xfrm>
        <a:graphic>
          <a:graphicData uri="http://schemas.openxmlformats.org/drawingml/2006/table">
            <a:tbl>
              <a:tblPr/>
              <a:tblGrid>
                <a:gridCol w="1601640"/>
                <a:gridCol w="1602000"/>
                <a:gridCol w="1600200"/>
                <a:gridCol w="1601640"/>
                <a:gridCol w="1602000"/>
              </a:tblGrid>
              <a:tr h="100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Fuente de riesg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ic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diosincrát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dividual o famili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s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Local / subnacional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acro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Nacionales/ region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ac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undi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ternacion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conómica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esemple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igración y reasentamien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erdida de competitividad de produc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nteriores 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esequilibrios macros y políticas de ajust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olítica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iscriminación étnica y raci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ovilizaciones sociales masiv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estabilidad polít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Golpes de Es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mbient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ontaminac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eforestac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Protección social y riesgo: mirada del enfoque de Manejo Social del Riesgo (MSR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699920"/>
            <a:ext cx="838188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aramond"/>
              </a:rPr>
              <a:t>Estrategias para abordar el riesg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Prevención: reduce la probabilidad del riesg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Mitigación: disminuye el posible efecto de un riesgo antes de ocurrir est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Superación: aliviar el impacto del riesgo una vez que se ha producido </a:t>
            </a: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aramond"/>
              </a:rPr>
              <a:t>Instrumentos o mecanismos en las estrategias para abordar los riesgos según su nivel de formalid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Sistema informales: autoprotección y familiares y comunitario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Sistemas de mercado: activos financieros y póliza de segur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Provistos o ordenados por el sector públic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Propuesta central es aseguramiento y diversificacion de carteras y segur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Protección social y riesgo: mirada del enfoque de Manejo Social del Riesgo (MSR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661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aramond"/>
              </a:rPr>
              <a:t>Actores principales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Individuos / hogares, comunidades / O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Bancos y compañías de segur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Gobier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Instituciones internacionales que ofrecen sistemas de MS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Estos actores ofrecen sistemas de MSR pero también por su actividad generan riesgo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Ignacia Fernandez</cp:lastModifiedBy>
  <dcterms:modified xsi:type="dcterms:W3CDTF">2008-10-07T01:38:57Z</dcterms:modified>
  <cp:revision>37</cp:revision>
  <dc:subject/>
  <dc:title>Diapositiva 1</dc:title>
</cp:coreProperties>
</file>