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F6B-D844-466B-9DEE-8B6FC371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5F6-9C21-4C9F-B642-73AECD17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EDF-FA86-45A0-9EE1-F022DE78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1E4-4901-45C3-93D5-6C57B8E9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B00-95E8-46E3-B48E-02B13288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9A7-4579-4096-B030-21E70F71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8FC7-E44E-46F0-91E8-B840514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C825-3C1F-4133-AFB4-9A1723B3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4DFA-0EC5-4EC3-843F-BE2C3C84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647E-81E8-4C6A-8B1A-E3BC6FE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9990-1826-46AE-BDE1-0A03C459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16A-6BEF-4532-9E07-67BBC04C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1D63-94BF-4E59-AD49-A79FF8A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342D-D488-4649-83A3-355095A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4479-E629-4E33-9AEB-39E0521A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3CA0-B1FC-434F-B0AF-C87A0A5B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58D3-935C-4E95-8A1F-1079B2EE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30C-1BA7-4A7C-BC61-AED97FE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4B2-79E5-4721-B81A-B939ED1B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BBD-C65A-4132-89F1-036E3522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9715-70D8-4133-B54C-34E7C1F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156-E7C9-4136-9979-7FA01862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85A-5E9D-47F3-9ED8-7BC3D534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087-DDE0-4096-B260-61CD09CF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78D3-8918-476B-A188-4129C41C2B6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6170-1804-43F1-A2FA-807882F86C5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53272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TERCER MÓDULO: </a:t>
            </a:r>
            <a:br>
              <a:rPr sz="4000"/>
            </a:br>
            <a:r>
              <a:rPr b="1" lang="es-ES" sz="4000" spc="-1" strike="noStrike">
                <a:solidFill>
                  <a:srgbClr val="006633"/>
                </a:solidFill>
                <a:latin typeface="Garamond"/>
              </a:rPr>
              <a:t>NUEVOS ENFOQUES Y ESCENARIOS DE FIN DE SIGLO</a:t>
            </a:r>
            <a:br>
              <a:rPr sz="4000"/>
            </a:br>
            <a:r>
              <a:rPr b="0" lang="es-ES" sz="3400" spc="-1" strike="noStrike">
                <a:solidFill>
                  <a:srgbClr val="006633"/>
                </a:solidFill>
                <a:latin typeface="Garamond"/>
              </a:rPr>
              <a:t>Tema 5. Los años ’90 y políticas promocionales, de generación de capacidades y de particip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4436640"/>
            <a:ext cx="655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gnacia Fernán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viemb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cent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96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intermedio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unitari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scasas atribuciones en materia de polític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upervisión, acompañamiento y apoyo al nivel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aíses federa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-definen criterios y orientacíones de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n educación (y sal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tribuciones financieras (endeudami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escentralización y política social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nivel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unicipalidades enfrentan problem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oceso de descentralización asigna un rol ambiguo al municip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231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33"/>
                </a:solidFill>
                <a:latin typeface="Garamond"/>
              </a:rPr>
              <a:t>Conceptos básicos sobre particip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23840"/>
            <a:ext cx="8229600" cy="31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os posturas predominan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definen la participación de modo instrumental, en función de su contribución a la eficacia y la eficiencia de las 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040" indent="-406800">
              <a:lnSpc>
                <a:spcPct val="8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s que comprenden la participación ciudadana como un instrumento para el fortalecimiento de la ciudadanía que es, a su vez, expresión del ejercicio de derechos ciudadanos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instrumenta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059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Acciones mediante las cuales la ciudadanía influye en el funcionamiento y resultados de los servicios públicos y el gobierno en general, ya sea mediante el ejercicio de presión a través de organizaciones externas, o bien participando directamente en la planificación, toma de decisiones, gestión y/o evaluación de los programas y servicios públicos”(Orrego, 1995</a:t>
            </a:r>
            <a:r>
              <a:rPr b="0" lang="es-ES" sz="25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433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33"/>
                </a:solidFill>
                <a:latin typeface="Garamond"/>
              </a:rPr>
              <a:t>Participación susta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076640"/>
            <a:ext cx="864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“… </a:t>
            </a: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noción que se relaciona con la adquisición de diversos ‘derechos’ y la integración a la institucionalidad legal en tanto ciudadano formal. La participación, de este modo, debe ser capaz de producir ‘integración social’, por la vía de correcciones legales al ampliar y garantizar nuevos derechos” (Garcés y Valdés, 1999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Argumentos a favor de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técnic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mayor eficacia de la acción gubernamental cuanto más cerca de las personas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Garamond"/>
              </a:rPr>
              <a:t>Político-ciudadano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generar capacidades en la comunidad y fortalecer la ciudadanía y el capital social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→ participación susta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valor asignado a la particip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2055960"/>
            <a:ext cx="216072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instru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4000680"/>
            <a:ext cx="2232000" cy="936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isión sustan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59280" y="1844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iciencia y Eficacia de la Gestió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2636280"/>
            <a:ext cx="244944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idad de las políticas púb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3789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undización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4581000"/>
            <a:ext cx="2592360" cy="6426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271600"/>
            <a:ext cx="28908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216320"/>
            <a:ext cx="28872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2348280"/>
            <a:ext cx="2160720" cy="2288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efectiva de los ciudadanos en el proceso de toma de decisiones, fortalece la capacidad de acción ciudad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2776680"/>
            <a:ext cx="576360" cy="1584360"/>
          </a:xfrm>
          <a:prstGeom prst="rightArrow">
            <a:avLst>
              <a:gd name="adj1" fmla="val 49898"/>
              <a:gd name="adj2" fmla="val 41597"/>
            </a:avLst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ncipales innovaciones del perío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 social adquiere protagonismo dentro del conjunto de política públ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hile: creación de Mideplan y de instituciones encargadas de grupos vulnerables: FOSIS, INJ, SERNAM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liferación de programas sociales de orientación promocional (no asisten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Asigna importante rol al tercer sector y al nivel lo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articipación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Argumentos en contra de la particip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ace más lentos y costosos l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svía las prioridades definidas por los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 abre la demanda y estalla la cuestión so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ntra en conflicto con canales tradicionales de representación pol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l de los partidos políticos, parlamentarios, consejeros regionales, concejos municip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10840" y="369720"/>
            <a:ext cx="672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Niveles de particip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628640"/>
            <a:ext cx="8172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formac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 mantiene a la ciudadanía informada respecto de las actividades que realizan, de sus políticas y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sulta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abren espacio de consulta a la opinión de la ciudadanía sobre determinadas materias a modo de audiencias públicas, cabildos o plebisc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cisión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ticipación acotada a una decisión particular o a un rango amplio de acciones y decisiones de la gestión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trol ciudadano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utoridades rinden cuentas a la ciudadanía respecto de los compromisos adqui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120" y="333360"/>
            <a:ext cx="8642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6633"/>
                </a:solidFill>
                <a:latin typeface="Garamond"/>
              </a:rPr>
              <a:t>Participación en políticas so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imensión presente en buena parte de los programas sociales a partir de los años ‘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Influencia de individuos y organizacione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toma de decisiones sobre asuntos de interés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priorización de necesidades o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ormulación y diseño de políticas y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jecución de progr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valuación y control de los programas y sus resultados por parte de la comunidad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Gobernabilidad, pobreza y participación: el víncul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2205000"/>
            <a:ext cx="7345440" cy="40323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articipación y el control ciudadano de la acción del Estado interpelan al conjunto de la sociedad pero adquieren especial relevancia en el caso de los sectores pobres y de menores recursos cuya supervivencia cotidiana depende en mayor medida de las políticas pública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ipos de Participación en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Habilit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comunidad adquiere destrezas y capacidades, fortalece sus propios espacios y organizaciones y actúa con un sentido de identidad y de comunidad pr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Gestio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nsidera a los beneficiarios como gestionadores de programas públicos para dar a respuesta a problemas lo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onsul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etan la identidad local y abren espacios de conversación sobre temas a los que convoca la aut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Instr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ecanismos de participación ciudadana a nivel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Mecanismos form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rdenanzas de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nsejo Económico y Social Comunal (CE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Audienci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ficinas de Información y Reclamos (O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lebiscitos comu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Otros mecanis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esupuestos particip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rtas ciuda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Desigualdad comunal en ejercicio de participación ciudadan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87280" y="1809720"/>
            <a:ext cx="853272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articipación en políticas sociales (balance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novación en materia de instrumentos para la participación ciudadana en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ementos de participación presentes en los programas son instrumentales  más que de fortalecimiento de la ciudadan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casa influencia de los destinatarios sobre las características y contenidos de los proy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 participación que se espera es principalmente en el momento de la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yores carencias son en evaluación y control ciudadano y difusión de información sobre derech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omunas más pequeñas, rurales y con población de menores ingresos usan menos mecanismos de participación ciudadana local: problema de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187200"/>
            <a:ext cx="84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combinan opciones de política pública en materia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como caren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de apoyo dir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ivilegio de instrumentos que se apoyan en la demanda, discriminando entre personas y hogares según situación socio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Apoyo a las personas u hogares pobres para alivianar / compensar, les permitirá abandonar su situación de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480" indent="-44748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Garamond"/>
              </a:rPr>
              <a:t>Pobreza asociada a estructura de oportunidades y contexto sociocultural y económi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Énfasis en programas que crean oportunidades de empleo, generación de ingreso e integra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e entregan herramientas para revertir sostenidamente la advers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2685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upuesto: Pobreza también se vincula con posibilidades y limitaciones locales → no basta con actuar sobre carencias individuales o familia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Focalización complej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rogramas sociales más exitosos en Chile han combinado acciones universales y acciones focaliz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No hay oposición entre estas dos orientaciones de polí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xistencia de programas universales facilita  el diseño e implementación de programas específicos foc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 se desea focalizar un programa social es indispensable disponer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Información fidedigna sobre la realidad que se propone modific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l mecanismo más eficiente para hacer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Tamaño del grupo destinatario y los caminos más expeditos para llegar a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254160">
              <a:lnSpc>
                <a:spcPct val="10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n información es difícil / imposible focaliza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ercer sect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772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odas aquellas instituciones que interactúan con el Estado para fines de bien público, independiente de la variedad institucional y figura leg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268280"/>
            <a:ext cx="115272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3860640"/>
            <a:ext cx="20163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3860640"/>
            <a:ext cx="159696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724280"/>
            <a:ext cx="1584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ciones sin fines de luc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stenedores pri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724280"/>
            <a:ext cx="172872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 de colaboradores S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4724280"/>
            <a:ext cx="2016360" cy="936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os de E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3860640"/>
            <a:ext cx="1727280" cy="72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resas priv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6043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871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Le permite al gobierno acceder a </a:t>
            </a:r>
            <a:r>
              <a:rPr b="0" i="1" lang="es-ES" sz="2400" spc="-1" strike="noStrike">
                <a:solidFill>
                  <a:srgbClr val="000000"/>
                </a:solidFill>
                <a:latin typeface="Garamond"/>
              </a:rPr>
              <a:t>expertise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en tema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Incorpora beneficios asociados a la lógica económica en la entrega de prestaciones socia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ficiencia y calidad de las prest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Genera competencia entre los ejecu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4440"/>
            <a:ext cx="853272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¿Por qué al Estado le conviene trabajar con privad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Mejor relación con los benefici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ituciones privadas tienden a estar más enraizadas en el medio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ás capacidad para identificar con precisión a los grupos necesi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legan a los clientes de la política social en forma más expedi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aramond"/>
              </a:rPr>
              <a:t>Eficiencia en la prestación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ayor rapidez de interv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con mano de obra menos ríg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ejores relaciones personales (producen en unidades más pequeñ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bajan a una escala más pequeña y personalizada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ienen mayor capacidad de innovación y son menos burocrát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445000"/>
            <a:ext cx="7777080" cy="576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staciones más eficientes, humanas y efic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incipales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spilfarro de fond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676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la calidad de las pres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cesidad de establecer buenos mecanismos de regulación y supervi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lternativas de seguimiento van desde supervisar para asegurar ciertos estándares mínimos hasta generar un control estricto sobre las acciones de los ejec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ificultad de medir el desempeño de las instituciones cuando se trata de la prestación de "servicios humanos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cadores no dan cuenta real de los resultados o logros de las interven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516640"/>
            <a:ext cx="8353440" cy="1150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uena relación no pasa por la evaluación cuantitativa del desempeño, sino por asegurar un buen equilibrio entre las responsabilidades del Estado y de los priv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8785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Dificultades de la relación público - privado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egar prestación y mantener responsabilidad por financiamiento signific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der pode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a las instituciones medi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lación de dependencia recíproc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no gubernamental depende financieramente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9160" indent="-27648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tor público debe aceptar que sus ejecutores son un medio crucial para la provisión de servicio sociales y que, por lo tanto, su estabilidad presupuestaria y organizacional es crucial para el sector pú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16280"/>
            <a:ext cx="8207640" cy="647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Lógicas pública y privada son diferentes respecto de los objetivos de la interven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4437000"/>
            <a:ext cx="424800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stado prioriza la cobertura por sobre la calidad de los resulta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asegurar estándares mínimos de equidad atendiendo a su mandato de univers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4437000"/>
            <a:ext cx="4105080" cy="1727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l valor agregado de los privados se sitúa en su especifi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u responsabilidad es para con el cliente: poseen los conocimientos especializados para realizar intervenciones comple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10Z</dcterms:modified>
  <cp:revision>37</cp:revision>
  <dc:subject/>
  <dc:title>Diapositiva 1</dc:title>
</cp:coreProperties>
</file>