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95A-7B26-41E2-810A-0D4F8EE2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C89-9651-4756-97E1-C596CC51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47E-795B-4665-AF03-42203C6F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CB5-4FF5-4B86-8667-4D59ECF2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E17B-07D3-432F-B0A3-1BEC0FF6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F9AF-6F3A-4F40-AC13-B66472B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F058-4A95-4626-8E68-43598822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3443-416B-4B0A-B49F-E2DE486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CC06-4DDD-4D21-8365-C533E34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2887-D643-4F20-B101-36D8DF27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E2B6-442B-47AF-B294-C366637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B3A-7A13-41B3-B809-D538445D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12C1-E9FA-4CBC-A981-C389C1E2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B454-455F-49AA-AD39-E9C9929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E8FB-EA5B-4542-A913-0DCB4C66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44A1-3D7C-45EA-9B0F-DA94724D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A8EF-409C-4291-8297-A3BA464E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7C7-A0DA-495B-ACB3-EB3012F7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7AE-691C-48C0-AADD-18FC105A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75D-E1D8-41FE-A025-787975B5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E31-4DB9-4B70-B4B9-DD7D4800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F5A-DE98-4F70-B849-AFB41FA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252-03AB-4EC8-A32C-E33475A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161-6932-4F51-A15D-FEC6561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6A3B-C069-45BC-8635-5B60CC8EDC4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3E91-0E02-4223-A17D-57EC4DD0D4A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s-ES" sz="3400" spc="-1" strike="noStrike">
                <a:solidFill>
                  <a:srgbClr val="006633"/>
                </a:solidFill>
                <a:latin typeface="Garamond"/>
              </a:rPr>
              <a:t>Tema 5. Los años ’90 y políticas promocionales, de generación de capacidades y de particip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cent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intermedi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uni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scasas atribuciones en materia de polític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ión, acompañamiento y apoyo al nivel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feder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-definen criterios y orientacíones d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n educación (y sal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tribuciones financieras (endeud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unicipalidades enfrentan problem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oceso de descentralización asigna un rol ambiguo a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Garamond"/>
              </a:rPr>
              <a:t>Conceptos básicos sobre particip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2384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os posturas predomin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definen la participación de modo instrumental, en función de su contribución a la eficacia y la eficiencia de l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comprenden la participación ciudadana como un instrumento para el fortalecimiento de la ciudadanía que es, a su vez, expresión del ejercicio de derechos ciudadano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instrument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05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Acciones mediante las cuales la ciudadanía influye en el funcionamiento y resultados de los servicios públicos y el gobierno en general, ya sea mediante el ejercicio de presión a través de organizaciones externas, o bien participando directamente en la planificación, toma de decisiones, gestión y/o evaluación de los programas y servicios públicos”(Orrego, 1995</a:t>
            </a:r>
            <a:r>
              <a:rPr b="0" lang="es-E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33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susta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076640"/>
            <a:ext cx="864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… 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noción que se relaciona con la adquisición de diversos ‘derechos’ y la integración a la institucionalidad legal en tanto ciudadano formal. La participación, de este modo, debe ser capaz de producir ‘integración social’, por la vía de correcciones legales al ampliar y garantizar nuevos derechos” (Garcés y Valdés, 199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Argumentos a favor de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técnic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mayor eficacia de la acción gubernamental cuanto más cerca de las personas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ciudadan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generar capacidades en la comunidad y fortalecer la ciudadanía y el capital social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susta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valor asignado a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55960"/>
            <a:ext cx="216072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000680"/>
            <a:ext cx="223200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su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844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iencia y Eficacia de la Gest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36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dad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89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undización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581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271600"/>
            <a:ext cx="289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6320"/>
            <a:ext cx="28872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2348280"/>
            <a:ext cx="2160720" cy="2288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efectiva de los ciudadanos en el proceso de toma de decisiones, fortalece la capacidad de acción ciudad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76680"/>
            <a:ext cx="576360" cy="1584360"/>
          </a:xfrm>
          <a:prstGeom prst="rightArrow">
            <a:avLst>
              <a:gd name="adj1" fmla="val 49898"/>
              <a:gd name="adj2" fmla="val 41597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ncipales innovaciones del perío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 social adquiere protagonismo dentro del conjunto de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hile: creación de Mideplan y de instituciones encargadas de grupos vulnerables: FOSIS, INJ, SERNAM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liferación de programas sociales de orientación promocional (no asisten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Asigna importante rol al tercer sector y al nivel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Argumentos en contra de la particip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ce más lentos y costosos l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vía las prioridades definidas por los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abre la demanda y estalla la cuestión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tra en conflicto con canales tradicionales de representación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l de los partidos políticos, parlamentarios, consejeros regionales, concejos 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0840" y="369720"/>
            <a:ext cx="67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veles de partici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8172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c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 mantiene a la ciudadanía informada respecto de las actividades que realizan, de sus política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sulta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abren espacio de consulta a la opinión de la ciudadanía sobre determinadas materias a modo de audiencias públicas, cabildos o plebis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is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ticipación acotada a una decisión particular o a un rango amplio de acciones y decisiones de la gestión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ol ciudadano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rinden cuentas a la ciudadanía respecto de los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Participación en políticas so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imensión presente en buena parte de los programas sociales a partir de los años ‘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Influencia de individuos y organizacione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toma de decisiones sobre asuntos de interés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iorización de necesidades o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ormulación y diseño de políticas y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jecución de pr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valuación y control de los programas y sus resultados por parte de la comunidad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Gobernabilidad, pobreza y participación: el víncu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05000"/>
            <a:ext cx="7345440" cy="403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articipación y el control ciudadano de la acción del Estado interpelan al conjunto de la sociedad pero adquieren especial relevancia en el caso de los sectores pobres y de menores recursos cuya supervivencia cotidiana depende en mayor medida de las políticas pública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ipos de Participación en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Habilit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comunidad adquiere destrezas y capacidades, fortalece sus propios espacios y organizaciones y actúa con un sentido de identidad y de comunidad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Gestio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nsidera a los beneficiarios como gestionadores de programas públicos para dar a respuesta a problem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etan la identidad local y abren espacios de conversación sobre temas a los que convoc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ecanismos de participación ciudadana a nivel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ecanismos form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rdenanzas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ejo Económico y Social Comunal (CE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dienci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ficinas de Información y Reclamos (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lebiscitos comu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Otros mecanis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esupuestos particip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rtas ciuda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Desigualdad comunal en ejercicio de participación ciudadan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7280" y="1809720"/>
            <a:ext cx="8532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articipación en políticas sociales (balanc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novación en materia de instrumentos para la participación ciudadana en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ementos de participación presentes en los programas son instrumentales  más que de fortalecimiento de la ciudadan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casa influencia de los destinatarios sobre las características y contenidos de los proy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participación que se espera es principalmente en el momento de la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yores carencias son en evaluación y control ciudadano y difusión de información sobre 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munas más pequeñas, rurales y con población de menores ingresos usan menos mecanismos de participación ciudadana local: problema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18720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combinan opciones de política pública en materia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como ca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de apoyo dir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ivilegio de instrumentos que se apoyan en la demanda, discriminando entre personas y hogares según situación socio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Apoyo a las personas u hogares pobres para alivianar / compensar, les permitirá abandonar su situación de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asociada a estructura de oportunidades y contexto sociocultural y económ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Énfasis en programas que crean oportunidades de empleo, generación de ingreso e integra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entregan herramientas para revertir sostenidamente la ad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Pobreza también se vincula con posibilidades y limitaciones locales → no basta con actuar sobre carencias individuales o famili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Focalización complej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sociales más exitosos en Chile han combinado acciones universales y acciones foc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No hay oposición entre estas dos orientaciones 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xistencia de programas universales facilita  el diseño e implementación de programas específicos foc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 se desea focalizar un programa social es indispensable disponer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formación fidedigna sobre la realidad que se propone mo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mecanismo más eficiente para hace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Tamaño del grupo destinatario y los caminos más expeditos para llegar a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n información es difícil / imposible focali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ercer sect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772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as aquellas instituciones que interactúan con el Estado para fines de bien público, independiente de la variedad institucional y figura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268280"/>
            <a:ext cx="1152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3860640"/>
            <a:ext cx="2016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860640"/>
            <a:ext cx="15969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724280"/>
            <a:ext cx="1584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ciones sin fines de lu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stenedores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 de colaboradores S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724280"/>
            <a:ext cx="201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os de 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604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71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e permite al gobierno acceder 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en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Incorpora beneficios asociados a la lógica económica en la entrega de prestaciones socia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ficiencia y calidad de las prest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Genera competencia entre los ejecu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532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Mejor relación con los benefici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ituciones privadas tienden a estar más enraizadas en el medi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ás capacidad para identificar con precisión a los grupos neces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legan a los clientes de la política social en forma más expe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Eficiencia en la prestación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yor rapidez de interv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con mano de obra menos rí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ejores relaciones personales (producen en unidades más pequeñ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a una escala más pequeña y personalizada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ienen mayor capacidad de innovación y son menos burocr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777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taciones más eficientes, humanas y efic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ncipales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pilfarro de fond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la calidad de las pres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cesidad de establecer buenos mecanismos de regulación y super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ternativas de seguimiento van desde supervisar para asegurar ciertos estándares mínimos hasta generar un control estricto sobre las acciones de los eje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ficultad de medir el desempeño de las instituciones cuando se trata de la prestación de "servicios hu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cadores no dan cuenta real de los resultados o logros de las interven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8353440" cy="1150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ena relación no pasa por la evaluación cuantitativa del desempeño, sino por asegurar un buen equilibrio entre las responsabilidades del Estado y de l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egar prestación y mantener responsabilidad por financiamiento signific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der pod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las instituciones med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 dependencia recíproc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no gubernamental depende financieramente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público debe aceptar que sus ejecutores son un medio crucial para la provisión de servicio sociales y que, por lo tanto, su estabilidad presupuestaria y organizacional es crucial para 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16280"/>
            <a:ext cx="820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ógicas pública y privada son diferentes respecto de los objetivos de la interven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437000"/>
            <a:ext cx="424800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do prioriza la cobertura por sobre la calidad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asegurar estándares mínimos de equidad atendiendo a su mandato de univers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437000"/>
            <a:ext cx="410508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l valor agregado de los privados se sitúa en su especifi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para con el cliente: poseen los conocimientos especializados para realizar intervenciones compl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10Z</dcterms:modified>
  <cp:revision>37</cp:revision>
  <dc:subject/>
  <dc:title>Diapositiva 1</dc:title>
</cp:coreProperties>
</file>