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1FE-A03A-45AB-8C53-80A2F1D9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135-0F34-437B-BAEA-C63E5643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921-5C40-4F0F-99FA-54F38218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4DE-7387-4DBE-83C9-85FDCEC9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2F0E-E714-4A38-A26C-DD084CE8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9EE0-3B26-46FA-A822-AAD2CA14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36BE-4FD7-4024-A687-DD561890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AEA9-CAF1-4373-9293-78D60014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5CCE-4E3E-4D5F-8CF1-1203AB52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2A7C-CBFA-4647-ACFF-DF2F73A5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A119-67E1-4D6E-AE72-543B10B1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8ED4-67F3-4630-91C9-1A68B109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57D3-F607-42D5-8B3F-E0E8C55B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3141-AAF4-418E-A2B4-BC8EC7E4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3997-7D6E-4ABD-BF66-89C03A40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CE4A-1864-4EE4-8D17-1778C0E5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5216-C363-4ED9-A6A2-9D7FE36C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A0A9-5678-44CC-ACFB-DB561607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2BBA-3945-4300-9D3D-75CA2880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3A0-FEDC-41B1-A935-C405D52D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FEF3-869C-48DB-B41B-1056DCF3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F5F5-FA75-4D4F-B12D-FB11F4E2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6D0-08E0-45F7-8AB1-03EFF964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1F1-CEF5-427E-B809-FE87F607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3824-4CAD-4DBC-ADB6-8EA79DA9578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8A1B-E86B-4D49-AFB0-047AD4D6E5D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532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33"/>
                </a:solidFill>
                <a:latin typeface="Garamond"/>
              </a:rPr>
              <a:t>TERCER MÓDULO: </a:t>
            </a:r>
            <a:br>
              <a:rPr sz="4000"/>
            </a:br>
            <a:r>
              <a:rPr b="1" lang="es-ES" sz="4000" spc="-1" strike="noStrike">
                <a:solidFill>
                  <a:srgbClr val="006633"/>
                </a:solidFill>
                <a:latin typeface="Garamond"/>
              </a:rPr>
              <a:t>NUEVOS ENFOQUES Y ESCENARIOS DE FIN DE SIGLO</a:t>
            </a:r>
            <a:br>
              <a:rPr sz="4000"/>
            </a:br>
            <a:r>
              <a:rPr b="0" lang="es-ES" sz="3400" spc="-1" strike="noStrike">
                <a:solidFill>
                  <a:srgbClr val="006633"/>
                </a:solidFill>
                <a:latin typeface="Garamond"/>
              </a:rPr>
              <a:t>Tema 5. Los años ’90 y políticas promocionales, de generación de capacidades y de particip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4436640"/>
            <a:ext cx="655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gnacia Fernánd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viembre d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escentralización y política social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nivel centr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efine lineamientos y orientaciones generales de políticas secto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iseña programas sociales y asume su coordinación central (criterios homogéne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efine los criterios de traspaso de recursos y administra su traspaso: modelo predominante es el de principal a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Supervisa implementación (en coordinación con niveles subnacion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189000"/>
            <a:ext cx="896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escentralización y política social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nivel intermedio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aíses unitari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scasas atribuciones en materia de política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Supervisión, acompañamiento y apoyo al nivel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aíses federa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o-definen criterios y orientacíones de p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Administran educación (y salu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Atribuciones financieras (endeudami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escentralización y política social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nivel loc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Administra salud y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naliza y administra programas sociales diversos definidos en el nivel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laboración de información, organización de reuniones con la comunidad, formulación de proyectos, tiempo de sus profesionales y funcio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Oficinas municipales especializadas (mujer, infancia, juventud, empl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Iniciativas y proyectos pro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El municipio: 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actor clave del desarrollo loc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escentralización concibe al municipio como el articulador del desarrollo social comuna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Nuevos programas demandan acciones de las municipalidades y se ligan a la actividad social que estas reali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Sin embarg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unicipalidades enfrentan problemas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roceso de descentralización asigna un rol ambiguo al municip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ificultades de la gestión municip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Falta de misión institucional y visión estraté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iderazgo, conducción del municipio y clima organizacional adver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Organización interna, tareas y funciones: forma tradicional de hacer las cos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pendencia económico financi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stricciones de recursos humanos y financi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ificultades para modernizarse y mejorar calidad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scasa autonomía para iniciar cursos de acción prop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244440"/>
            <a:ext cx="8231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municipio en el proceso de descentraliz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Programas no siempre son adecuados y pertinentes a la realidad lo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No se cumple la hipótesis de coordinación positiva de cara a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Municipalidad debiera ser el nex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(es la instancia más cercana a las person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4149720"/>
            <a:ext cx="504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6633"/>
                </a:solidFill>
                <a:latin typeface="Garamond"/>
              </a:rPr>
              <a:t>Conceptos básicos sobre participació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23840"/>
            <a:ext cx="8229600" cy="31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os posturas predominant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040" indent="-406800">
              <a:lnSpc>
                <a:spcPct val="8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s que definen la participación de modo instrumental, en función de su contribución a la eficacia y la eficiencia de las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040" indent="-406800">
              <a:lnSpc>
                <a:spcPct val="8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s que comprenden la participación ciudadana como un instrumento para el fortalecimiento de la ciudadanía que es, a su vez, expresión del ejercicio de derechos ciudadanos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Participación instrumental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059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Acciones mediante las cuales la ciudadanía influye en el funcionamiento y resultados de los servicios públicos y el gobierno en general, ya sea mediante el ejercicio de presión a través de organizaciones externas, o bien participando directamente en la planificación, toma de decisiones, gestión y/o evaluación de los programas y servicios públicos”(Orrego, 1995</a:t>
            </a:r>
            <a:r>
              <a:rPr b="0" lang="es-ES" sz="25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343368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Participación sustan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076640"/>
            <a:ext cx="864072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“… </a:t>
            </a: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noción que se relaciona con la adquisición de diversos ‘derechos’ y la integración a la institucionalidad legal en tanto ciudadano formal. La participación, de este modo, debe ser capaz de producir ‘integración social’, por la vía de correcciones legales al ampliar y garantizar nuevos derechos” (Garcés y Valdés, 1999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Argumentos a favor de la particip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Garamond"/>
              </a:rPr>
              <a:t>Político-técnico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mayor eficacia de la acción gubernamental cuanto más cerca de las personas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→ participación instr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Garamond"/>
              </a:rPr>
              <a:t>Político-ciudadano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generar capacidades en la comunidad y fortalecer la ciudadanía y el capital social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→ participación sustan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El valor asignado a la particip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2055960"/>
            <a:ext cx="2160720" cy="936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Visión instru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4000680"/>
            <a:ext cx="2232000" cy="936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Visión sustan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1844280"/>
            <a:ext cx="244944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iciencia y Eficacia de la Gestión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2636280"/>
            <a:ext cx="244944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idad de las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3789000"/>
            <a:ext cx="259236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undización de la democr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7640" y="4581000"/>
            <a:ext cx="259236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271600"/>
            <a:ext cx="28908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4216320"/>
            <a:ext cx="28872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88000" y="2348280"/>
            <a:ext cx="2160720" cy="2288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poración efectiva de los ciudadanos en el proceso de toma de decisiones, fortalece la capacidad de acción ciudad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2776680"/>
            <a:ext cx="576360" cy="1584360"/>
          </a:xfrm>
          <a:prstGeom prst="rightArrow">
            <a:avLst>
              <a:gd name="adj1" fmla="val 49898"/>
              <a:gd name="adj2" fmla="val 41597"/>
            </a:avLst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incipales innovaciones del perío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lítica social adquiere protagonismo dentro del conjunto de política públ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Chile: creación de Mideplan y de instituciones encargadas de grupos vulnerables: FOSIS, INJ, SERNAM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liferación de programas sociales de orientación promocional (no asistenci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Focaliz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Asigna importante rol al tercer sector y al nivel lo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articipación ciudad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Argumentos en contra de la particip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ace más lentos y costosos los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svía las prioridades definidas por los téc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 abre la demanda y estalla la cuestión so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ntra en conflicto con canales tradicionales de representación p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ol de los partidos políticos, parlamentarios, consejeros regionales, concejos munici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10840" y="369720"/>
            <a:ext cx="672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iveles de particip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628640"/>
            <a:ext cx="81723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formación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utoridad mantiene a la ciudadanía informada respecto de las actividades que realizan, de sus políticas y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sulta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utoridades abren espacio de consulta a la opinión de la ciudadanía sobre determinadas materias a modo de audiencias públicas, cabildos o plebis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cisión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articipación acotada a una decisión particular o a un rango amplio de acciones y decisiones de la gestión lo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rol ciudadano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utoridades rinden cuentas a la ciudadanía respecto de los compromisos adqui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120" y="333360"/>
            <a:ext cx="864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Participación en políticas soci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Dimensión presente en buena parte de los programas sociales a partir de los años ‘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Influencia de individuos y organizaciones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toma de decisiones sobre asuntos de interés públ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riorización de necesidades o probl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formulación y diseño de políticas y progra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jecución de progra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valuación y control de los programas y sus resultados por parte de la comunidad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Gobernabilidad, pobreza y participación: el víncul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205000"/>
            <a:ext cx="7345440" cy="40323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 participación y el control ciudadano de la acción del Estado interpelan al conjunto de la sociedad pero adquieren especial relevancia en el caso de los sectores pobres y de menores recursos cuya supervivencia cotidiana depende en mayor medida de las políticas públicas y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189000"/>
            <a:ext cx="8893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Tipos de Participación en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Habilit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 comunidad adquiere destrezas y capacidades, fortalece sus propios espacios y organizaciones y actúa con un sentido de identidad y de comunidad pro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Gestion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nsidera a los beneficiarios como gestionadores de programas públicos para dar a respuesta a problema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onsul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petan la identidad local y abren espacios de conversación sobre temas a los que convoca la aut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Instr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</a:rPr>
              <a:t>Mecanismos de participación ciudadana a nivel loc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Mecanismos form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Ordenanzas de 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nsejo Económico y Social Comunal (CES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udienci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Oficinas de Información y Reclamos (O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lebiscitos comu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Otros mecanism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resupuestos particip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rtas ciudad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6633"/>
                </a:solidFill>
                <a:latin typeface="Garamond"/>
              </a:rPr>
              <a:t>Desigualdad comunal en ejercicio de participación ciudadan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87280" y="1809720"/>
            <a:ext cx="853272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articipación en políticas sociales (balance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771200"/>
            <a:ext cx="8424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novación en materia de instrumentos para la participación ciudadana en polític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lementos de participación presentes en los programas son instrumentales  más que de fortalecimiento de la ciudadan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casa influencia de los destinatarios sobre las características y contenidos de los proyec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 participación que se espera es principalmente en el momento de la ejec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yores carencias son en evaluación y control ciudadano y difusión de información sobre derech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munas más pequeñas, rurales y con población de menores ingresos usan menos mecanismos de participación ciudadana local: problema de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6000" y="187200"/>
            <a:ext cx="8459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Se combinan opciones de política pública en materia d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7480" indent="-44748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Garamond"/>
              </a:rPr>
              <a:t>Pobreza como carenc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ogramas de apoyo dir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ivilegio de instrumentos que se apoyan en la demanda, discriminando entre personas y hogares según situación socio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upuesto: Apoyo a las personas u hogares pobres para alivianar / compensar, les permitirá abandonar su situación de pobre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Garamond"/>
              </a:rPr>
              <a:t>Pobreza asociada a estructura de oportunidades y contexto sociocultural y económi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Énfasis en programas que crean oportunidades de empleo, generación de ingreso e integrac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e entregan herramientas para revertir sostenidamente la advers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upuesto: Pobreza también se vincula con posibilidades y limitaciones locales → no basta con actuar sobre carencias individuales o familia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1360" y="260280"/>
            <a:ext cx="8001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Focalización complej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23720" indent="-42372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Focalización depende tanto de orientaciones globales y decisiones macro-sociales de política pública, como de decisiones concretas a nivel de programas específic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ogramas sociales más exitosos en Chile han combinado acciones universales y acciones focaliz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No hay oposición entre estas dos orientaciones de polí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xistencia de programas universales facilita  el diseño e implementación de programas específicos foc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 se desea focalizar un programa social es indispensable disponer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formación fidedigna sobre la realidad que se propone modific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l mecanismo más eficiente para hacer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Tamaño del grupo destinatario y los caminos más expeditos para llegar a é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n información es difícil / imposible focaliza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ercer secto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37720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odas aquellas instituciones que interactúan con el Estado para fines de bien público, independiente de la variedad institucional y figura leg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268280"/>
            <a:ext cx="115272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3860640"/>
            <a:ext cx="172728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3860640"/>
            <a:ext cx="201636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3860640"/>
            <a:ext cx="159696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4724280"/>
            <a:ext cx="158436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ituciones sin fines de luc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4724280"/>
            <a:ext cx="172872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stenedores priv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4724280"/>
            <a:ext cx="172872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 de colaboradores S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88000" y="4724280"/>
            <a:ext cx="201636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os de Est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3860640"/>
            <a:ext cx="172728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resas priv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6043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¿Por qué al Estado le conviene trabajar con privado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871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e permite al gobierno acceder a </a:t>
            </a:r>
            <a:r>
              <a:rPr b="0" i="1" lang="es-ES" sz="2400" spc="-1" strike="noStrike">
                <a:solidFill>
                  <a:srgbClr val="000000"/>
                </a:solidFill>
                <a:latin typeface="Garamond"/>
              </a:rPr>
              <a:t>expertise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en tema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Incorpora beneficios asociados a la lógica económica en la entrega de prestaciones socia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ficiencia y calidad de las prest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Genera competencia entre los ejecut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244440"/>
            <a:ext cx="85327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¿Por qué al Estado le conviene trabajar con privado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aramond"/>
              </a:rPr>
              <a:t>Mejor relación con los benefici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stituciones privadas tienden a estar más enraizadas en el medio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ás capacidad para identificar con precisión a los grupos necesi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legan a los clientes de la política social en forma más exped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aramond"/>
              </a:rPr>
              <a:t>Eficiencia en la prestación de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ayor rapidez de interven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bajan con mano de obra menos ríg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ejores relaciones personales (producen en unidades más pequeñ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bajan a una escala más pequeña y personalizada de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ienen mayor capacidad de innovación y son menos burocrát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5445000"/>
            <a:ext cx="777708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estaciones más eficientes, humanas y efic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Dificultades de la relación público - privad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893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incipales ries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spilfarro de fondos púb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la calidad de las pres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ecesidad de establecer buenos mecanismos de regulación y supervi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lternativas de seguimiento van desde supervisar para asegurar ciertos estándares mínimos hasta generar un control estricto sobre las acciones de los ejec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ficultad de medir el desempeño de las instituciones cuando se trata de la prestación de "servicios humanos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dicadores no dan cuenta real de los resultados o logros de las intervenc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516640"/>
            <a:ext cx="8353440" cy="1150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uena relación no pasa por la evaluación cuantitativa del desempeño, sino por asegurar un buen equilibrio entre las responsabilidades del Estado y de los priv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785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Dificultades de la relación público - privad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legar prestación y mantener responsabilidad por financiamiento signific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eder pode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 las instituciones medi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 dependencia recíproca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764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tor no gubernamental depende financieramente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764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tor público debe aceptar que sus ejecutores son un medio crucial para la provisión de servicio sociales y que, por lo tanto, su estabilidad presupuestaria y organizacional es crucial para el sector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716280"/>
            <a:ext cx="8207640" cy="647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ógicas pública y privada son diferentes respecto de los objetivos de la intervenc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4437000"/>
            <a:ext cx="4248000" cy="1727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stado prioriza la cobertura por sobre la calidad de los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u responsabilidad es asegurar estándares mínimos de equidad atendiendo a su mandato de univers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4437000"/>
            <a:ext cx="4105080" cy="1727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l valor agregado de los privados se sitúa en su especific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u responsabilidad es para con el cliente: poseen los conocimientos especializados para realizar intervenciones comple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9:10Z</dcterms:modified>
  <cp:revision>37</cp:revision>
  <dc:subject/>
  <dc:title>Diapositiva 1</dc:title>
</cp:coreProperties>
</file>