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7E06-8755-49D0-A585-7E8E9AB5A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9767-BE8F-42B5-A63E-3EEF5DE9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4185-B984-4FE1-A2D0-A67D70567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AEAA-B399-4A16-A687-F7E3EF435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1A60F-CC67-4FDE-960D-7EDEE7955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701A-7546-4827-ACFF-CB088AE3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79018-1A12-48E7-8057-20E9B4A5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E407-F6F3-4481-9538-4398D5B7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1206-025F-48F3-AB8A-77DB0B97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FE9F8-52CA-4E2B-87EC-7D1F7374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4280-3AC7-4DD4-BC53-9F9944ED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0C12-3F56-458F-94FD-AD5FA442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174E-9C17-4867-9F43-4CA72D34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DF55B-E701-4B32-8CDE-BAB771D6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D9EC8-3F43-469B-92F1-747DF256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CCC4-4910-400B-B16D-A89793D03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5F60-161D-4FCE-B160-2D6720FE2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B360-12DF-4BC4-B39D-4CF7B037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AAA7-AFE2-4A26-AFB9-99C41C77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99B4-5F3C-4A39-90EC-5E2E5CC1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049C-F7BA-445D-8A30-29F0FC52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7E22-827B-4CF7-86AE-DE22EBA9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0F8F-B944-4A91-9C22-3C686A54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CFBA-3922-4E83-818A-DA340A5D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9280" y="6248520"/>
            <a:ext cx="799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- Noviembre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643A-C9A0-4DB7-BC11-C7CA0459A8FF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68360" y="6243480"/>
            <a:ext cx="792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- Noviembre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C3C0-FC14-4300-9610-1892AAD1E415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853272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6633"/>
                </a:solidFill>
                <a:latin typeface="Garamond"/>
              </a:rPr>
              <a:t>TERCER MÓDULO: </a:t>
            </a:r>
            <a:br>
              <a:rPr sz="4000"/>
            </a:br>
            <a:r>
              <a:rPr b="1" lang="es-ES" sz="4000" spc="-1" strike="noStrike">
                <a:solidFill>
                  <a:srgbClr val="006633"/>
                </a:solidFill>
                <a:latin typeface="Garamond"/>
              </a:rPr>
              <a:t>NUEVOS ENFOQUES Y ESCENARIOS DE FIN DE SIGLO</a:t>
            </a:r>
            <a:br>
              <a:rPr sz="4000"/>
            </a:br>
            <a:r>
              <a:rPr b="0" lang="es-ES" sz="3400" spc="-1" strike="noStrike">
                <a:solidFill>
                  <a:srgbClr val="006633"/>
                </a:solidFill>
                <a:latin typeface="Garamond"/>
              </a:rPr>
              <a:t>Tema 5. Los años ’90 y políticas promocionales, de generación de capacidades y de participació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79280" y="4436640"/>
            <a:ext cx="6553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gnacia Fernánde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Noviembre de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Descentralización y política social</a:t>
            </a:r>
            <a:br>
              <a:rPr sz="3400"/>
            </a:b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Rol del nivel centra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Define lineamientos y orientaciones generales de políticas sector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Diseña programas sociales y asume su coordinación central (criterios homogéne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Define los criterios de traspaso de recursos y administra su traspaso: modelo predominante es el de principal ag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Supervisa implementación (en coordinación con niveles subnaciona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189000"/>
            <a:ext cx="89647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Descentralización y política social</a:t>
            </a:r>
            <a:br>
              <a:rPr sz="3400"/>
            </a:b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Rol del nivel intermedio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Países unitario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Escasas atribuciones en materia de política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Supervisión, acompañamiento y apoyo al nivel 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Países federa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Co-definen criterios y orientacíones de polí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Administran educación (y salu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Atribuciones financieras (endeudamien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Descentralización y política social</a:t>
            </a:r>
            <a:br>
              <a:rPr sz="3400"/>
            </a:b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Rol del nivel loca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Administra salud y edu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Canaliza y administra programas sociales diversos definidos en el nivel cent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Elaboración de información, organización de reuniones con la comunidad, formulación de proyectos, tiempo de sus profesionales y funcio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Oficinas municipales especializadas (mujer, infancia, juventud, emple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Iniciativas y proyectos prop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El municipio: </a:t>
            </a:r>
            <a:br>
              <a:rPr sz="3400"/>
            </a:b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actor clave del desarrollo loca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Descentralización concibe al municipio como el articulador del desarrollo social comuna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Nuevos programas demandan acciones de las municipalidades y se ligan a la actividad social que estas realiz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Sin embarg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Municipalidades enfrentan problemas de gest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Proceso de descentralización asigna un rol ambiguo al municip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Dificultades de la gestión municipa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Falta de misión institucional y visión estratég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Liderazgo, conducción del municipio y clima organizacional advers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Organización interna, tareas y funciones: forma tradicional de hacer las cos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Dependencia económico financie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Restricciones de recursos humanos y financie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Dificultades para modernizarse y mejorar calidad de los servic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Escasa autonomía para iniciar cursos de acción prop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1280" y="244440"/>
            <a:ext cx="8231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Rol del municipio en el proceso de descentralizació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Programas no siempre son adecuados y pertinentes a la realidad loc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No se cumple la hipótesis de coordinación positiva de cara a los usuar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Municipalidad debiera ser el nex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(es la instancia más cercana a las persona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11640" y="4149720"/>
            <a:ext cx="5047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8642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6633"/>
                </a:solidFill>
                <a:latin typeface="Garamond"/>
              </a:rPr>
              <a:t>Conceptos básicos sobre participació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923840"/>
            <a:ext cx="8229600" cy="31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Dos posturas predominant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4040" indent="-406800">
              <a:lnSpc>
                <a:spcPct val="8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Las que definen la participación de modo instrumental, en función de su contribución a la eficacia y la eficiencia de las polític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4040" indent="-406800">
              <a:lnSpc>
                <a:spcPct val="8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Las que comprenden la participación ciudadana como un instrumento para el fortalecimiento de la ciudadanía que es, a su vez, expresión del ejercicio de derechos ciudadanos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33"/>
                </a:solidFill>
                <a:latin typeface="Garamond"/>
              </a:rPr>
              <a:t>Participación instrumental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30592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ES_tradnl" sz="2500" spc="-1" strike="noStrike">
                <a:solidFill>
                  <a:srgbClr val="000000"/>
                </a:solidFill>
                <a:latin typeface="Garamond"/>
              </a:rPr>
              <a:t>Acciones mediante las cuales la ciudadanía influye en el funcionamiento y resultados de los servicios públicos y el gobierno en general, ya sea mediante el ejercicio de presión a través de organizaciones externas, o bien participando directamente en la planificación, toma de decisiones, gestión y/o evaluación de los programas y servicios públicos”(Orrego, 1995</a:t>
            </a:r>
            <a:r>
              <a:rPr b="0" lang="es-ES" sz="25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3433680"/>
            <a:ext cx="8229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33"/>
                </a:solidFill>
                <a:latin typeface="Garamond"/>
              </a:rPr>
              <a:t>Participación sustan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4076640"/>
            <a:ext cx="864072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Garamond"/>
              </a:rPr>
              <a:t>“… </a:t>
            </a:r>
            <a:r>
              <a:rPr b="0" lang="es-ES_tradnl" sz="2500" spc="-1" strike="noStrike">
                <a:solidFill>
                  <a:srgbClr val="000000"/>
                </a:solidFill>
                <a:latin typeface="Garamond"/>
              </a:rPr>
              <a:t>noción que se relaciona con la adquisición de diversos ‘derechos’ y la integración a la institucionalidad legal en tanto ciudadano formal. La participación, de este modo, debe ser capaz de producir ‘integración social’, por la vía de correcciones legales al ampliar y garantizar nuevos derechos” (Garcés y Valdés, 1999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Argumentos a favor de la participa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Garamond"/>
              </a:rPr>
              <a:t>Político-técnico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: mayor eficacia de la acción gubernamental cuanto más cerca de las personas 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→ participación instru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Garamond"/>
              </a:rPr>
              <a:t>Político-ciudadano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: generar capacidades en la comunidad y fortalecer la ciudadanía y el capital social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→ participación sustan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El valor asignado a la participa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2055960"/>
            <a:ext cx="2160720" cy="936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Visión instru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4000680"/>
            <a:ext cx="2232000" cy="936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Visión sustan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59280" y="1844280"/>
            <a:ext cx="2449440" cy="64260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ficiencia y Eficacia de la Gestión 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59280" y="2636280"/>
            <a:ext cx="2449440" cy="64260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idad de las políticas públ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87640" y="3789000"/>
            <a:ext cx="2592360" cy="64260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fundización de la democra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87640" y="4581000"/>
            <a:ext cx="2592360" cy="64260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gr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271600"/>
            <a:ext cx="28908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fbf39"/>
          </a:solidFill>
          <a:ln w="93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4216320"/>
            <a:ext cx="28872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fbf39"/>
          </a:solidFill>
          <a:ln w="93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88000" y="2348280"/>
            <a:ext cx="2160720" cy="2288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orporación efectiva de los ciudadanos en el proceso de toma de decisiones, fortalece la capacidad de acción ciudada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96000" y="2776680"/>
            <a:ext cx="576360" cy="1584360"/>
          </a:xfrm>
          <a:prstGeom prst="rightArrow">
            <a:avLst>
              <a:gd name="adj1" fmla="val 49898"/>
              <a:gd name="adj2" fmla="val 41597"/>
            </a:avLst>
          </a:prstGeom>
          <a:solidFill>
            <a:srgbClr val="afbf39"/>
          </a:solidFill>
          <a:ln w="93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incipales innovaciones del períod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olítica social adquiere protagonismo dentro del conjunto de política públ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Chile: creación de Mideplan y de instituciones encargadas de grupos vulnerables: FOSIS, INJ, SERNAM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roliferación de programas sociales de orientación promocional (no asistenci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Focaliz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Asigna importante rol al tercer sector y al nivel lo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articipación ciudada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6633"/>
                </a:solidFill>
                <a:latin typeface="Garamond"/>
              </a:rPr>
              <a:t>Argumentos en contra de la participació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Hace más lentos y costosos los proc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esvía las prioridades definidas por los téc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 abre la demanda y estalla la cuestión soci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Entra en conflicto con canales tradicionales de representación polí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ol de los partidos políticos, parlamentarios, consejeros regionales, concejos municip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10840" y="369720"/>
            <a:ext cx="6727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Niveles de participació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628640"/>
            <a:ext cx="817236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nformación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utoridad mantiene a la ciudadanía informada respecto de las actividades que realizan, de sus políticas y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sulta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utoridades abren espacio de consulta a la opinión de la ciudadanía sobre determinadas materias a modo de audiencias públicas, cabildos o plebisc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cisión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participación acotada a una decisión particular o a un rango amplio de acciones y decisiones de la gestión lo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rol ciudadano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utoridades rinden cuentas a la ciudadanía respecto de los compromisos adquir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120" y="333360"/>
            <a:ext cx="8642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6633"/>
                </a:solidFill>
                <a:latin typeface="Garamond"/>
              </a:rPr>
              <a:t>Participación en políticas socia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Dimensión presente en buena parte de los programas sociales a partir de los años ‘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Influencia de individuos y organizaciones 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toma de decisiones sobre asuntos de interés públ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priorización de necesidades o probl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formulación y diseño de políticas y progra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ejecución de program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evaluación y control de los programas y sus resultados por parte de la comunidad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Gobernabilidad, pobreza y participación: el víncul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"/>
          <p:cNvSpPr/>
          <p:nvPr/>
        </p:nvSpPr>
        <p:spPr>
          <a:xfrm>
            <a:off x="971640" y="2205000"/>
            <a:ext cx="7345440" cy="40323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La participación y el control ciudadano de la acción del Estado interpelan al conjunto de la sociedad pero adquieren especial relevancia en el caso de los sectores pobres y de menores recursos cuya supervivencia cotidiana depende en mayor medida de las políticas públicas y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2560" y="189000"/>
            <a:ext cx="88930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Tipos de Participación en política soci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Habilitación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La comunidad adquiere destrezas y capacidades, fortalece sus propios espacios y organizaciones y actúa con un sentido de identidad y de comunidad prop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Gestion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onsidera a los beneficiarios como gestionadores de programas públicos para dar a respuesta a problemas lo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Consul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Respetan la identidad local y abren espacios de conversación sobre temas a los que convoca la autor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Instru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6633"/>
                </a:solidFill>
                <a:latin typeface="Garamond"/>
              </a:rPr>
              <a:t>Mecanismos de participación ciudadana a nivel loc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Mecanismos forma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Ordenanzas de particip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onsejo Económico y Social Comunal (CES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Audiencias púb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Oficinas de Información y Reclamos (O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lebiscitos comu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Otros mecanism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resupuestos particip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artas ciudada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6633"/>
                </a:solidFill>
                <a:latin typeface="Garamond"/>
              </a:rPr>
              <a:t>Desigualdad comunal en ejercicio de participación ciudadan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87280" y="1809720"/>
            <a:ext cx="853272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Participación en políticas sociales (balance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1771200"/>
            <a:ext cx="84247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Innovación en materia de instrumentos para la participación ciudadana en políticas púb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lementos de participación presentes en los programas son instrumentales  más que de fortalecimiento de la ciudadaní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scasa influencia de los destinatarios sobre las características y contenidos de los proyec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La participación que se espera es principalmente en el momento de la ejec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Mayores carencias son en evaluación y control ciudadano y difusión de información sobre derech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omunas más pequeñas, rurales y con población de menores ingresos usan menos mecanismos de participación ciudadana local: problema de equ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6000" y="187200"/>
            <a:ext cx="8459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Se combinan opciones de política pública en materia de focaliza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7480" indent="-44748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Garamond"/>
              </a:rPr>
              <a:t>Pobreza como carenci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2685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rogramas de apoyo direc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2685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rivilegio de instrumentos que se apoyan en la demanda, discriminando entre personas y hogares según situación socioeconóm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2685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Supuesto: Apoyo a las personas u hogares pobres para alivianar / compensar, les permitirá abandonar su situación de pobre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480" indent="-44748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Garamond"/>
              </a:rPr>
              <a:t>Pobreza asociada a estructura de oportunidades y contexto sociocultural y económic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2685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Énfasis en programas que crean oportunidades de empleo, generación de ingreso e integración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2685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Se entregan herramientas para revertir sostenidamente la advers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2685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Supuesto: Pobreza también se vincula con posibilidades y limitaciones locales → no basta con actuar sobre carencias individuales o familia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1360" y="260280"/>
            <a:ext cx="80010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Focalización compleja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4582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23720" indent="-42372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Focalización depende tanto de orientaciones globales y decisiones macro-sociales de política pública, como de decisiones concretas a nivel de programas específic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rogramas sociales más exitosos en Chile han combinado acciones universales y acciones focaliza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25416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No hay oposición entre estas dos orientaciones de polít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25416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Existencia de programas universales facilita  el diseño e implementación de programas específicos focaliz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Si se desea focalizar un programa social es indispensable disponer 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25416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Información fidedigna sobre la realidad que se propone modific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25416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El mecanismo más eficiente para hacer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25416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Tamaño del grupo destinatario y los caminos más expeditos para llegar a é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25416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Sin información es difícil / imposible focalizar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Tercer sector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377200" cy="45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Todas aquellas instituciones que interactúan con el Estado para fines de bien público, independiente de la variedad institucional y figura leg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1268280"/>
            <a:ext cx="115272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16000" y="3860640"/>
            <a:ext cx="1727280" cy="72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88000" y="3860640"/>
            <a:ext cx="2016360" cy="72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87640" y="3860640"/>
            <a:ext cx="1596960" cy="72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ult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87640" y="4724280"/>
            <a:ext cx="1584360" cy="936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ituciones sin fines de luc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16360" y="4724280"/>
            <a:ext cx="1728720" cy="936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stenedores priv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16000" y="4724280"/>
            <a:ext cx="1728720" cy="936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d de colaboradores SE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88000" y="4724280"/>
            <a:ext cx="2016360" cy="936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ros de Estu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3860640"/>
            <a:ext cx="1727280" cy="72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presas priva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280" y="244440"/>
            <a:ext cx="86043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¿Por qué al Estado le conviene trabajar con privados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9280" y="1871640"/>
            <a:ext cx="89647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Le permite al gobierno acceder a </a:t>
            </a:r>
            <a:r>
              <a:rPr b="0" i="1" lang="es-ES" sz="2400" spc="-1" strike="noStrike">
                <a:solidFill>
                  <a:srgbClr val="000000"/>
                </a:solidFill>
                <a:latin typeface="Garamond"/>
              </a:rPr>
              <a:t>expertise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en temas específ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Incorpora beneficios asociados a la lógica económica en la entrega de prestaciones sociale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ficiencia y calidad de las prestac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Genera competencia entre los ejecuto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244440"/>
            <a:ext cx="853272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¿Por qué al Estado le conviene trabajar con privados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9647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Garamond"/>
              </a:rPr>
              <a:t>Mejor relación con los benefici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Instituciones privadas tienden a estar más enraizadas en el medio lo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Más capacidad para identificar con precisión a los grupos necesit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Llegan a los clientes de la política social en forma más expedi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Garamond"/>
              </a:rPr>
              <a:t>Eficiencia en la prestación de servi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Mayor rapidez de interven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rabajan con mano de obra menos rígi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Mejores relaciones personales (producen en unidades más pequeñ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rabajan a una escala más pequeña y personalizada de servi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ienen mayor capacidad de innovación y son menos burocráti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5445000"/>
            <a:ext cx="7777080" cy="576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estaciones más eficientes, humanas y efic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800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Dificultades de la relación público - privado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89308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incipales ries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676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espilfarro de fondos públ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676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ala calidad de las prest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Necesidad de establecer buenos mecanismos de regulación y supervis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lternativas de seguimiento van desde supervisar para asegurar ciertos estándares mínimos hasta generar un control estricto sobre las acciones de los ejecu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ificultad de medir el desempeño de las instituciones cuando se trata de la prestación de "servicios humanos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dicadores no dan cuenta real de los resultados o logros de las intervencio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5516640"/>
            <a:ext cx="8353440" cy="1150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Buena relación no pasa por la evaluación cuantitativa del desempeño, sino por asegurar un buen equilibrio entre las responsabilidades del Estado y de los priv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3640" y="277920"/>
            <a:ext cx="8785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Dificultades de la relación público - privado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elegar prestación y mantener responsabilidad por financiamiento significa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eder poder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 las instituciones mediado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lación de dependencia recíproca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160" indent="-27648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ector no gubernamental depende financieramente del gobier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160" indent="-27648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ector público debe aceptar que sus ejecutores son un medio crucial para la provisión de servicio sociales y que, por lo tanto, su estabilidad presupuestaria y organizacional es crucial para el sector púb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3716280"/>
            <a:ext cx="8207640" cy="647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Lógicas pública y privada son diferentes respecto de los objetivos de la intervención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4437000"/>
            <a:ext cx="4248000" cy="1727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Estado prioriza la cobertura por sobre la calidad de los resulta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u responsabilidad es asegurar estándares mínimos de equidad atendiendo a su mandato de univers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88000" y="4437000"/>
            <a:ext cx="4105080" cy="1727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El valor agregado de los privados se sitúa en su especific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u responsabilidad es para con el cliente: poseen los conocimientos especializados para realizar intervenciones comple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0:09:26Z</dcterms:created>
  <dc:creator>Ignacia Fernandez</dc:creator>
  <dc:description/>
  <dc:language>en-US</dc:language>
  <cp:lastModifiedBy>Ignacia Fernandez</cp:lastModifiedBy>
  <dcterms:modified xsi:type="dcterms:W3CDTF">2008-10-07T01:39:10Z</dcterms:modified>
  <cp:revision>37</cp:revision>
  <dc:subject/>
  <dc:title>Diapositiva 1</dc:title>
</cp:coreProperties>
</file>