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102-1C5D-4740-A4E6-80C9F06C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380-D8A8-4AB0-B66A-FE4E0CCC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D84-4D7B-47D1-AB58-054A118A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663-F58D-4560-BAE8-74A46C06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3C38-2E81-4BB9-94E5-8D9D8656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89C8-5DBC-4646-A9EF-42BE1BD6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B1F7-91DE-48CB-BA4F-36DE2AD0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C0C0-0FC6-4706-BC79-5589ACBF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C810-4E0E-4FFE-8489-272780AF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7D3C-B448-47FB-8390-8EC7FED5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2BA5-0EBD-453C-BF42-DC7AC50D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6EF-C36B-428A-942B-97CD3B9C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32DE-4AD1-4F75-A376-A4F798CE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6FD6-67F7-4F89-AD46-3832830B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D145-CDCB-4BBE-9931-6500A7D5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8A6A-D161-4DC8-BB9D-444C8908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0370-EC3B-4C20-B593-E85BC759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923-83B0-4625-B702-E3A0ACD5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3E5-2877-4174-88D9-F454DAA5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E62-AE5A-42A6-A02C-0E486D3D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41A-62DB-4D55-B1F8-D0C21E3B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C84-EAD9-4454-A498-5BAC8F71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99B-29B3-4F90-B1BF-4302A4A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FD4-B854-4D90-883D-BB7D89B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4CE8-CB57-4BEE-B518-BF35E013EDA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49E1-0E4C-4FFB-ADA5-8AA587569BB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s-ES" sz="3400" spc="-1" strike="noStrike">
                <a:solidFill>
                  <a:srgbClr val="006633"/>
                </a:solidFill>
                <a:latin typeface="Garamond"/>
              </a:rPr>
              <a:t>Tema 5. Los años ’90 y políticas promocionales, de generación de capacidades y de particip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cent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96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intermedio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unitari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scasas atribuciones en materia de polític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ión, acompañamiento y apoyo al nivel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federa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-definen criterios y orientacíones de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n educación (y sal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tribuciones financieras (endeud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unicipalidades enfrentan problem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oceso de descentralización asigna un rol ambiguo al munici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231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33"/>
                </a:solidFill>
                <a:latin typeface="Garamond"/>
              </a:rPr>
              <a:t>Conceptos básicos sobre participació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2384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os posturas predomina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definen la participación de modo instrumental, en función de su contribución a la eficacia y la eficiencia de l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comprenden la participación ciudadana como un instrumento para el fortalecimiento de la ciudadanía que es, a su vez, expresión del ejercicio de derechos ciudadanos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instrumenta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059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Acciones mediante las cuales la ciudadanía influye en el funcionamiento y resultados de los servicios públicos y el gobierno en general, ya sea mediante el ejercicio de presión a través de organizaciones externas, o bien participando directamente en la planificación, toma de decisiones, gestión y/o evaluación de los programas y servicios públicos”(Orrego, 1995</a:t>
            </a:r>
            <a:r>
              <a:rPr b="0" lang="es-ES" sz="25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433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susta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076640"/>
            <a:ext cx="864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… 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noción que se relaciona con la adquisición de diversos ‘derechos’ y la integración a la institucionalidad legal en tanto ciudadano formal. La participación, de este modo, debe ser capaz de producir ‘integración social’, por la vía de correcciones legales al ampliar y garantizar nuevos derechos” (Garcés y Valdés, 1999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Argumentos a favor de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técnic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mayor eficacia de la acción gubernamental cuanto más cerca de las personas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ciudadan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generar capacidades en la comunidad y fortalecer la ciudadanía y el capital social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susta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valor asignado a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055960"/>
            <a:ext cx="216072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instru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000680"/>
            <a:ext cx="223200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sustan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1844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iciencia y Eficacia de la Gestió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2636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idad de l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789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undización de la democr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4581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271600"/>
            <a:ext cx="28908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6320"/>
            <a:ext cx="28872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2348280"/>
            <a:ext cx="2160720" cy="2288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ción efectiva de los ciudadanos en el proceso de toma de decisiones, fortalece la capacidad de acción ciudad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76680"/>
            <a:ext cx="576360" cy="1584360"/>
          </a:xfrm>
          <a:prstGeom prst="rightArrow">
            <a:avLst>
              <a:gd name="adj1" fmla="val 49898"/>
              <a:gd name="adj2" fmla="val 41597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ncipales innovaciones del perío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 social adquiere protagonismo dentro del conjunto de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hile: creación de Mideplan y de instituciones encargadas de grupos vulnerables: FOSIS, INJ, SERNAM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liferación de programas sociales de orientación promocional (no asistenci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oc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Asigna importante rol al tercer sector y al nivel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articipación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Argumentos en contra de la particip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ace más lentos y costosos l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vía las prioridades definidas por los téc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 abre la demanda y estalla la cuestión 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tra en conflicto con canales tradicionales de representación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l de los partidos políticos, parlamentarios, consejeros regionales, concejos muni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10840" y="369720"/>
            <a:ext cx="672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iveles de particip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628640"/>
            <a:ext cx="8172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ormac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 mantiene a la ciudadanía informada respecto de las actividades que realizan, de sus políticas y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sulta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abren espacio de consulta a la opinión de la ciudadanía sobre determinadas materias a modo de audiencias públicas, cabildos o plebis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is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ticipación acotada a una decisión particular o a un rango amplio de acciones y decisiones de la gestión lo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rol ciudadano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rinden cuentas a la ciudadanía respecto de los compromisos adqui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120" y="333360"/>
            <a:ext cx="864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Participación en políticas so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imensión presente en buena parte de los programas sociales a partir de los años ‘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Influencia de individuos y organizaciones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toma de decisiones sobre asuntos de interés públ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iorización de necesidades o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ormulación y diseño de políticas y pr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jecución de progra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valuación y control de los programas y sus resultados por parte de la comunidad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Gobernabilidad, pobreza y participación: el víncu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05000"/>
            <a:ext cx="7345440" cy="403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articipación y el control ciudadano de la acción del Estado interpelan al conjunto de la sociedad pero adquieren especial relevancia en el caso de los sectores pobres y de menores recursos cuya supervivencia cotidiana depende en mayor medida de las políticas pública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Tipos de Participación en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Habilit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comunidad adquiere destrezas y capacidades, fortalece sus propios espacios y organizaciones y actúa con un sentido de identidad y de comunidad pr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Gestio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nsidera a los beneficiarios como gestionadores de programas públicos para dar a respuesta a problem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nsul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etan la identidad local y abren espacios de conversación sobre temas a los que convoca la aut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Mecanismos de participación ciudadana a nivel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ecanismos form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rdenanzas de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ejo Económico y Social Comunal (CE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udienci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ficinas de Información y Reclamos (O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lebiscitos comu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Otros mecanis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esupuestos particip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rtas ciudad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6633"/>
                </a:solidFill>
                <a:latin typeface="Garamond"/>
              </a:rPr>
              <a:t>Desigualdad comunal en ejercicio de participación ciudadan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7280" y="1809720"/>
            <a:ext cx="85327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articipación en políticas sociales (balance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771200"/>
            <a:ext cx="842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novación en materia de instrumentos para la participación ciudadana en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ementos de participación presentes en los programas son instrumentales  más que de fortalecimiento de la ciudadan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casa influencia de los destinatarios sobre las características y contenidos de los proy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participación que se espera es principalmente en el momento de la 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yores carencias son en evaluación y control ciudadano y difusión de información sobre dere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munas más pequeñas, rurales y con población de menores ingresos usan menos mecanismos de participación ciudadana local: problema de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187200"/>
            <a:ext cx="845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Se combinan opciones de política pública en materia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como care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de apoyo dir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ivilegio de instrumentos que se apoyan en la demanda, discriminando entre personas y hogares según situación socio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Apoyo a las personas u hogares pobres para alivianar / compensar, les permitirá abandonar su situación de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asociada a estructura de oportunidades y contexto sociocultural y económ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Énfasis en programas que crean oportunidades de empleo, generación de ingreso e integra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entregan herramientas para revertir sostenidamente la ad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Pobreza también se vincula con posibilidades y limitaciones locales → no basta con actuar sobre carencias individuales o familia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Focalización complej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sociales más exitosos en Chile han combinado acciones universales y acciones focaliz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No hay oposición entre estas dos orientaciones de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xistencia de programas universales facilita  el diseño e implementación de programas específicos foc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 se desea focalizar un programa social es indispensable disponer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formación fidedigna sobre la realidad que se propone modifi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mecanismo más eficiente para hacer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Tamaño del grupo destinatario y los caminos más expeditos para llegar a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n información es difícil / imposible focaliza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ercer sect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772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odas aquellas instituciones que interactúan con el Estado para fines de bien público, independiente de la variedad institucional y figura leg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268280"/>
            <a:ext cx="1152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3860640"/>
            <a:ext cx="20163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3860640"/>
            <a:ext cx="15969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724280"/>
            <a:ext cx="1584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ciones sin fines de lu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stenedores pri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 de colaboradores S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4724280"/>
            <a:ext cx="2016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os de E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6043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871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e permite al gobierno acceder 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expertise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en t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Incorpora beneficios asociados a la lógica económica en la entrega de prestaciones socia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ficiencia y calidad de las prest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Genera competencia entre los ejecu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5327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Mejor relación con los benefici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ituciones privadas tienden a estar más enraizadas en el medio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ás capacidad para identificar con precisión a los grupos necesi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legan a los clientes de la política social en forma más exped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Eficiencia en la prestación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ayor rapidez de interve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con mano de obra menos ríg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ejores relaciones personales (producen en unidades más pequeñ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a una escala más pequeña y personalizada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ienen mayor capacidad de innovación y son menos burocrát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45000"/>
            <a:ext cx="777708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staciones más eficientes, humanas y efic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incipales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pilfarro de fond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la calidad de las pres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cesidad de establecer buenos mecanismos de regulación y superv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ternativas de seguimiento van desde supervisar para asegurar ciertos estándares mínimos hasta generar un control estricto sobre las acciones de los ejec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ficultad de medir el desempeño de las instituciones cuando se trata de la prestación de "servicios humano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icadores no dan cuenta real de los resultados o logros de las interven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8353440" cy="1150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ena relación no pasa por la evaluación cuantitativa del desempeño, sino por asegurar un buen equilibrio entre las responsabilidades del Estado y de los p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78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legar prestación y mantener responsabilidad por financiamiento signific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der pod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las instituciones med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 dependencia recíproc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no gubernamental depende financieramente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público debe aceptar que sus ejecutores son un medio crucial para la provisión de servicio sociales y que, por lo tanto, su estabilidad presupuestaria y organizacional es crucial para el sector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16280"/>
            <a:ext cx="82076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ógicas pública y privada son diferentes respecto de los objetivos de la interven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437000"/>
            <a:ext cx="424800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stado prioriza la cobertura por sobre la calidad de los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asegurar estándares mínimos de equidad atendiendo a su mandato de univers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437000"/>
            <a:ext cx="410508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l valor agregado de los privados se sitúa en su especifi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para con el cliente: poseen los conocimientos especializados para realizar intervenciones comple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10Z</dcterms:modified>
  <cp:revision>37</cp:revision>
  <dc:subject/>
  <dc:title>Diapositiva 1</dc:title>
</cp:coreProperties>
</file>