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7AE8-7FD0-469E-8697-222CE3A3E34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38320" y="71424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63560"/>
            <a:ext cx="50292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icialmente implicó relegitimar al Estado y devolverle credibili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- Quienes viven en condiciones de pobreza son afectados por barreras culturales, por carecer de información sobre los programas, por manejarse dificultosamente en la maraña burocrática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8320" y="71424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63560"/>
            <a:ext cx="50292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- Bienes Públicos, Ej. Epidemi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B825-8A6A-4E07-84DD-60908B6B9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1DE3-DAC4-4197-BD2F-4FECED41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8D3F-9DA8-45D5-B72D-4533A6FC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584A-858B-4572-86AA-E15D905D8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1CDF-5842-490B-9EB7-5D618BD1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0C72-FCAA-4F14-BE1B-870B1D8C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E3EB-ECC6-4B36-8735-CB18AC47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0D8A-0053-448F-B924-0CB7D7A5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79A8-B0A5-4927-9349-4CCD2BA9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486C-74F3-4D37-8A74-44013672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4346-7964-4943-AF2D-5A205D90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F2F3-74BA-4866-A63B-DB766A57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E6A3-EFC4-4FA4-ACC3-FC9FB7D8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6E6E-6782-4BF1-B66C-16149043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4C98-3A36-4C77-851D-DF3DE304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45E4-3BE5-4257-8AB9-1FD07E8FA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8B3D-D67B-4DA1-857F-46BCB8CAC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335A-7F8D-472E-B8F5-C78ED2C4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6BF6-F18E-441F-AC19-C6AE5CFB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A54E-AC01-45A1-8086-6FAC9A7E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8768-BF03-4090-81C0-83DB40AD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82FA-E319-4B93-AF7C-54164EAE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09A6-3354-40A2-96F7-60CB2523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445E-7D21-46D5-B652-CFADEA00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E656-54D1-49BC-888E-C7702CEF9388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-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ED4D-9B23-4B8A-8E77-C984F8C78304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5840" y="1168560"/>
            <a:ext cx="7853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SEGUNDO MÓDULO: EVOLUCIÓN DE LA POLÍTICA SOCIAL EN AMÉRICA LATINA</a:t>
            </a: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46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ema 4. Las políticas de ajuste estructur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. Ignacia Fernán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ctubre d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153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Por qué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79560"/>
            <a:ext cx="83059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spuesta a la crisis fiscal: reducir el gasto público a fin de equilibrar el  presupuesto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aliar los efectos sociales de la crisis y reducir la pobreza: concentrar el gasto social en la población más pobre, dar credibilidad al combate a la pobr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minuir el clientelismo: tecnificación y más transparencia en la asignación de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n períodos de cris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Limitación de recur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Aumento de necesidades insatisfech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n forma perman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ermite mejorar diseño de los progra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Aumenta su eficaci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Aumenta el impacto en la población destinat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ermite excluir a quienes no afecta la necesidad prevista en el programa  e incluir sólo a los directamente afect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Cuándo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1532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¿Cuándo 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Garamond"/>
              </a:rPr>
              <a:t>es posible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focaliz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iempre que no se vulneren disposiciones legales de prestación de servicios generaliz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Defensa de bienes públicos (situaciones de epidemia y cuando existe un problema que no es visualizado como tal por la población con capacidad de pag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¿Cuándo 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Garamond"/>
              </a:rPr>
              <a:t>conviene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focaliz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Bajo crisis económ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En prosperidad también ya     que asegura impacto en la solución de problemas y libera recurs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Magnitud del problema o riesgo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Cuando existe información suficiente para hacerlo con un costo ba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37960"/>
            <a:ext cx="84358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Cómo focalizar?. Mecanismos de focalización (selección de beneficiarios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1339920"/>
            <a:ext cx="86108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gún demanda (individuos o grupo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ioriza potenciales beneficiarios directos (hogares, personas, unidades productivas) ,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gún ofer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ioriza entidades que ofrecen prestaciones, servicios o subsi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gún Áreas geográfic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Hogares de localidad que califica de pobre, reciben el servicio o subsi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Autoselección, programas que solo interesan al grupo al cual se quiere benefic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30736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Cómo focalizar? </a:t>
            </a:r>
            <a:br>
              <a:rPr sz="3800"/>
            </a:b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Instrumentos de selec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534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40800" indent="-46512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Individual o familia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Verificación situación de ingreso o situación económica: ficha CAS u otra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0800" indent="-46512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opio del progra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eño autofocalizante: autoselección o a quienes entregan servicios y atienden a la población mas pobre. Precisa diagnósticos de las instituciones o servic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0800" indent="-46512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Áreas geográfic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quiere identificar territorios en los que haya fuerte incidencia de pobre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Mapas de pobreza, áreas con fuerte concentración de pobreza o necesidades insatisfech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0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Costos de focalizar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ostos Administrativ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Tareas de elaboración, aplicación, actualización y control de los instrumentos (varía entre 0.4% y 29% del costo total del progra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ostos psicosoci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stigmatización social y dependencia de la población de los programas del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fectos secundarios o no esper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parar a los pobres de los no pobres, polarización o d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Apoyo político y continuidad de los prog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Errores de focalización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 Inclus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462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l beneficio se filtra hacia segmentos sociales excluidos del grupo destina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 Exclus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462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Brecha entre el universo de los destinatarios y los sujetos acogidos por el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Lecciones sobre focal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981000"/>
            <a:ext cx="8512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78080" indent="-478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No hay una sola manera de focalizar. Ficha socioeconómica de hogares es fal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i es aplicada en forma exclusiva, deja de lado el entorno comunitario en el cual se desenvuelve la vida de las personas, éste es tan importante como las intervenciones a nivel individu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Ventajas y desventajas de la focalización dependen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ituación específica y momentos en los cuales se ap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aracterísticas de la pobreza y vulnerabilidades específicas que afectan a la población y los procesos que la determin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Objetivos de la política o programa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articularidades de las instituciones a cargo de la ejecución de los programas y de los sistemas de información que manej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onceptos básicos sobre descentralización del Estad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43588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Proceso de traspaso de atribuciones, competencias y responsabilidades desde el nivel central del Estado a los niveles subnacion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Administrativa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competencias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Financiera o fiscal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influencia en materia de presupuesto (generación de ingresos propios o atribuciones en materia de gast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Democrática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atribuciones resolutivas para la toma de deci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6633"/>
                </a:solidFill>
                <a:latin typeface="Garamond"/>
              </a:rPr>
              <a:t>Argumentos a favor de la descentralización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1341360"/>
          <a:ext cx="8424720" cy="4442040"/>
        </p:xfrm>
        <a:graphic>
          <a:graphicData uri="http://schemas.openxmlformats.org/drawingml/2006/table">
            <a:tbl>
              <a:tblPr/>
              <a:tblGrid>
                <a:gridCol w="2521080"/>
                <a:gridCol w="590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ipos de descentraliz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entajas asoci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concent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sminución del aparato esta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ficiencia en la provisión de servic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dernización del Estad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centralización opera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sciplina financi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ficiencia en la provisión de servic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quida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centralización fis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quilibrio macroeconómico y disciplina fis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ficiencia en la provisión de servic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quida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uen gobiern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6633"/>
                </a:solidFill>
                <a:latin typeface="Garamond"/>
              </a:rPr>
              <a:t>Argumentos a favor de la descentralización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1484280"/>
          <a:ext cx="8424720" cy="3286080"/>
        </p:xfrm>
        <a:graphic>
          <a:graphicData uri="http://schemas.openxmlformats.org/drawingml/2006/table">
            <a:tbl>
              <a:tblPr/>
              <a:tblGrid>
                <a:gridCol w="2521080"/>
                <a:gridCol w="590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ipos de descentraliz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entajas asoci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mocrá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articipaci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ontrol ciudad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ccountability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gubernamen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stabilidad polí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Goberna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ranspar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ofundización de la democrac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Ajuste estructural de los ‘80 – ‘90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ontexto: gobiernos autoritarios, ajuste macroeconómico y liberalización comercial, crisis de la deu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hile pion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onsenso de Washingt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Reformas económicas que impactan en lo social: disminuye el gasto público social, se descentralizan y privatizan los mecanismos de provisión de salud y educación</a:t>
            </a: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Modelo asistencial de políticas compensator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olíticas de excepción” que van en alivio de población en situación mas difíci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rogramas de compensación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1774440"/>
            <a:ext cx="75247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49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oceso de regionalización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1280" y="2371680"/>
            <a:ext cx="807552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Reordenamiento espacial que busca la articulación económico-social-geopolítica y administrativa en ámbitos territoriales determinados, todo ello con la finalidad de alcanzar el desarrollo autosostenido de grandes unidades territoriales” (CONARA,197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189000"/>
            <a:ext cx="83516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Reorganización administrativa del Estado (1974 – 1976) y conformación del nivel local (1976 – 198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267080" y="6172200"/>
            <a:ext cx="7632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8960" y="4067280"/>
            <a:ext cx="79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icio de la desconcentración de la adminis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terior del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ecretarías Regionales Ministe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ubsecretaría de Desarrollo Reg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NDR (fondo de compensación territorial) (197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26920" y="260280"/>
            <a:ext cx="684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Énfasis en lo lo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1160640"/>
            <a:ext cx="756144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Decreto de Ley 1.289 (Año 1975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Ley Orgánica de Municipalidades y Administración Comu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unicipios: órganos funcionalmente descentralizados, se les otorga responsabilidades ejecutivas y de gestión de servicios y se les confiere el rol de “agentes del desarrollo económico y social de las comunas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386064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Establece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funciones privativas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compartid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350028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corpora el Plan regulador comu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4473720"/>
            <a:ext cx="7848360" cy="22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..son corporaciones autónomas de derecho público, con personalidad jurídica y patrimonio propio, cuya finalidad es satisfacer las necesidades de la comunidad local y asegurar su participación en el progreso económico, social y cultural de las respectivas comunas”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LOCM, 198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71640" y="765000"/>
            <a:ext cx="691344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Década de los ‘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375"/>
              </a:spcBef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raspaso de los establecimientos educacionales públicos y de los consultorios de salud prim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375"/>
              </a:spcBef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stema de financiamiento: subvenciones por prestaciones otorg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375"/>
              </a:spcBef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ndo Común Municipal (1979): fondo de compensación entre los municip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95280" y="1442880"/>
            <a:ext cx="79218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Garamond"/>
              <a:buAutoNum type="arabicPlain" startAt="199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- Ley Orgánica Constitucional sobre Gobierno y Administración Region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stalación de Gobiernos Regionales en las 13 region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161640" y="119160"/>
            <a:ext cx="726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Gobiernos de la Concertación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Gobiernos Regio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2965320"/>
            <a:ext cx="698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GORES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-&gt; órganos descentralizados, establecidos para la administración superior de cada región, con el objeto de promover el desarrollo económico, social y cultural. Dotados de personalidad jurídica de derecho público, con autonomía relativa y patrimonio prop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4898880"/>
            <a:ext cx="74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unciones: generales, ordenamiento territorial y fomento de las actividades productiv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260280"/>
            <a:ext cx="8137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Nuevos fondos de inversión de decisión reg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170640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versión Sectorial de Asignación Regional (ISAR, 199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213372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onvenios de Programación (199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256536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versión Regional de Asignación Local (IRAL, 199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350028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 reestructura el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FNDR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: ítem provisiones (199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4302000"/>
            <a:ext cx="73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gunda mitad de los ’90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esfuerzos se concentraron en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consolidar la institucionalidad regional y fortalecer la capacidad de gestión técnica y financi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9640" y="1557360"/>
            <a:ext cx="8136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uev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cepción FND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-&gt; programa de inversiones públicas cuyo fin es el desarrollo regional integ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odificación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structura y funciones de los gobiernos regional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para una gestión más transparente y eficiente: ARI y PROP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mité interministerial par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zonas extrema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CIDEZ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reación d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 nuevas region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433080"/>
            <a:ext cx="769608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Período 2000 – 2006</a:t>
            </a:r>
            <a:r>
              <a:rPr b="0" lang="en-US" sz="34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95280" y="1890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Más atribuciones y recursos para la gestión muni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1708200"/>
            <a:ext cx="817236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Democratización de las municipalidades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2 - Elección indirecta de alcaldes y directa de conceja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6 - Elección directa de alcald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2001 - Elección separada de alcaldes y concej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716280"/>
            <a:ext cx="813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Modificación Ley de Rentas Municip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4 -  Se modifica el Impuesto territorial a los bienes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raíces lo que aumenta la recaudación de los municipios por concepto de recursos propios y por aportes del Fondo Común Municip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Posteriores modificaciones años 2000 y 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26920" y="189000"/>
            <a:ext cx="7921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2000 - 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Ley de Rentas Municipales I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odifica la composición del FCM. Aumenta los aportes al fondo por la vía de: elevar de 4 mil a 8 mil UTM el tope por el pago de patentes comerciales, elevar de 50 a 62,5% el aporte por concepto de permisos de circulación y reajustar de 60 a 65% la contribución de los cuatro municipios de más altos ingres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2492280"/>
            <a:ext cx="7921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2005 -  </a:t>
            </a: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Ley de Rentas Municipales II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Nuevos recursos para los municipios provenientes 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1. Reavalúo de bienes raíces agrícolas y no agríco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2. Reavalúo anual sitios no edific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3. Eliminación de exenciones priv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4. Contribuciones de inmuebles fisc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5. Patentes de Sociedades de Profesion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6. Patentes acuíco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7. 18% multas juzgados de policía 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8. Aporte fiscal directo a los municipios (218.000 UT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9. Patentes mine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260280"/>
            <a:ext cx="7921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Modificación de criterios para el traspaso de recursos en educación y salu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418608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8200" indent="-80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1994 - Se sustituyen las subvenciones por tipo de prestación entregada (Fapem) por el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per-cápita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(permite elegir el consultorio donde inscribi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170028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240" indent="-90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1997–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ueva ley de subvención escola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sistema tarifario que reconoce diferencias de costo de acuerdo a la localización geográfica de los establecimientos y otorga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asignación de zona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subvención por ruralidad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tipo y nivel educacional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(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55640" y="565200"/>
            <a:ext cx="813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1773360"/>
            <a:ext cx="8137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1 – Estatuto Docente (mejora las remuneraciones, bonificaciones por perfeccionamiento, experiencia profesional y trabajo en condiciones difíciles, pero instituye la inamovilidad en el puesto de trabajo: rigidez en la gestión municip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3860640"/>
            <a:ext cx="813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4 – Estatuto del Personal de la Salud Municipalizada (normas sobre concursos, reglas de promoción funcionaria y remuneraciones, capacitación permanente y reconocimiento de anteceden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260280"/>
            <a:ext cx="8137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Medidas que restaron autonomía municipal en la gestión del personal de salud y educ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onsenso de Washington (1989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981000"/>
            <a:ext cx="8496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stado de políticas económicas consideradas durante los años ‘90 por los organismos financieros internacionales y centros económicos con sede en Washington, como el mejor programa económico que los países latinoamericanos debían aplicar para impulsar el cre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9120" y="2204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Énfasis de las reformas es netamente económico, pero impacta directamente en las política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minuye el gasto público soc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 descentralizan y privatizan los mecanismos de provisión de salud y 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as recomendaciones emanadas de las instituciones financieras multilaterales se traducen en la adopción de un modelo asist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olíticas compensatorias para la atención focalizada de los sectores sociales en extrema pobr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2565360"/>
            <a:ext cx="79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8 - Reforma constitucional: autonomía a las municipalidades en la fijación de plantas y remuneraciones (artículo 1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26028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Avances en el área de la gestión municip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981000"/>
            <a:ext cx="77752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5 - Programa de Fortalecimiento Municipal (PROFIM): apoya técnicamente a las municipalidades con mayores dificultades de gestión para elaborar planes de desarrollo, diseñar estrategias de planificación organizacional y presupuestaria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3840" y="3354480"/>
            <a:ext cx="842616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1999 – Reforma LO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Amplía las capacidades de asociativismo municip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stablece la obligatoriedad de coordinación de los servicios públicos en el territorio comu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Otorga mayor capacidad de fiscalización del Concejo Muni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Amplía la competencia municipal en las áreas de asistencia jurídica, fomento productivo, prevención y atención de catástrofes, seguridad ciudadana y promoción de igualdad de oportunidades entre hombres y muje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stablece mecanismos de planificación municipal (PLADECO y Presupuesto).</a:t>
            </a: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orolario del ajuste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920" y="1270080"/>
            <a:ext cx="8435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La política social en América Latina se debate ent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Modelos determinados por el mercado: privados, individualistas e inequitativos (Argentina, Chil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Modelos correctores del mercado: públicos, solidarios e igualitarios: (Brasil y Costa Ric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4005360"/>
            <a:ext cx="8229600" cy="21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¿Cómo generar una reorganización del Estado que entregue más recursos y mayores responsabilidades a los entes subnacionales, capaz de reconocer y responder a la diversidad de situaciones locales, que promueva la participación social y busque soluciones a los problem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onsenso de Washingt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748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ciplina fiscal, de modo tal de garantizar excedentes presupues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svío de las prioridades del gasto público a las áreas más productivas (salud, educación e infraestructu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forma fiscal: bajar las tasas de impu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iberalización mercados financi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Mantención tipos de cambio estandarizados y competi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iberalización del comercio, supresión de las contingencias y baja de aranceles aduan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Igual tratamiento a las inversiones extranjeras directas que a las inter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ivatiz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sregulación - también de los sectores con fines soci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Garantía de los derechos de prop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ivat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3059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 sentido estricto significa el término de responsabilidades gubernament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resas públ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ítica de concesiones (en infraestructu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a parte de los servicios sociales no son privatizados en su forma "tradicional", sino que pasan a ser provistos por el sector privado, aun cuando su financiamiento permanece a cargo del Estado: modalidad de ejecución de políticas públicas a través de medios privad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 justifica por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iciencia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carga tributaria en América Latina pone límite a la provisión de servicios públicos de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do no tiene capacidad de dar respuesta a problemas complejos y dive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ovisión privada de servicios público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694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Externalización o subcontratació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Estado busca aunar recursos para fines sociales y/o aumentar la eficiencia de lo que hace, para lo cual se vincula con distintos segmentos del sector privado, las empresas lucrativas, organismos sin fines de lucro, la comunidad y las famil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Monopoly franchise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sector público designa a una empresa privada para que bajo estándares y tarifas prefijadas convenidas entregue el servicio en cuestión; la empresa es dueña del servicio y realiza las inversiones que sean neces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ovisión privada de servicios público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496360" cy="40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Managment contra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sector público es dueño y mantiene la propiedad y responsabilidad por un servicio, pero entrega su administración a manos priv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Vouchers” o b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ciudadano obtiene bienes y servicios de modo gratuito o subsidiado por el gobierno (con co-pago) y tiene libertad de elección respecto a donde adquirir el bien o servi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Políticas</a:t>
            </a: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Focalizadas</a:t>
            </a:r>
            <a:r>
              <a:rPr b="1" i="1" lang="es-ES_tradnl" sz="3800" spc="-1" strike="noStrike">
                <a:solidFill>
                  <a:srgbClr val="00800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e proponen beneficiar únicamente a sectores poblacionales ubicados por debajo de cierto umbral de pobreza o riesgo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La focalización es una opción e instrumento de las políticas sociales, al servicio de los objetivos de dichas polí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i es conveniente / pertinente focalizar depende de los objetivos de la política así como de la magnitud del tema de pobreza o riesgo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Mientras menor la magnitud o extensión de la pobreza mayor la necesidad de focaliz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n situaciones de pobreza generalizada es mas difícil y conflictivo focaliz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Políticas Focalizada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38188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e formulan pensando en un grupo destinatario específic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RITERIO CATEGO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l grupo se delimita por alguna vulnerabilidad específica asociada a una situación sociodemográfica, de ciclo vital o de inserción produc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RITERIO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delimita el grupo destinatario según una variable que refleja  pobreza o riesgo social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Ignacia Fernandez</cp:lastModifiedBy>
  <dcterms:modified xsi:type="dcterms:W3CDTF">2008-10-07T01:39:22Z</dcterms:modified>
  <cp:revision>29</cp:revision>
  <dc:subject/>
  <dc:title>Diapositiva 1</dc:title>
</cp:coreProperties>
</file>