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DB8A-FB98-4DDD-B3BB-56CC09D9BC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9BF-3A76-4FE8-82E3-7592D600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EF0-2265-4946-8377-A70B2534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6CE-9DC7-4113-AE51-21B311DA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1B7-EC7E-4F41-8AE4-48C08599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6E44-0014-4F10-B2D7-F7CF548F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5C2C-8603-4323-859D-5C9F8FD8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DE03-C77D-4557-BE50-C131AEB3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12FB-3899-409E-9ACD-2224502D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2F30-DC7D-44F9-9B16-8C9579E1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3E7B-4D32-426A-90A7-9EFA8A99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F716-28FD-452B-88A2-72427B32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C85-64E5-46EB-B0C0-4664081A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0A3D-9C5E-449B-9AC2-EE69FC1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2D83-1DA7-4234-8A7F-78AFFB85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8BB0-DA38-430F-9358-47EA93E1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FE1C-D5F9-4DFA-B4B8-0324CE02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4987-F8E8-4ABB-8D05-7B75429F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F15-A22B-4CF6-A4D6-FE6F72B8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156-646F-45D9-8ABC-C010BC9A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19C-BE51-4673-BF94-632F1C7F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17C-4147-4CCB-98F7-A5B29DD4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4CF-4971-4779-B2AF-08132C93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4F7-DA02-4805-BA37-A872430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BBD-C38C-414F-A265-006DF79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89F2-C821-456C-84DA-85B39F4DFCA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D9F-44E4-4E05-8E58-49BFD2A2C00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22Z</dcterms:modified>
  <cp:revision>29</cp:revision>
  <dc:subject/>
  <dc:title>Diapositiva 1</dc:title>
</cp:coreProperties>
</file>