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35D0-C08F-4512-BE32-A3C8968A23E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icialmente implicó relegitimar al Estado y devolverle credib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Quienes viven en condiciones de pobreza son afectados por barreras culturales, por carecer de información sobre los programas, por manejarse dificultosamente en la maraña burocrática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Bienes Públicos, Ej. Epidem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EAE-D0CB-4134-8DC6-AC519993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3D6-E4C6-495E-9A4D-598B996F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E1A-8375-4BCE-A0C2-36F70BDC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CE0B-4EF3-4D4A-8B37-AB16F594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F23A-67D5-4F6B-8F23-ACDAD623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62B8-5ABF-45A8-8952-9563412F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3E5F-8B39-4702-9C01-F2E9E285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E947-8758-4B5E-99AE-C2DEA4BF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FCF7-9C70-40A0-B5C9-F40589C1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A32A-46A9-4981-97E0-C56BED11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A601-897C-4B82-9AE4-F95543F3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CAF-871D-4426-A3F7-86F07F86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5EE4-10FF-4AAB-9CCB-3B1679E6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B24C-770F-402F-AD64-8E01FC0A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6015-EA87-4056-A6D8-D6CE7DA9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3BF2-2594-4601-93E9-FD3D9CFC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3FFA-54CF-4CC3-ADAC-BFEB1E01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F44-4944-4BD7-914B-2D1BF415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E48A-33A1-4747-B3D6-E9367D7B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220-9213-4B78-99A4-5369ABC1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6F6D-F9C9-42D9-8C44-0D8B8E65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6A0-57CC-4D5C-A06A-42331E40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5EB8-6C88-4783-B66E-48C1C107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72B-FFEE-48E0-BE35-1EF29216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33C9-4850-424B-8E7A-FC5236DA270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96A7-3F86-4244-A4B1-6BCBF06A58B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116856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SEGUNDO MÓDULO: EVOLUCIÓN DE LA POLÍTICA SOCIAL EN AMÉRICA LATINA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6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ema 4. Las políticas de ajuste estructur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15328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Por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7956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spuesta a la crisis fiscal: reducir el gasto público a fin de equilibrar el  presupuesto 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liar los efectos sociales de la crisis y reducir la pobreza: concentrar el gasto social en la población más pobre, dar credibilidad al combate a l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ir el clientelismo: tecnificación y más transparencia en la asignación de benef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períodos de cris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Limitación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o de necesidades insatisfech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-42372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n forma perma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mejorar diseño de los progra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su eficac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Aumenta el impacto en la población destinat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2880" indent="-24840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Permite excluir a quienes no afecta la necesidad prevista en el programa  e incluir sólo a los directamente afect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3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uánd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1532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es posibl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Siempre que no se vulneren disposiciones legales de prestación de servicios gener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Defensa de bienes públicos (situaciones de epidemia y cuando existe un problema que no es visualizado como tal por la población con capacidad de pa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¿Cuándo </a:t>
            </a:r>
            <a:r>
              <a:rPr b="0" lang="es-ES_tradnl" sz="2600" spc="-1" strike="noStrike" u="sng">
                <a:solidFill>
                  <a:srgbClr val="000000"/>
                </a:solidFill>
                <a:uFillTx/>
                <a:latin typeface="Garamond"/>
              </a:rPr>
              <a:t>conviene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Bajo crisis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En prosperidad también ya     que asegura impacto en la solución de problemas y libera recurs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Magnitud del problema o riesg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Garamond"/>
              </a:rPr>
              <a:t>Cuando existe información suficiente para hacerlo con un costo 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37960"/>
            <a:ext cx="84358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. Mecanismos de focalización (selección de beneficiario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339920"/>
            <a:ext cx="861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demanda (individuos o grupo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potenciales beneficiarios directos (hogares, personas, unidades productivas) , vou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ofer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oriza entidades que ofrecen prestaciones, servicios o subsi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gún 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Hogares de localidad que califica de pobre, reciben el servicio o subsi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utoselección, programas que solo interesan al grupo al cual se quiere benefic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307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¿Cómo focalizar? </a:t>
            </a:r>
            <a:br>
              <a:rPr sz="3800"/>
            </a:b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Instrumentos de selec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534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ndividual o famili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rificación situación de ingreso o situación económica: ficha CAS u otra </a:t>
            </a: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opio del progra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eño autofocalizante: autoselección o a quienes entregan servicios y atienden a la población mas pobre. Precisa diagnósticos de las instituciones o serv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-46512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Áreas geográfic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quiere identificar territorios en los que haya fuerte incidencia de pobr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5160" indent="-3283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pas de pobreza, áreas con fuerte concentración de pobreza o necesidades insatisfech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0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Costos de focaliz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Administra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Tareas de elaboración, aplicación, actualización y control de los instrumentos (varía entre 0.4% y 29% del costo total del progr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ostos psicosocia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stigmatización social y dependencia de la población de los programas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fectos secundarios o no esper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parar a los pobres de los no pobres, polarización o du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Apoyo político y continuidad de los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Errores de focalización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In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El beneficio se filtra hacia segmentos sociales excluidos del grupo destina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 Exclus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Brecha entre el universo de los destinatarios y los sujetos acogidos por el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981000"/>
            <a:ext cx="8512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No hay una sola manera de focalizar. Ficha socioeconómica de hogares es fal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 es aplicada en forma exclusiva, deja de lado el entorno comunitario en el cual se desenvuelve la vida de las personas, éste es tan importante como las intervenciones a nivel individ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Ventajas y desventajas de la focalización dependen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ituación específica y momentos en los cuales se ap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Características de la pobreza y vulnerabilidades específicas que afectan a la población y los procesos que la determi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Objetivos de la política o program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3360" indent="-2372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articularidades de las instituciones a cargo de la ejecución de los programas y de los sistemas de información que manej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ceptos básicos sobre descentralización del Estado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43588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Proceso de traspaso de atribuciones, competencias y responsabilidades desde el nivel central del Estado a los niveles subnacion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Administrativ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competencias de gest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Financiera o fiscal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influencia en materia de presupuesto (generación de ingresos propios o atribuciones en materia de gast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Garamond"/>
              </a:rPr>
              <a:t>Democrática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: atribuciones resolutivas para la toma de deci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341360"/>
          <a:ext cx="8424720" cy="444204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oncen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minución del aparato esta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ernización del Estad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operat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isciplina financi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scentralización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librio macroeconómico y disciplina fis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ficiencia en la provisión de servic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qu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Buen gobier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6633"/>
                </a:solidFill>
                <a:latin typeface="Garamond"/>
              </a:rPr>
              <a:t>Argumentos a favor de la descentralización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484280"/>
          <a:ext cx="8424720" cy="3286080"/>
        </p:xfrm>
        <a:graphic>
          <a:graphicData uri="http://schemas.openxmlformats.org/drawingml/2006/table">
            <a:tbl>
              <a:tblPr/>
              <a:tblGrid>
                <a:gridCol w="2521080"/>
                <a:gridCol w="590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ipos de descentraliz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entajas asoci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emocr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rticipaci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trol ciudad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ccountability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gubernamen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stabilidad polí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obern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ranspar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ofundización de la democra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Ajuste estructural de los ‘80 – ‘90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texto: gobiernos autoritarios, ajuste macroeconómico y liberalización comercial, crisis de la deu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hile pion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nsenso de Washingt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Reformas económicas que impactan en lo social: disminuye el gasto público social, se descentralizan y privatizan los mecanismos de provisión de salud y educación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Modelo asistencial de políticas compensator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líticas de excepción” que van en alivio de población en situación mas difíci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-31824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gramas de compens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2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1774440"/>
            <a:ext cx="75247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ceso de regionalización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2371680"/>
            <a:ext cx="807552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Reordenamiento espacial que busca la articulación económico-social-geopolítica y administrativa en ámbitos territoriales determinados, todo ello con la finalidad de alcanzar el desarrollo autosostenido de grandes unidades territoriales” (CONARA,197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89000"/>
            <a:ext cx="83516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Reorganización administrativa del Estado (1974 – 1976) y conformación del nivel local (1976 – 1989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267080" y="6172200"/>
            <a:ext cx="7632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8960" y="4067280"/>
            <a:ext cx="7943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icio de la desconcentración de la adminis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ior d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ecretarías Regionales Ministe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ubsecretaría de Desarrollo Reg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NDR (fondo de compensación territorial) (19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6920" y="260280"/>
            <a:ext cx="684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Énfasis en lo lo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160640"/>
            <a:ext cx="75614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creto de Ley 1.289 (Año 1975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Orgánica de Municipalidades y Administración Comu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unicipios: órganos funcionalmente descentralizados, se les otorga responsabilidades ejecutivas y de gestión de servicios y se les confiere el rol de “agentes del desarrollo económico y social de las comunas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386064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tablece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unciones privativa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mparti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3500280"/>
            <a:ext cx="820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corpora el Plan regulador comu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473720"/>
            <a:ext cx="7848360" cy="22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..son corporaciones autónomas de derecho público, con personalidad jurídica y patrimonio propio, cuya finalidad es satisfacer las necesidades de la comunidad local y asegurar su participación en el progreso económico, social y cultural de las respectivas comunas”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LOCM, 198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71640" y="765000"/>
            <a:ext cx="691344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Década de los ‘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raspaso de los establecimientos educacionales públicos y de los consultorios de salud prima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stema de financiamiento: subvenciones por prestaciones otorg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00000"/>
              </a:lnSpc>
              <a:spcBef>
                <a:spcPts val="1375"/>
              </a:spcBef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ndo Común Municipal (1979): fondo de compensación entre los municip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1442880"/>
            <a:ext cx="79218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aramond"/>
              <a:buAutoNum type="arabicPlain" startAt="199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- Ley Orgánica Constitucional sobre Gobierno y Administración Region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stalación de Gobiernos Regionales en las 13 region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161640" y="119160"/>
            <a:ext cx="726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de la Concertació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Gobiernos Reg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2965320"/>
            <a:ext cx="698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GOR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-&gt; órganos descentralizados, establecidos para la administración superior de cada región, con el objeto de promover el desarrollo económico, social y cultural. Dotados de personalidad jurídica de derecho público, con autonomía relativa y patrimonio prop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4898880"/>
            <a:ext cx="741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unciones: generales, ordenamiento territorial y fomento de las actividades productiv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260280"/>
            <a:ext cx="8137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Nuevos fondos de inversión de decisión reg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170640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Sectorial de Asignación Regional (ISAR, 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213372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onvenios de Programación (199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56536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00000"/>
              </a:lnSpc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Inversión Regional de Asignación Local (IRAL, 199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3500280"/>
            <a:ext cx="813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 reestructura el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FNDR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: ítem provisiones (1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4302000"/>
            <a:ext cx="73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gunda mitad de los ’90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sfuerzos se concentraron en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consolidar la institucionalidad regional y fortalecer la capacidad de gestión técnica y financi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1557360"/>
            <a:ext cx="8136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uev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oncepción FNDR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-&gt; programa de inversiones públicas cuyo fin es el desarrollo regional integ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odificación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structura y funciones de los gobiernos regional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para una gestión más transparente y eficiente: ARI y PROP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mité interministerial para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zonas extrema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CIDEZ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reación de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 nuevas regiones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433080"/>
            <a:ext cx="76960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Período 2000 – 2006</a:t>
            </a:r>
            <a:r>
              <a:rPr b="0" lang="en-US" sz="3400" spc="-1" strike="noStrike">
                <a:solidFill>
                  <a:srgbClr val="000099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95280" y="1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Más atribuciones y recursos para la gestión muni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1708200"/>
            <a:ext cx="817236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Democratización de las municipalidades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2 - Elección indirecta de alcaldes y directa de concej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6 - Elección directa de alcald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1 - Elección separada de alcaldes y concej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716280"/>
            <a:ext cx="81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Modificación Ley de Rentas Municip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-  Se modifica el Impuesto territorial a los bienes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raíces lo que aumenta la recaudación de los municipios por concepto de recursos propios y por aportes del Fondo Común Municip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Posteriores modificaciones años 2000 y 200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6920" y="18900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2000 - 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Ley de Rentas Municipales I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Modifica la composición del FCM. Aumenta los aportes al fondo por la vía de: elevar de 4 mil a 8 mil UTM el tope por el pago de patentes comerciales, elevar de 50 a 62,5% el aporte por concepto de permisos de circulación y reajustar de 60 a 65% la contribución de los cuatro municipios de más altos ingre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2492280"/>
            <a:ext cx="7921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005 -  </a:t>
            </a:r>
            <a:r>
              <a:rPr b="1" lang="es-ES" sz="2200" spc="-1" strike="noStrike">
                <a:solidFill>
                  <a:srgbClr val="000000"/>
                </a:solidFill>
                <a:latin typeface="Garamond"/>
              </a:rPr>
              <a:t>Ley de Rentas Municipales II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Nuevos recursos para los municipios provenientes 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. Reavalúo de bienes raíces agrícolas y no agr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2. Reavalúo anual sitios no edific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3. Eliminación de exenciones priva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4. Contribuciones de inmuebles fisc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5. Patentes de Sociedades de Profes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6. Patentes acuíco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7. 18% multas juzgados de policía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8. Aporte fiscal directo a los municipios (218.000 UT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9. Patentes mine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260280"/>
            <a:ext cx="79214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odificación de criterios para el traspaso de recursos en educación y sal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4186080"/>
            <a:ext cx="81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4 - Se sustituyen las subvenciones por tipo de prestación entregada (Fapem) por el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per-cápit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permite elegir el consultorio donde inscribi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170028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1997–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Nueva ley de subvención escol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03240" indent="-90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sistema tarifario que reconoce diferencias de costo de acuerdo a la localización geográfica de los establecimientos y otorga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asignación de zona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subvención por ruralidad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y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Garamond"/>
              </a:rPr>
              <a:t>tipo y nivel educacional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 (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565200"/>
            <a:ext cx="81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1773360"/>
            <a:ext cx="8137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1 – Estatuto Docente (mejora las remuneraciones, bonificaciones por perfeccionamiento, experiencia profesional y trabajo en condiciones difíciles, pero instituye la inamovilidad en el puesto de trabajo: rigidez en la gestión municip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386064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4 – Estatuto del Personal de la Salud Municipalizada (normas sobre concursos, reglas de promoción funcionaria y remuneraciones, capacitación permanente y reconocimiento de anteceden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60280"/>
            <a:ext cx="8137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Medidas que restaron autonomía municipal en la gestión del personal de salud y educ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onsenso de Washington (1989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981000"/>
            <a:ext cx="8496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istado de políticas económicas consideradas durante los años ‘90 por los organismos financieros internacionales y centros económicos con sede en Washington, como el mejor programa económico que los países latinoamericanos debían aplicar para impulsar el cre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912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Énfasis de las reformas es netamente económico, pero impacta directamente en las política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minuye el gasto público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Se descentralizan y privatizan los mecanismos de provisión de salud y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as recomendaciones emanadas de las instituciones financieras multilaterales se traducen en la adopción de un modelo asist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olíticas compensatorias para la atención focalizada de los sectores sociales en extrema 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2565360"/>
            <a:ext cx="79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8 - Reforma constitucional: autonomía a las municipalidades en la fijación de plantas y remuneraciones (artículo 1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360" y="2602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33"/>
                </a:solidFill>
                <a:latin typeface="Garamond"/>
              </a:rPr>
              <a:t>Avances en el área de la gestión municip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981000"/>
            <a:ext cx="7775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1995 - Programa de Fortalecimiento Municipal (PROFIM): apoya técnicamente a las municipalidades con mayores dificultades de gestión para elaborar planes de desarrollo, diseñar estrategias de planificación organizacional y presupuestaria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3840" y="3354480"/>
            <a:ext cx="8426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aramond"/>
              </a:rPr>
              <a:t>1999 – Reforma LO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s capacidades de asociativismo municip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la obligatoriedad de coordinación de los servicios públicos en el territorio comu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torga mayor capacidad de fiscalización del Concejo Muni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mplía la competencia municipal en las áreas de asistencia jurídica, fomento productivo, prevención y atención de catástrofes, seguridad ciudadana y promoción de igualdad de oportunidades entre hombres y muj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6633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stablece mecanismos de planificación municipal (PLADECO y Presupuesto).</a:t>
            </a:r>
            <a:r>
              <a:rPr b="1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rolario del ajuste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270080"/>
            <a:ext cx="8435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La política social en América Latina se debate ent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determinados por el mercado: privados, individualistas e inequitativos (Argentina, Chi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Modelos correctores del mercado: públicos, solidarios e igualitarios: (Brasil y Costa Ric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4005360"/>
            <a:ext cx="822960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¿Cómo generar una reorganización del Estado que entregue más recursos y mayores responsabilidades a los entes subnacionales, capaz de reconocer y responder a la diversidad de situaciones locales, que promueva la participación social y busque soluciones a los probl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onsenso de Washingt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isciplina fiscal, de modo tal de garantizar excedentes presupues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vío de las prioridades del gasto público a las áreas más productivas (salud, educación e infraestruc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forma fiscal: bajar las tasas de impue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mercad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Mantención tipos de cambio estandarizados y compet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Liberalización del comercio, supresión de las contingencias y baja de aranceles aduan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Igual tratamiento a las inversiones extranjeras directas que a las inte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rivat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Desregulación - también de los sectores con fines so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Garantía de los derechos de 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ivat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059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 sentido estricto significa el término de responsabilidades gubernament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res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ítica de concesiones (en infraestruc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a parte de los servicios sociales no son privatizados en su forma "tradicional", sino que pasan a ser provistos por el sector privado, aun cuando su financiamiento permanece a cargo del Estado: modalidad de ejecución de políticas públicas a través de medios privad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 justifica por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iciencia 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ja carga tributaria en América Latina pone límite a la provisión de servicios públicos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do no tiene capacidad de dar respuesta a problemas complejos y dive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69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Externalización o subcontratació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Estado busca aunar recursos para fines sociales y/o aumentar la eficiencia de lo que hace, para lo cual se vincula con distintos segmentos del sector privado, las empresas lucrativas, organismos sin fines de lucro, la comunidad y las famil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onopoly franchis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designa a una empresa privada para que bajo estándares y tarifas prefijadas convenidas entregue el servicio en cuestión; la empresa es dueña del servicio y realiza las inversiones que sean neces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Provisión privada de servicios públic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0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Managment contra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sector público es dueño y mantiene la propiedad y responsabilidad por un servicio, pero entrega su administración a manos priv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Garamond"/>
              </a:rPr>
              <a:t>Vouchers” o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</a:rPr>
              <a:t>El ciudadano obtiene bienes y servicios de modo gratuito o subsidiado por el gobierno (con co-pago) y tiene libertad de elección respecto a donde adquirir el bien o serv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</a:t>
            </a: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Focalizadas</a:t>
            </a:r>
            <a:r>
              <a:rPr b="1" i="1" lang="es-ES_tradnl" sz="38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proponen beneficiar únicamente a sectores poblacionales ubicados por debajo de cierto umbral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focalización es una opción e instrumento de las políticas sociales, al servicio de los objetivos de dichas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i es conveniente / pertinente focalizar depende de los objetivos de la política así como de la magnitud del tema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Mientras menor la magnitud o extensión de la pobreza mayor la necesidad de focaliz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n situaciones de pobreza generalizada es mas difícil y conflictivo focal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6633"/>
                </a:solidFill>
                <a:latin typeface="Garamond"/>
              </a:rPr>
              <a:t>Políticas Focalizad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18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Se formulan pensando en un grupo destinatario específic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CATEG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l grupo se delimita por alguna vulnerabilidad específica asociada a una situación sociodemográfica, de ciclo vital o de inserción produc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RITERIO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elimita el grupo destinatario según una variable que refleja  pobreza o riesgo social</a:t>
            </a: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9:22Z</dcterms:modified>
  <cp:revision>29</cp:revision>
  <dc:subject/>
  <dc:title>Diapositiva 1</dc:title>
</cp:coreProperties>
</file>