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FFF2-9B26-4FF0-8862-529DA52B4E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20A-6E14-487D-993F-CE4193E7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968-30F2-49B8-A606-97288C9A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A37-6186-4196-8301-B21D616F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AE4-75CE-404E-B058-83E9A51E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8730-E702-4770-A92D-6A18A897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BA04-17A8-42DF-A371-67E01B51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B6D9-CB72-447B-9853-A5F69A05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39F3-4D77-4F68-9B96-B93DE4D6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7616-EE51-4B4A-8740-8D3465F4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27CB-C899-4485-A72D-51006FBA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7499-33F7-4202-9377-59062AA9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9B3-37A7-4FD4-996D-17505225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DFCA-D407-4DD2-895A-94FB0ADD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50C-8478-436D-84C4-35534862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A691-0FF5-43B0-B0A7-1D5AE088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BCD1-DBCE-444A-91C3-E82B882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4D0F-D942-4242-889E-A1ED6ACF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2EC-470E-4521-A890-27B017D5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06D-E12A-434F-8442-709C6009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E44-68DE-45D0-A769-9618FF34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C0E-1DE3-4358-864E-0B7814F6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B96-DF68-45BF-BE0F-39D146BE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12E-06A3-4B86-AB8F-10909D5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862-4D0F-45A2-BF6D-027BD238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7551-FD88-4595-BD43-DD2F3113CDD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089-6659-434F-831C-193B897CBE8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22Z</dcterms:modified>
  <cp:revision>29</cp:revision>
  <dc:subject/>
  <dc:title>Diapositiva 1</dc:title>
</cp:coreProperties>
</file>