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88BB-88D9-4F91-ABC9-AD3E2F7673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920-5C30-482C-A3F6-A3866ABA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D4F-783A-4A93-BB9C-720A7B58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701-7E56-465C-B452-AE6B1A9B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A0E-8BB8-4BE1-804D-485559AE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A26F-C8E9-458A-B1FA-DF21A143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BC7B-66CE-4A2F-A9CD-09A1D477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50BC-5269-4A08-8201-3325D2C2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B113-69AF-4D17-AD43-D38F94B0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7A03-59DD-4414-885C-8461229E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E327-0396-4D2A-9F27-B13D7FB1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469D-A302-4A6C-8A8A-9D75F4DC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B3E-68DB-409F-AD13-0B9005EF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7433-3FFB-4E8D-A775-6E6BB09D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B197-7C21-48B2-9EAD-0FA5CC36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8EEF-9F18-4E84-B059-C1055055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3361-DD0D-4755-A720-D2E91BE9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18D2-A8E1-4360-872F-E72D4AA1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67E-3FC3-4AAB-8C09-92E94429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661-47A9-481D-B87A-5542CAFA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C34-2752-491E-A456-3E5F4B16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BDF-4221-4A9E-A2C5-89CC6F9A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31C-8876-4608-9AFB-CD4B8094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290-22FF-4B32-905F-8D32FD49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D8C-173D-41D1-9B24-39266F9F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4813-914D-4F2D-A36A-37C64C1ACAB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984A-0548-4703-999B-61CD4126114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22Z</dcterms:modified>
  <cp:revision>29</cp:revision>
  <dc:subject/>
  <dc:title>Diapositiva 1</dc:title>
</cp:coreProperties>
</file>