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796-D1B6-4A36-9971-4E4FF5F8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B1D-FD7E-440A-9D67-C119BC2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801-BD18-4A3D-9454-748106BF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308-E13F-40D5-9C6B-3F142A1D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5F09-A43F-4C22-80B1-E9D629D9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676C-593D-4471-933A-67524F5E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0B68-B7A8-4711-94B0-AAC45D8E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4744-2DCE-4BCB-B082-F838709D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DDDC-5020-4EB8-87A3-C031445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4806-685C-4A97-B1AF-EC12E771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CAE-8FF0-4DA6-97EE-0DC8654C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991-7255-4C1B-9B12-7FE3CB3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5DC3-3D0E-46CC-87A3-6FF062DD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3ACF-7F6F-4381-AF9A-069AFC1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8BAE-11EA-4C22-A0DF-069AF3D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8077-FFC8-462C-B96B-8008DB5F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E0BC-774B-4991-AAB6-55889F49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64D-11AB-4652-9C16-B54A5D5B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787-2CD2-4A3C-AD3F-9ED25977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320-8E9E-4F9D-98A2-11283DA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219-E48E-47E2-9F91-71FC0956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EEF-3765-4E01-892C-E3D23E9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9BF-AC86-484E-BBA0-8AF3F88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976-B908-444A-B89E-5675A8E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7D5D-3B22-47A0-A17B-816E8668AE3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8345-1479-42D7-903D-212F1B3FB56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3. La conformación del Estado Soci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uevas condiciones sociales desafían el Estado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in del pleno emp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demográficos y en la composición de la estructur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Jefatura de hogar femenina, incorporación mujer al mercado laboral, envejecimiento de la pobl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Modificación ciclos de vida tradicion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s expectativas de vida de los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versificación e individualización de los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stado de Bienest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stitución típicamente moderna (Inglaterra fines del S. XI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st Segunda Guerra Mundial: pacto entre empresarios, trabajadores y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poge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Décadas del ‘50 al ’70: los años glorio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binación de un sostenido crecimiento económico y el pleno desarrollo del Estad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incipios constitutivos Eº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tección social en torno del trabajador en relación con su lugar de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ocialización de los riesg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mite a una dimensión probabilística de lo social (el riesgo es calculable, los riesgos están igualmente repartidos y son aleatori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frece la ventaja de poder considerar conjuntamente problemas diferentes (enfermedad, vejez, desempleo, accidente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ermite plantear en nuevos términos el ejercicio de la justicia. El seguro social no es asistencia. Representa la ejecución de un contrato en el cual el Estado y los ciudadanos están igualmente implicados (Rosanvallón, 199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6633"/>
                </a:solidFill>
                <a:latin typeface="Garamond"/>
              </a:rPr>
              <a:t>Regímenes de bienestar (Esping-Andersen) 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tres mundos del Estado de Bienestar (199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ibe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redomina el mercado sobre el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servad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istemas de seguridad social segmentados por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demócra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stado es el principal responsable de la provisión del bienes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Regímenes de bienestar (Esping Andersen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1052640"/>
          <a:ext cx="8631000" cy="5008320"/>
        </p:xfrm>
        <a:graphic>
          <a:graphicData uri="http://schemas.openxmlformats.org/drawingml/2006/table">
            <a:tbl>
              <a:tblPr/>
              <a:tblGrid>
                <a:gridCol w="2477880"/>
                <a:gridCol w="1986120"/>
                <a:gridCol w="2160360"/>
                <a:gridCol w="2006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be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cialdemócr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rv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idi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o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divid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ivers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entesco Corporativismo Estat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gar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do de desmercanti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ín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áx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to (para cabeza de famil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mérica Latina (Orige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urgen a imitación de los europe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obertura y calidad de los mecanismos aseguradores es notoriamente más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erencias estructurales en el mercado del trabajo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No hay pacto o contrato social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esarrollo de las políticas sociales es anterior a la democratización pl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ampliación de los derechos sociales tiene lugar en forma previa al pleno reconocimiento de los derechos políticos de ciudadaní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. Latina (característica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eguridad social para grupos específicos de trabajado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mpleadores proporcionan protección de empleo a los trabajadores form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tado provee salud y edu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amilia representa una importante fuente de seguridad contra los riesgos soci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egmentación por categorías ocup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Importantes segmentos de población excluidos (por heterogeneidad estructural del mercado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rupos de países (Mesa-Lago, 1999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Argentina, Brasil, Chile, Costa Rica y Uruguay (1910 y 1920, consolidación en los años ’50): seguros para accidentes del trabajo, pensiones, enfermedad y maternidad. Cobertura desig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Bolivia, Colombia, Ecuador, México, Panamá, Paraguay, Perú y Venezuela (1940): niveles de cobertura más bajos y el patrón de seguridad social estratificada se mantuv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pública Dominicana, El Salvador, Guatemala, Haití, Honduras y Nicaragua (años ’50 y ’60): cobertura muy limitada incluso para la población activa. No incluye seguros de desempleo o prestaciones famili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Grupos de países 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0" lang="es-ES_tradnl" sz="3600" spc="-1" strike="noStrike">
                <a:solidFill>
                  <a:srgbClr val="006633"/>
                </a:solidFill>
                <a:latin typeface="Garamond"/>
              </a:rPr>
              <a:t>Huber, 1996; Fleury, 1999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rgentina, Chile, Costa Rica, Brasil, Uruguay y Colombia: desarrollan mecanismos de protección extendidos, que incluyen acceso más o menos universal a la salud y la educación pública, aunque segmentados y estratificados por grupos ocupacionales con distintos grados de privileg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to de los países latinoamericanos: en ningún momento institucionalizan políticas sociales estables y extendi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34Z</dcterms:modified>
  <cp:revision>13</cp:revision>
  <dc:subject/>
  <dc:title>Diapositiva 1</dc:title>
</cp:coreProperties>
</file>