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351-32AD-4EF7-89D5-5C5E28E0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901-E57B-4C29-84B7-A4EB82AE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506-6151-4139-AB4B-35660B86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613-64F5-4534-9181-7E2800BD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18A2-1F6E-49A9-9EA6-C60C3228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D765-CDFD-4C7B-8D84-7DAF8C58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0410-E04C-46A7-AB93-64436646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3643-1416-4603-9385-45FA78A3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F0F5-451F-43BD-9177-8C226883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0DA7-7B77-4C0F-AAE8-820B53FF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0138-F743-4A1A-9AE4-F33E2ACC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624-6CE7-499F-BA9B-752A1EB6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B81C-0118-466C-B3DB-BCA5BC92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E8ED-52CF-45AA-881F-BB459DBD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C80E-A4C2-4160-8D92-2C62E471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94CD-AAC2-452E-A80A-84F9199F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B0C8-FBA4-4D66-AD4F-ED3C9F5C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32C-E3B2-4DDB-9E86-A3F911F2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713-0543-4418-A6D7-B6BFAB1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60A-1F28-4831-85B2-45964028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04E-0195-48FA-AD11-E05B89FC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3F2-A906-4819-8DEE-34479F12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532-F74E-46E0-BA01-5D579551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AA4-80B9-4726-B2C0-0156E80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8CA-BF12-4C9C-BC1B-EBECE1801B7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54B8-D580-4290-BFB0-FFB883D9D18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3. La conformación del Estado Soci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uevas condiciones sociales desafían el Estado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in del pleno emp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demográficos y en la composición de la estructur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Jefatura de hogar femenina, incorporación mujer al mercado laboral, envejecimiento de la pobl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Modificación ciclos de vida tradiciona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s expectativas de vida de los indiv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versificación e individualización de los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stado de Bienest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stitución típicamente moderna (Inglaterra fines del S. XI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st Segunda Guerra Mundial: pacto entre empresarios, trabajadores y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poge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Décadas del ‘50 al ’70: los años glorio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binación de un sostenido crecimiento económico y el pleno desarrollo del Estad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incipios constitutivos Eº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tección social en torno del trabajador en relación con su lugar de 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ocialización de los riesg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mite a una dimensión probabilística de lo social (el riesgo es calculable, los riesgos están igualmente repartidos y son aleatorio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frece la ventaja de poder considerar conjuntamente problemas diferentes (enfermedad, vejez, desempleo, accidente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ermite plantear en nuevos términos el ejercicio de la justicia. El seguro social no es asistencia. Representa la ejecución de un contrato en el cual el Estado y los ciudadanos están igualmente implicados (Rosanvallón, 199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6633"/>
                </a:solidFill>
                <a:latin typeface="Garamond"/>
              </a:rPr>
              <a:t>Regímenes de bienestar (Esping-Andersen) 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tres mundos del Estado de Bienestar (199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ibe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predomina el mercado sobre el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servad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istemas de seguridad social segmentados por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demócra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Estado es el principal responsable de la provisión del bienes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Regímenes de bienestar (Esping Andersen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1052640"/>
          <a:ext cx="8631000" cy="5008320"/>
        </p:xfrm>
        <a:graphic>
          <a:graphicData uri="http://schemas.openxmlformats.org/drawingml/2006/table">
            <a:tbl>
              <a:tblPr/>
              <a:tblGrid>
                <a:gridCol w="2477880"/>
                <a:gridCol w="1986120"/>
                <a:gridCol w="2160360"/>
                <a:gridCol w="2006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be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cialdemócr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erva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idi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o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divid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ivers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entesco Corporativismo Estat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ugar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rado de desmercantiliz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ín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áx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to (para cabeza de famil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mérica Latina (Orige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urgen a imitación de los europe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obertura y calidad de los mecanismos aseguradores es notoriamente más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erencias estructurales en el mercado del trabajo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No hay pacto o contrato social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esarrollo de las políticas sociales es anterior a la democratización ple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ampliación de los derechos sociales tiene lugar en forma previa al pleno reconocimiento de los derechos políticos de ciudadaní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. Latina (característica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eguridad social para grupos específicos de trabajado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mpleadores proporcionan protección de empleo a los trabajadores form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tado provee salud y educ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amilia representa una importante fuente de seguridad contra los riesgos soci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egmentación por categorías ocup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Importantes segmentos de población excluidos (por heterogeneidad estructural del mercado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Grupos de países (Mesa-Lago, 1999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Argentina, Brasil, Chile, Costa Rica y Uruguay (1910 y 1920, consolidación en los años ’50): seguros para accidentes del trabajo, pensiones, enfermedad y maternidad. Cobertura desig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Bolivia, Colombia, Ecuador, México, Panamá, Paraguay, Perú y Venezuela (1940): niveles de cobertura más bajos y el patrón de seguridad social estratificada se mantuv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pública Dominicana, El Salvador, Guatemala, Haití, Honduras y Nicaragua (años ’50 y ’60): cobertura muy limitada incluso para la población activa. No incluye seguros de desempleo o prestaciones famili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Grupos de países 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0" lang="es-ES_tradnl" sz="3600" spc="-1" strike="noStrike">
                <a:solidFill>
                  <a:srgbClr val="006633"/>
                </a:solidFill>
                <a:latin typeface="Garamond"/>
              </a:rPr>
              <a:t>Huber, 1996; Fleury, 1999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rgentina, Chile, Costa Rica, Brasil, Uruguay y Colombia: desarrollan mecanismos de protección extendidos, que incluyen acceso más o menos universal a la salud y la educación pública, aunque segmentados y estratificados por grupos ocupacionales con distintos grados de privileg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to de los países latinoamericanos: en ningún momento institucionalizan políticas sociales estables y extendi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34Z</dcterms:modified>
  <cp:revision>13</cp:revision>
  <dc:subject/>
  <dc:title>Diapositiva 1</dc:title>
</cp:coreProperties>
</file>