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1856-2C00-40FC-B70A-682FAFB82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EDB4-2812-4429-ACBC-0B797E69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9C8F-10E5-4E4F-A1A4-75EE4486E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158B-1AE7-4E39-9EE8-504A87E16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B4CE2-D4DA-46DB-AB2B-5F74FE51D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BE2AF-496D-48E3-A698-5FC7EAD9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22538-23B1-4ADD-9AD4-D349325B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D9AF-5B8E-4BCE-9783-A830395F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AB73-B05F-45C9-89D7-C9F584F3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2079C-A791-4139-902D-5D5EA008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9DFC-DCED-4674-A036-7C3CC602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4E9F-4BCA-449A-A67D-75F5BBBBF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C353-62E4-4750-9938-1AF461696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4F4A2-E66A-4BFD-B0D8-32843854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D2CC1-BA57-46AE-95C0-4BEAE0CA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8DDC-EAA4-41EA-9967-996D02E1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1F02-5B1F-457B-AA34-8CFDDA5DF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15CA-D037-4C8C-8EEF-64D4F795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A633-CB6F-41EF-848D-D6806375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3A8D-E241-48CE-987D-ADB6AD315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12DB-E16F-4960-B98C-528D60448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BDCE-4F7F-4DB8-8D97-136AAD99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DB13-7509-4D56-BFF3-1B82B0E3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1E52-4367-456F-9F50-EBAFC731B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122B-CA35-4A43-B767-553784E96EFA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2B78C-28E9-485E-AA5B-5CB6233BBE46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5840" y="1168560"/>
            <a:ext cx="7853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33"/>
                </a:solidFill>
                <a:latin typeface="Garamond"/>
              </a:rPr>
              <a:t>SEGUNDO MÓDULO: EVOLUCIÓN DE LA POLÍTICA SOCIAL EN AMÉRICA LATINA</a:t>
            </a: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4600"/>
            </a:br>
            <a:r>
              <a:rPr b="0" lang="en-US" sz="3400" spc="-1" strike="noStrike">
                <a:solidFill>
                  <a:srgbClr val="006633"/>
                </a:solidFill>
                <a:latin typeface="Garamond"/>
              </a:rPr>
              <a:t>Tema 3. La conformación del Estado Social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Octu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Nuevas condiciones sociales desafían el Estado de Bienest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4920" y="1773000"/>
            <a:ext cx="84358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Fin del pleno emple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mbios demográficos y en la composición de la estructura famil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408680" indent="-594000">
              <a:lnSpc>
                <a:spcPct val="10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Jefatura de hogar femenina, incorporación mujer al mercado laboral, envejecimiento de la población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1408680" indent="-594000">
              <a:lnSpc>
                <a:spcPct val="100000"/>
              </a:lnSpc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3618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Garamond"/>
              </a:rPr>
              <a:t>Modificación ciclos de vida tradicional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Cambios en las expectativas de vida de los individu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Diversificación e individualización de los ries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440" indent="-3254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Exclusión so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stado de Bienesta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Institución típicamente moderna (Inglaterra fines del S. XIX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ost Segunda Guerra Mundial: pacto entre empresarios, trabajadores y Est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Apogeo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Décadas del ‘50 al ’70: los años glorio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Combinación de un sostenido crecimiento económico y el pleno desarrollo del Estado soci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Principios constitutivos Eº de Bienest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731520" indent="-7315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rotección social en torno del trabajador en relación con su lugar de trabajo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731520" indent="-73152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ocialización de los riesgos socia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64440" indent="-6336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Remite a una dimensión probabilística de lo social (el riesgo es calculable, los riesgos están igualmente repartidos y son aleatorio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4440" indent="-6336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Ofrece la ventaja de poder considerar conjuntamente problemas diferentes (enfermedad, vejez, desempleo, accidentes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4440" indent="-633600">
              <a:lnSpc>
                <a:spcPct val="90000"/>
              </a:lnSpc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Garamond"/>
              </a:rPr>
              <a:t>Permite plantear en nuevos términos el ejercicio de la justicia. El seguro social no es asistencia. Representa la ejecución de un contrato en el cual el Estado y los ciudadanos están igualmente implicados (Rosanvallón, 199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6633"/>
                </a:solidFill>
                <a:latin typeface="Garamond"/>
              </a:rPr>
              <a:t>Regímenes de bienestar (Esping-Andersen) </a:t>
            </a:r>
            <a:endParaRPr b="0" lang="en-US" sz="3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5075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s tres mundos del Estado de Bienestar (1993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Libera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predomina el mercado sobre el Est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Conservado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sistemas de seguridad social segmentados por stat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ocialdemócrat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Estado es el principal responsable de la provisión del bienes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Regímenes de bienestar (Esping Andersen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24000" y="1052640"/>
          <a:ext cx="8631000" cy="5008320"/>
        </p:xfrm>
        <a:graphic>
          <a:graphicData uri="http://schemas.openxmlformats.org/drawingml/2006/table">
            <a:tbl>
              <a:tblPr/>
              <a:tblGrid>
                <a:gridCol w="2477880"/>
                <a:gridCol w="1986120"/>
                <a:gridCol w="2160360"/>
                <a:gridCol w="20066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ibe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ocialdemócrat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onservad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pel famil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ent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pel merc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ent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pel est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argin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Centr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Subsidiari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odo de solidaridad predominan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Individu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Universal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Parentesco Corporativismo Estatis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Lugar de solidaridad predominant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erc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Estad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Famili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Grado de desmercantilizació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íni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Máxim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Garamond"/>
                        </a:rPr>
                        <a:t>Alto (para cabeza de familia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ado Social en América Latina (Origen)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Surgen a imitación de los europe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Cobertura y calidad de los mecanismos aseguradores es notoriamente más baj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4520" indent="-640080">
              <a:lnSpc>
                <a:spcPct val="90000"/>
              </a:lnSpc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Diferencias estructurales en el mercado del trabajo </a:t>
            </a: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No hay pacto o contrato social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39080" indent="-7390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Desarrollo de las políticas sociales es anterior a la democratización ple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4520" indent="-64008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ampliación de los derechos sociales tiene lugar en forma previa al pleno reconocimiento de los derechos políticos de ciudadanía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stado Social en A. Latina (características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708480" indent="-708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Seguridad social para grupos específicos de trabajador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34200" indent="-6138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mpleadores proporcionan protección de empleo a los trabajadores form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4200" indent="-6138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Estado provee salud y educ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34200" indent="-61380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Garamond"/>
              </a:rPr>
              <a:t>La familia representa una importante fuente de seguridad contra los riesgos soci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08480" indent="-708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Segmentación por categorías ocup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708480" indent="-708480">
              <a:lnSpc>
                <a:spcPct val="9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aramond"/>
              </a:rPr>
              <a:t>Importantes segmentos de población excluidos (por heterogeneidad estructural del mercado de trabaj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Grupos de países (Mesa-Lago, 1999)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14640" indent="-314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aramond"/>
              </a:rPr>
              <a:t>Argentina, Brasil, Chile, Costa Rica y Uruguay (1910 y 1920, consolidación en los años ’50): seguros para accidentes del trabajo, pensiones, enfermedad y maternidad. Cobertura desigu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640" indent="-314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Bolivia, Colombia, Ecuador, México, Panamá, Paraguay, Perú y Venezuela (1940): niveles de cobertura más bajos y el patrón de seguridad social estratificada se mantuv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4640" indent="-314640">
              <a:lnSpc>
                <a:spcPct val="10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Garamond"/>
              </a:rPr>
              <a:t>República Dominicana, El Salvador, Guatemala, Haití, Honduras y Nicaragua (años ’50 y ’60): cobertura muy limitada incluso para la población activa. No incluye seguros de desempleo o prestaciones familiar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277560"/>
            <a:ext cx="842472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6633"/>
                </a:solidFill>
                <a:latin typeface="Garamond"/>
              </a:rPr>
              <a:t>Grupos de países </a:t>
            </a: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(</a:t>
            </a:r>
            <a:r>
              <a:rPr b="0" lang="es-ES_tradnl" sz="3600" spc="-1" strike="noStrike">
                <a:solidFill>
                  <a:srgbClr val="006633"/>
                </a:solidFill>
                <a:latin typeface="Garamond"/>
              </a:rPr>
              <a:t>Huber, 1996; Fleury, 1999</a:t>
            </a:r>
            <a:r>
              <a:rPr b="0" lang="es-ES" sz="3600" spc="-1" strike="noStrike">
                <a:solidFill>
                  <a:srgbClr val="006633"/>
                </a:solidFill>
                <a:latin typeface="Garamond"/>
              </a:rPr>
              <a:t>)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843588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Argentina, Chile, Costa Rica, Brasil, Uruguay y Colombia: desarrollan mecanismos de protección extendidos, que incluyen acceso más o menos universal a la salud y la educación pública, aunque segmentados y estratificados por grupos ocupacionales con distintos grados de privileg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Garamond"/>
              </a:rPr>
              <a:t>Resto de los países latinoamericanos: en ningún momento institucionalizan políticas sociales estables y extendid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Ignacia Fernandez</cp:lastModifiedBy>
  <dcterms:modified xsi:type="dcterms:W3CDTF">2008-10-07T01:39:34Z</dcterms:modified>
  <cp:revision>13</cp:revision>
  <dc:subject/>
  <dc:title>Diapositiva 1</dc:title>
</cp:coreProperties>
</file>