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B11F-C4D1-4136-A411-DE5EC6B0639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 mejor política social es aquella que logra responder a los 4ámbitos que son propios de la acción pública en materia social ho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g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yar procesos de integración y cohesión 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ortar a la constitución de una comunidad nacional, no rasgada por fracturas sociales seve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ibuir a la realización de derechos sociales de ciudadan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C96F-C4F9-4976-810A-7F0A4B280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3E65-4229-434D-B39B-553BBF02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1A77-021A-4129-8484-FEF209233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9531-0CDA-4EB0-8444-395CCA84E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26757-C720-48F3-94EC-0600BA5B5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428BE-5DB7-4F59-A0E0-E1D354515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D2A6-BDF8-4A53-8262-D96D4652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4E3B-B127-489F-91DB-6942DCC3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838D-4676-4C79-A698-1C8BEE37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BFBA-F791-4D02-8B72-ED54B6F6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5866-6A85-4B06-826A-F7AA8D0DB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FAF-761B-47D5-B65D-7E53B6E6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23C4D-4C8D-4713-AE7D-62063977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F41D6-4F42-481A-80AE-6126D1C6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24E44-194C-4B21-AD7F-AD3AA322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76FC-E2EC-46CC-A3B1-8A5C3218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2CDE-7F99-4AAA-B44C-117989707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FE8E-09D9-47D1-8F86-2A666102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F2E6-7552-4EA5-A8AE-D3EA84B2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57A8-2C85-4912-AAA0-AA512D12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0F38-3FE9-456F-832E-491BEBAF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8925-157F-4E82-9980-65B61331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E2A3-B719-47CC-890C-85A418FD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914-4C1C-4339-A17C-29F21134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–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BE53-14D5-475E-8637-74E875E36249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20AE-9A2A-45FA-A15B-BFA639F7B2D0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1197000"/>
            <a:ext cx="82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33"/>
                </a:solidFill>
                <a:latin typeface="Garamond"/>
              </a:rPr>
              <a:t>PRIMER MÓDULO: CONCEPTUALIZACIÓN Y MAGNITUD DEL FENÓMENO DE LA POBREZA Y LA POLÍTICA SOCIAL</a:t>
            </a:r>
            <a:br>
              <a:rPr sz="3600"/>
            </a:b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41497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64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abajar con sectores pobres y no pobres y ampliar vínculos entre ell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brir espacios de participación y poder: voz y escucha, fortalecimiento de habilidades de gestión de solución a problemas individuales y colectivos, de organizaciones sociales y sus líde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ruir con y a partir de iniciativas de los sectores pobr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e intervenciones flexibles que se construyen entre las partes involucradas tomando como punto de partida las capacidades  e iniciativas existentes, fortaleciendo y expandiéndo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s estrategias pasan necesariamente por un cambio en las personas (núcleo de intervención en general ausen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rategias diferenciadas según “capacidades” existentes, expandir capacidades y semillas de desarrollo personal y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260280"/>
            <a:ext cx="8964720" cy="14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 </a:t>
            </a:r>
            <a:r>
              <a:rPr b="1" lang="es-ES_tradnl" sz="3000" spc="-1" strike="noStrike">
                <a:solidFill>
                  <a:srgbClr val="006633"/>
                </a:solidFill>
                <a:latin typeface="Garamond"/>
              </a:rPr>
              <a:t>Consideración de carencias materiales y no mater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Síntesi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ituaciones de pobreza son diversas y su superación implica encauzar procesos donde los propios pobres se convierten en protagonistas de un mejoramiento gradual en su calidad de vi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lo carencias: riesgo que las políticas sean solo compensatorias y como tales pasaje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rencias materia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dimensión no material: semillas de desarrollo endógeno y por ende  probabilidad más cierta  de estar encauzando procesos de superación de la pobrez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Una definición distinta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1370880"/>
            <a:ext cx="7200720" cy="1739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Arial"/>
              </a:rPr>
              <a:t>Son pobres las personas, familias y comunidades que por falta de oportunidades, no pueden, a través del uso y desarrollo de sus activos (potencialidades),  satisfacer sus necesidades básicas por si mis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11280" y="4437000"/>
            <a:ext cx="3097080" cy="1297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étodos tradi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edición obje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35640" y="4076640"/>
            <a:ext cx="3456000" cy="18716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agnóstico cualitati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daga condicionantes y palancas posibles de m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3429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¿Cómo se delimit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3451400">
            <a:off x="3779640" y="3715920"/>
            <a:ext cx="1439640" cy="1368360"/>
          </a:xfrm>
          <a:custGeom>
            <a:avLst/>
            <a:gdLst>
              <a:gd name="textAreaLeft" fmla="*/ 491040 w 1439640"/>
              <a:gd name="textAreaRight" fmla="*/ 1106280 w 1439640"/>
              <a:gd name="textAreaTop" fmla="*/ 915840 h 1368360"/>
              <a:gd name="textAreaBottom" fmla="*/ 105156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5527"/>
                </a:moveTo>
                <a:lnTo>
                  <a:pt x="7367" y="9454"/>
                </a:lnTo>
                <a:lnTo>
                  <a:pt x="7367" y="14455"/>
                </a:lnTo>
                <a:lnTo>
                  <a:pt x="14455" y="14455"/>
                </a:lnTo>
                <a:lnTo>
                  <a:pt x="14455" y="7367"/>
                </a:lnTo>
                <a:lnTo>
                  <a:pt x="9454" y="7367"/>
                </a:lnTo>
                <a:lnTo>
                  <a:pt x="15527" y="0"/>
                </a:lnTo>
                <a:lnTo>
                  <a:pt x="21600" y="7367"/>
                </a:lnTo>
                <a:lnTo>
                  <a:pt x="16599" y="7367"/>
                </a:lnTo>
                <a:lnTo>
                  <a:pt x="16599" y="16599"/>
                </a:lnTo>
                <a:lnTo>
                  <a:pt x="7367" y="16599"/>
                </a:lnTo>
                <a:lnTo>
                  <a:pt x="7367" y="21600"/>
                </a:lnTo>
                <a:close/>
              </a:path>
            </a:pathLst>
          </a:custGeom>
          <a:solidFill>
            <a:srgbClr val="3b81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El término “social”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ción caritativa, ayudar a los enfermos, postergados, marginados, los pobres -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Vinculado al bienestar humano (nivel y calidad de vida, distribución de bienes materiales y culturales)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atisfacción de necesidades básic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ctividades en los sectores sociales: educación, salud, vivienda, seguridad social 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solver situaciones problemáticas de acceso y calidad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erteneciente a la sociedad, al colectivo, estructura social, relaciones entre estratos y entre grupos –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clusión, cohesión social, ciudadan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livio y superación de la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7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Superar la pobrez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número significativo de personas, familias o comunidades pobres inician un proceso acumulativo de transformaciones que les posibilita optar entre los bienes y servicios  que la sociedad posee, mejorando de modo sustentable su calidad de vida, ciudadanía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Capacidad de movilizar y expandir los activos y recursos con que cuentan las personas, hogares o localidades pobres para  aprovechar las oportunidades que enfrentan o crear oportunidades nue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556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Arial"/>
              </a:rPr>
              <a:t>Aliviar la pobre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oluciones de corto plazo: transferencias, bonos, programas de emergencia, compens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RITERIO DE ÉXITO: Paliar y hacer más vivibles situaciones de precariedad materi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5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Finalidades de la política social: </a:t>
            </a:r>
            <a:br>
              <a:rPr sz="3800"/>
            </a:b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cuatro ámbito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Asistencia y protección social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 acuerdo a ciertos estándares que la sociedad acepta como legítimos y fundamental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romoción del bienestar,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generación de oportunidades, movilidad social, ruptura en la transmisión intergeneracional de oportunidades, integración y cohesión soci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alización de derechos  sociales de ciudadanía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derechos sociales, garantías de acceso, cobertura y calidad, con deberes / responsabilidades asociados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eneración y preservación de un espacio social de pertenencia a la comunidad sociopolítica,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ormar parte de un destino colectivo compartido y sentirse responsable por és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435880" cy="507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3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250920" y="0"/>
          <a:ext cx="8893080" cy="61657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0"/>
                    <a:ext cx="889308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Interdependencia y no compartimiento estanco: visión sistém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 públ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lidad económica y sociocultura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stitucionalid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mportancia del contexto y  situación en el punto de partid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íticas de orientación similar, resultados distinto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macro - económica y de ahorro e inver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labo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sectores de infraestructura y comun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366480"/>
            <a:ext cx="8353440" cy="180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El conjunto de la política pública -no solo las “políticas sociales”-  incide sobre situaciones de pobreza y vulnerabilidad, calidad de vida, desigualdades sociales, cohe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806560" y="3919680"/>
            <a:ext cx="6337440" cy="2072520"/>
          </a:xfrm>
          <a:prstGeom prst="ellipse">
            <a:avLst/>
          </a:prstGeom>
          <a:solidFill>
            <a:srgbClr val="afbf3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ect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ctura y funcionamiento del Estado (“Modernización del Estad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ionamiento del sistema polític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Medición inicial (en boga hasta hoy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8451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encias materiales definidas desde afuera  por expertos (definición absoluta y relativ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Estado de carencia de dinero o de bienes materia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Desigual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600" spc="-1" strike="noStrike">
                <a:solidFill>
                  <a:srgbClr val="000000"/>
                </a:solidFill>
                <a:latin typeface="Arial"/>
              </a:rPr>
              <a:t>Concentración en la distribución del ingreso familiar y distancia entre los que están arriba y abaj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otras dimensiones asociadas al tener o posee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lfabetismo - escolar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utrición, estado de salud, expectativas de vida al nacer, longev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ivienda, servicios básicos, equipamiento hogar y comunitar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ccesibilidad al trabajo, comercio,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tección frente a riesgos y vulnerabilida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diciones  pobreza material (tangibles)</a:t>
            </a: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Unidad individ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mi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Área geográfica subnacion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aí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Inc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Brecha respecto a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apas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Índices agregados IDH y ot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2349360"/>
            <a:ext cx="8569080" cy="36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asgos psicosociales: autoestima, vergüenza, sentimiento de ignorancia, escasa fe en si mismo, ausencia de voz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mites y barreras en la trama de relaciones sociales: redes cerradas y poco diversificadas, con predominio de relaciones de subordinación; aislamiento y segregación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Ampliación a dimensiones asociadas al ser (no tangibles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23640" y="2178000"/>
            <a:ext cx="8569080" cy="36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lores, normas, prácticas, códigos de conducta tan heterogéneos como en los otros segmentos sociales. No existe una única cultura de la pobreza como se sostenía  en la década de 1960.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. Sen: opciones y libertades; posibilidad de dirigir propia vida, expansión de capacidades humanas y posibilidad de usar las capacidades, empoderamien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dimensiones materiales y no materiales y la combinación de amb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Variable tiempo: temporal / coyuntural,  crónica, fluctuaciones alrededor de la línea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contexto: rural - urbana, centro - periferia urbana, pobreza aislada /segregada o inserta en medio socialmente heterogén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425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Heterogeneidad de situaciones de pobrez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169992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inserción laboral y actividad productiva: (público-privado, sector formal, informal, asalariado, independiente, tamaño empresa, contrato de trabajo, beneficios previsionales, estabilidad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entornos naturales diferentes: tierra, agua, medio ambien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gún tamaño, composición y ciclo vital de la familia u hog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ezclado con nuevas temas de drogas, delincuencia, inseguridad ciudad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olíticas para enfrentar la pobreza</a:t>
            </a:r>
            <a:r>
              <a:rPr b="0" lang="es-ES_tradnl" sz="42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200"/>
            </a:br>
            <a:r>
              <a:rPr b="1" lang="es-ES_tradnl" sz="3300" spc="-1" strike="noStrike">
                <a:solidFill>
                  <a:srgbClr val="006633"/>
                </a:solidFill>
                <a:latin typeface="Garamond"/>
              </a:rPr>
              <a:t>Mirada sólo a las carencias materiales</a:t>
            </a:r>
            <a:br>
              <a:rPr sz="3300"/>
            </a:br>
            <a:endParaRPr b="0" lang="en-US" sz="33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229600" cy="40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ctuar sobre éstas:  mejorar el “tener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ínea de ingreso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crecimiento economía, control 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flación y equilibrio macro, empleo, salari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Necesidades básicas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intervenir sobre ést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gramas compensatorios tipo “safety net” </a:t>
            </a:r>
            <a:r>
              <a:rPr b="0" lang="es-ES_tradnl" sz="22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 empleo emergencia, transferencias directas asistenci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Gasto social focalizado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Intervenciones “estandarizadas”, homogéneas para todos los que comparten una o mas situaciones de carenc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47Z</dcterms:modified>
  <cp:revision>20</cp:revision>
  <dc:subject/>
  <dc:title>Diapositiva 1</dc:title>
</cp:coreProperties>
</file>