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41A-4717-47E1-9478-A519DCEE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5DE-08D9-447D-A4F9-95377133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580-9A29-4D64-BED2-85739564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253A-0149-4987-9F76-85451B4B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770F-27CA-4504-928D-45F6E598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5239-50AE-4E7F-ACBE-FF08798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F986-4996-4FCD-83CC-8928004E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34C4-7651-487A-B0AE-B2FE6C78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1342-C57D-4219-9B12-590098D0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94DD-FC99-416E-A108-8FA45A0D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6764-9CE1-4312-8200-615B475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0E4-E808-4AD9-AD33-D052CFB5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2454-9472-4FE5-9F04-FB6372F6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DCB7-9C5D-4F4F-997A-54B29499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6BF2-774B-4970-B381-F783626F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4F61-89B7-4129-BA6F-07D73530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22CB-FEE2-4DD3-8FE2-050301C4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3DC-5B32-4210-896F-D08EC381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A27-B943-4109-A635-291FB044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94E-D484-494B-8458-A24CD527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445-68DC-4793-BEAF-21ED3111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2B3-7F45-490C-B13C-2FDB9827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409-890C-4194-870A-0EC248B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D03-C8A2-4AFA-9636-C5FCB041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6B02-C0A8-403A-92FD-AB5CD1EE26A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CE9B-9019-443A-B8EF-3B09CF13F5F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3. La conformación del Estado Soci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uevas condiciones sociales desafían el Estado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in del pleno emp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demográficos y en la composición de la estructur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Jefatura de hogar femenina, incorporación mujer al mercado laboral, envejecimiento de la pobl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Modificación ciclos de vida tradicion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s expectativas de vida de los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versificación e individualización de los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do de Bienest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stitución típicamente moderna (Inglaterra fines del S. XI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st Segunda Guerra Mundial: pacto entre empresarios, trabajadores y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poge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Décadas del ‘50 al ’70: los años glorio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binación de un sostenido crecimiento económico y el pleno desarrollo del Estad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incipios constitutivos Eº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tección social en torno del trabajador en relación con su lugar de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ocialización de los riesg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mite a una dimensión probabilística de lo social (el riesgo es calculable, los riesgos están igualmente repartidos y son aleatori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frece la ventaja de poder considerar conjuntamente problemas diferentes (enfermedad, vejez, desempleo, acciden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ermite plantear en nuevos términos el ejercicio de la justicia. El seguro social no es asistencia. Representa la ejecución de un contrato en el cual el Estado y los ciudadanos están igualmente implicados (Rosanvallón, 199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6633"/>
                </a:solidFill>
                <a:latin typeface="Garamond"/>
              </a:rPr>
              <a:t>Regímenes de bienestar (Esping-Andersen) 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tres mundos del Estado de Bienestar (199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ibe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redomina el mercado sobre el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servad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istemas de seguridad social segmentados por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demócra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stado es el principal responsable de la provisión del bienes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Regímenes de bienestar (Esping Anderse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1052640"/>
          <a:ext cx="8631000" cy="5008320"/>
        </p:xfrm>
        <a:graphic>
          <a:graphicData uri="http://schemas.openxmlformats.org/drawingml/2006/table">
            <a:tbl>
              <a:tblPr/>
              <a:tblGrid>
                <a:gridCol w="2477880"/>
                <a:gridCol w="1986120"/>
                <a:gridCol w="2160360"/>
                <a:gridCol w="2006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b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cialdemócr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rv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idi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o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ivid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ivers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entesco Corporativismo Estat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gar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do de desmercanti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ín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áx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to (para cabeza de famil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mérica Latina (Orige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urgen a imitación de los europe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obertura y calidad de los mecanismos aseguradores es notoriamente más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erencias estructurales en el mercado del trabajo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No hay pacto o contrato social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esarrollo de las políticas sociales es anterior a la democratización pl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ampliación de los derechos sociales tiene lugar en forma previa al pleno reconocimiento de los derechos políticos de ciudadan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. Latina (característica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eguridad social para grupos específicos de trabajado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mpleadores proporcionan protección de empleo a los trabajadores form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tado provee salud y edu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amilia representa una importante fuente de seguridad contra los riesgos soc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egmentación por categorías ocup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Importantes segmentos de población excluidos (por heterogeneidad estructural del mercado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rupos de países (Mesa-Lago, 1999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Argentina, Brasil, Chile, Costa Rica y Uruguay (1910 y 1920, consolidación en los años ’50): seguros para accidentes del trabajo, pensiones, enfermedad y maternidad. Cobertura desig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Bolivia, Colombia, Ecuador, México, Panamá, Paraguay, Perú y Venezuela (1940): niveles de cobertura más bajos y el patrón de seguridad social estratificada se mantuv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pública Dominicana, El Salvador, Guatemala, Haití, Honduras y Nicaragua (años ’50 y ’60): cobertura muy limitada incluso para la población activa. No incluye seguros de desempleo o prestaciones famili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Grupos de países 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es-ES_tradnl" sz="3600" spc="-1" strike="noStrike">
                <a:solidFill>
                  <a:srgbClr val="006633"/>
                </a:solidFill>
                <a:latin typeface="Garamond"/>
              </a:rPr>
              <a:t>Huber, 1996; Fleury, 1999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rgentina, Chile, Costa Rica, Brasil, Uruguay y Colombia: desarrollan mecanismos de protección extendidos, que incluyen acceso más o menos universal a la salud y la educación pública, aunque segmentados y estratificados por grupos ocupacionales con distintos grados de privileg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to de los países latinoamericanos: en ningún momento institucionalizan políticas sociales estables y extendi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34Z</dcterms:modified>
  <cp:revision>13</cp:revision>
  <dc:subject/>
  <dc:title>Diapositiva 1</dc:title>
</cp:coreProperties>
</file>