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486E-08A0-45EB-AF9E-A7DA743D46E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mejor política social es aquella que logra responder a los 4ámbitos que son propios de la acción pública en materia social ho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yar procesos de integración y cohes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rtar a la constitución de una comunidad nacional, no rasgada por fracturas sociales sev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ir a la realización de derechos sociales de ciudad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863-C275-40C1-89B5-3C7E8A70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06BA-E888-46AD-9AC4-73437E68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149-B5E5-4008-BF99-AC456741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EF1-F163-4DCA-9700-06E2D9AF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E4CD-0462-4053-95E8-854C6C8C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167E-FEC7-457E-9AE8-00EDBB17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0098-4B87-4F9C-A611-7D0FE01E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8708-A565-43A1-B103-D282F3D6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4B8B-0F3F-4BB4-B6F3-41EEFD34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CD46-DD7E-4ED0-AA71-4019FC71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6C16-8FA0-40BF-B1DF-90E842B4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F02-FC53-48D5-A0E3-75D11FBE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5418-C93F-4830-9430-E214E54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0FBF-0F16-4947-A1DB-0416906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E409-5442-4B9C-8184-D5B90EE8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F13F-ADBA-4934-9021-7BF4133A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E233-4114-410C-9DEA-54088D08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1475-2AB1-4A94-B918-CA4885FB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6F0-3197-4E3F-8924-380A1101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C538-459E-45F4-8063-645A72A1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06F7-1C06-4970-B049-FB0BE20D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A68-DED7-4DCF-8852-D32DDB33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5B2C-AD83-4D82-8137-1F99051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A7A-158D-4953-AF16-309BB226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–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215E-4751-4151-8E0B-1806FFC6C68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454B-DF4F-4D82-AB06-9BE0BF0EF18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2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PRIMER MÓDULO: CONCEPTUALIZACIÓN Y MAGNITUD DEL FENÓMENO DE LA POBREZA Y LA POLÍTICA SOCIAL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41497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bajar con sectores pobres y no pobres y ampliar vínculo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brir espacios de participación y poder: voz y escucha, fortalecimiento de habilidades de gestión de solución a problemas individuales y colectivos, de organizaciones sociales y sus líd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ir con y a partir de iniciativas de los sectores pob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intervenciones flexibles que se construyen entre las partes involucradas tomando como punto de partida las capacidades  e iniciativas existentes, fortaleciendo y expandiénd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estrategias pasan necesariamente por un cambio en las personas (núcleo de intervención en general ause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iferenciadas según “capacidades” existentes, expandir capacidades y semillas de desarrollo personal y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60280"/>
            <a:ext cx="8964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 </a:t>
            </a:r>
            <a:r>
              <a:rPr b="1" lang="es-ES_tradnl" sz="3000" spc="-1" strike="noStrike">
                <a:solidFill>
                  <a:srgbClr val="006633"/>
                </a:solidFill>
                <a:latin typeface="Garamond"/>
              </a:rPr>
              <a:t>Consideración de carencias materiales y no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e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ones de pobreza son diversas y su superación implica encauzar procesos donde los propios pobres se convierten en protagonistas de un mejoramiento gradual en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carencias: riesgo que las políticas sean solo compensatorias y como tales pasaj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encias materi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mensión no material: semillas de desarrollo endógeno y por ende  probabilidad más cierta  de estar encauzando procesos de superación de la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Una definición distinta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370880"/>
            <a:ext cx="7200720" cy="173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Arial"/>
              </a:rPr>
              <a:t>Son pobres las personas, familias y comunidades que por falta de oportunidades, no pueden, a través del uso y desarrollo de sus activos (potencialidades),  satisfacer sus necesidades básicas por si m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437000"/>
            <a:ext cx="309708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étodos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4076640"/>
            <a:ext cx="345600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nóstico cualit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aga condicionantes y palancas posibles de m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342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ómo se delim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3451400">
            <a:off x="3779640" y="3715920"/>
            <a:ext cx="1439640" cy="1368360"/>
          </a:xfrm>
          <a:custGeom>
            <a:avLst/>
            <a:gdLst>
              <a:gd name="textAreaLeft" fmla="*/ 491040 w 1439640"/>
              <a:gd name="textAreaRight" fmla="*/ 1106280 w 1439640"/>
              <a:gd name="textAreaTop" fmla="*/ 915840 h 1368360"/>
              <a:gd name="textAreaBottom" fmla="*/ 10515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527"/>
                </a:moveTo>
                <a:lnTo>
                  <a:pt x="7367" y="9454"/>
                </a:lnTo>
                <a:lnTo>
                  <a:pt x="7367" y="14455"/>
                </a:lnTo>
                <a:lnTo>
                  <a:pt x="14455" y="14455"/>
                </a:lnTo>
                <a:lnTo>
                  <a:pt x="14455" y="7367"/>
                </a:lnTo>
                <a:lnTo>
                  <a:pt x="9454" y="7367"/>
                </a:lnTo>
                <a:lnTo>
                  <a:pt x="15527" y="0"/>
                </a:lnTo>
                <a:lnTo>
                  <a:pt x="21600" y="7367"/>
                </a:lnTo>
                <a:lnTo>
                  <a:pt x="16599" y="7367"/>
                </a:lnTo>
                <a:lnTo>
                  <a:pt x="16599" y="16599"/>
                </a:lnTo>
                <a:lnTo>
                  <a:pt x="7367" y="16599"/>
                </a:lnTo>
                <a:lnTo>
                  <a:pt x="7367" y="216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término “social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ción caritativa, ayudar a los enfermos, postergados, marginados, los pobres -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nculado al bienestar humano (nivel y calidad de vida, distribución de bienes materiales y culturales)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tisfacción de necesidades bás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dades en los sectores sociales: educación, salud, vivienda, seguridad social 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olver situaciones problemáticas de acceso y ca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teneciente a la sociedad, al colectivo, estructura social, relaciones entre estratos y entre grupos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clusión, cohesión social, ciudadan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livio y superación de la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uperar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número significativo de personas, familias o comunidades pobres inician un proceso acumulativo de transformaciones que les posibilita optar entre los bienes y servicios  que la sociedad posee, mejorando de modo sustentable su calidad de vida, ciudadanía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Capacidad de movilizar y expandir los activos y recursos con que cuentan las personas, hogares o localidades pobres para  aprovechar las oportunidades que enfrentan o crear oportunidades nue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iviar la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ones de corto plazo: transferencias, bonos, programas de emergencia, compens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Paliar y hacer más vivibles situaciones de precariedad mat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Finalidades de la política social: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uatro ámbi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 y protección soci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 acuerdo a ciertos estándares que la sociedad acepta como legítimos y fund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moción del bienestar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neración de oportunidades, movilidad social, ruptura en la transmisión intergeneracional de oportunidades, integración y cohesión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lización de derechos  sociales de ciudadaní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rechos sociales, garantías de acceso, cobertura y calidad, con deberes / responsabilidades asoci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neración y preservación de un espacio social de pertenencia a la comunidad sociopolítica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r parte de un destino colectivo compartido y sentirse responsable por é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terdependencia y no compartimiento estanco: visión sistém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dad económica y sociocultur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ia del contexto y  situación en el punto de part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íticas de orientación similar, resultados distin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macro - económica y de ahorro 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sectores de infraestructura y 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366480"/>
            <a:ext cx="8353440" cy="180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El conjunto de la política pública -no solo las “políticas sociales”-  incide sobre situaciones de pobreza y vulnerabilidad, calidad de vida, desigualdades sociales, cohe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06560" y="3919680"/>
            <a:ext cx="6337440" cy="207252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ect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y funcionamiento del Estado (“Modernización del Estad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miento del sistema polí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edición inicial (en boga hasta ho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451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encias materiales definidas desde afuera  por expertos (definición absoluta y relati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Estado de carencia de dinero o de bienes mater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sigual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Concentración en la distribución del ingreso familiar y distancia entre los que están arriba y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otras dimensiones asociadas al tener o pose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lfabetismo - escola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trición, estado de salud, expectativas de vida al nacer, longev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ivienda, servicios básicos, equipamiento hogar y comuni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cesibilidad al trabajo, comercio,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tección frente a riesgos y vulnerabili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diciones  pobreza material (tangibles)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 indiv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Área geográfica sub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c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echa respecto a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pas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Índices agregados IDH y ot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56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asgos psicosociales: autoestima, vergüenza, sentimiento de ignorancia, escasa fe en si mismo, ausencia de vo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mites y barreras en la trama de relaciones sociales: redes cerradas y poco diversificadas, con predominio de relaciones de subordinación; aislamiento y segreg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78000"/>
            <a:ext cx="85690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lores, normas, prácticas, códigos de conducta tan heterogéneos como en los otros segmentos sociales. No existe una única cultura de la pobreza como se sostenía  en la década de 1960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. Sen: opciones y libertades; posibilidad de dirigir propia vida, expansión de capacidades humanas y posibilidad de usar las capacidades, empode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dimensiones materiales y no materiales y la combinación de am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riable tiempo: temporal / coyuntural,  crónica, fluctuaciones alrededor de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contexto: rural - urbana, centro - periferia urbana, pobreza aislada /segregada o inserta en medio socialmente heterogén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inserción laboral y actividad productiva: (público-privado, sector formal, informal, asalariado, independiente, tamaño empresa, contrato de trabajo, beneficios previsionales, estabilidad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ntornos naturales diferentes: tierra, agua, medi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tamaño, composición y ciclo vital de la familia u ho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zclado con nuevas temas de drogas, delincuencia, inseguridad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1" lang="es-ES_tradnl" sz="3300" spc="-1" strike="noStrike">
                <a:solidFill>
                  <a:srgbClr val="006633"/>
                </a:solidFill>
                <a:latin typeface="Garamond"/>
              </a:rPr>
              <a:t>Mirada sólo a las carencias materiales</a:t>
            </a:r>
            <a:br>
              <a:rPr sz="33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tuar sobre éstas:  mejorar el “ten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ínea de ingreso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crecimiento economía, control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flación y equilibrio macro, empleo, sal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ecesidades básicas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intervenir sobre é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gramas compensatorios tipo “safety net”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mpleo emergencia, transferencias directas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o social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Intervenciones “estandarizadas”, homogéneas para todos los que comparten una o mas situaciones de ca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47Z</dcterms:modified>
  <cp:revision>20</cp:revision>
  <dc:subject/>
  <dc:title>Diapositiva 1</dc:title>
</cp:coreProperties>
</file>