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B3BB9-BB7B-4367-BF3A-6E85349A24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n rigor indicador beneficios/matrícula es una aproximación muy gruesa a la cobertura de las ayudas estudiantiles, puesto que hay estudiantes con más de un beneficio y hay beneficios de becas que son otorgados a alumnos matriculados en otras instituciones de educación super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2766-BC19-43BC-B896-EB5478909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A121-AF5E-47BB-96EA-C5E545EDD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6F3E-66C0-452D-A416-1A75A60DD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2F10-37CE-4D71-BFDA-D593E1343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AFA3E-67ED-4BBD-9737-7B732B340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250DE-5AB3-4C75-A38C-B415BF68F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27E5F-41E0-406A-823A-93DDE9CA8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4A2A9-F9EB-4BDE-9078-5CA52EFF6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10F42-CBE7-45C0-AB2B-BAE0C7C6B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088BE-814C-4648-955A-EF9DECF8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ADAA4-8CD1-470D-899F-8C48EF79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B71E-208E-4E91-87F1-71D0E7CB2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AD353-5ECA-4A6D-93F4-1C3F0A9B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6DF5E-753A-4198-811A-92BB2F85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8914C-05F7-4DBB-BA9D-0D8F0DD2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9F18C-3D12-418D-8BA0-4AF33B5EC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878E5-028F-4E38-88F8-DDB8C567E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670D-96CB-47A5-BAB6-51E60346C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EE78-989D-4E0F-B3D9-679D5B72E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F7FB-EFAA-4FBF-9974-9136DA0EA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C01C-6A4E-4DA7-9A66-22E5E352B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C668-EEDE-47F8-8C7D-9E23007D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4EC9-A4B1-4B87-AACB-5B9A6DFA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D2F8-2482-4CA4-96CD-47DFC3D8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bfff7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bfff7"/>
                </a:solidFill>
                <a:latin typeface="Times New Roman"/>
              </a:defRPr>
            </a:lvl1pPr>
          </a:lstStyle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bfff7"/>
                </a:solidFill>
                <a:latin typeface="Times New Roman"/>
              </a:defRPr>
            </a:lvl1pPr>
          </a:lstStyle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7B3EF-2955-453F-8968-D75F446C7ED5}" type="slidenum"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178E9-1751-4A9F-80E1-CB156219371D}" type="slidenum">
              <a:rPr b="0" lang="en-US" sz="10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TIR%20carreras%20t&#233;cnicas.pdf" TargetMode="External"/><Relationship Id="rId2" Type="http://schemas.openxmlformats.org/officeDocument/2006/relationships/hyperlink" Target="file:///../../Pablo%20Gonz&apos;/My%20Documents/dii/clases/resp%20pendrive%2007%2006/clases/TIR%20carreras%20t&#233;cnicas.pdf" TargetMode="External"/><Relationship Id="rId3" Type="http://schemas.openxmlformats.org/officeDocument/2006/relationships/hyperlink" Target="http://futurolaboral.cl/" TargetMode="External"/><Relationship Id="rId4" Type="http://schemas.openxmlformats.org/officeDocument/2006/relationships/hyperlink" Target="file:///Derecho.jpg" TargetMode="External"/><Relationship Id="rId5" Type="http://schemas.openxmlformats.org/officeDocument/2006/relationships/hyperlink" Target="file:///Ingenier&#237;a%20industrial.jpg" TargetMode="External"/><Relationship Id="rId6" Type="http://schemas.openxmlformats.org/officeDocument/2006/relationships/hyperlink" Target="file:///Educaci&#243;n%20B&#225;sica.jpg" TargetMode="External"/><Relationship Id="rId7" Type="http://schemas.openxmlformats.org/officeDocument/2006/relationships/hyperlink" Target="file:///Periodismo.jpg" TargetMode="External"/><Relationship Id="rId8" Type="http://schemas.openxmlformats.org/officeDocument/2006/relationships/hyperlink" Target="file:///Psicolog&#237;a.jpg" TargetMode="External"/><Relationship Id="rId9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33.xml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828800"/>
            <a:ext cx="8381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FINANCIAMIENTO DE LA </a:t>
            </a:r>
            <a:r>
              <a:rPr b="0" lang="es-ES_tradnl" sz="3600" spc="-1" strike="noStrike">
                <a:solidFill>
                  <a:srgbClr val="cc9900"/>
                </a:solidFill>
                <a:latin typeface="Arial Black"/>
              </a:rPr>
              <a:t>EDUCACIÓN SUPERIO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240" y="3962520"/>
            <a:ext cx="7162920" cy="10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imes New Roman"/>
              </a:rPr>
              <a:t>Pablo González</a:t>
            </a:r>
            <a:endParaRPr b="0" lang="en-US" sz="2800" spc="-1" strike="noStrike">
              <a:solidFill>
                <a:srgbClr val="cc66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imes New Roman"/>
              </a:rPr>
              <a:t>Santiago, septiembre 2008</a:t>
            </a:r>
            <a:endParaRPr b="0" lang="en-US" sz="2800" spc="-1" strike="noStrike">
              <a:solidFill>
                <a:srgbClr val="cc66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609480" y="624852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Fuente: Informe de desarrollo humano sustentable 10, PNUD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Sólo el 20% de los hogares puede pagar arancel promedio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57200" y="1886040"/>
          <a:ext cx="8178840" cy="4421160"/>
        </p:xfrm>
        <a:graphic>
          <a:graphicData uri="http://schemas.openxmlformats.org/drawingml/2006/table">
            <a:tbl>
              <a:tblPr/>
              <a:tblGrid>
                <a:gridCol w="4089240"/>
                <a:gridCol w="40896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Quintil de ingreso autónomo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Mensualidad respecto a ingreso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5,2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I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2,2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II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,4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V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0,87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V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0,42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609480" y="624852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Fuente: Informe de desarrollo humano sustentable 10, PNUD, sobre la base de Aranda y Salas (2004)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0" y="0"/>
          <a:ext cx="8844120" cy="5637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844120" cy="563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1440" y="781200"/>
          <a:ext cx="9258480" cy="577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781200"/>
                    <a:ext cx="9258480" cy="57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9900"/>
                </a:solidFill>
                <a:latin typeface="Arial Black"/>
              </a:rPr>
              <a:t>GASTO PÚBLICO Y PRIVADO EN EDUCACIÓN COMO % DEL PGB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Baja retención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Según OECD (2001) 28% de los que ingresaban se titulaban, contra 42% en OECD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La mayor parte de la deserción se produciría los dos primeros año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372600" cy="54104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0" y="632448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Fuente: Informe desarrollo humano sustentable 10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3962520"/>
            <a:ext cx="2590920" cy="990360"/>
          </a:xfrm>
          <a:prstGeom prst="ellipse">
            <a:avLst/>
          </a:prstGeom>
          <a:noFill/>
          <a:ln cap="sq"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ELEMENTOS CENTRAL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Masificación acceso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Acceso desigua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Graduación secundaria desigua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Calidad educación escolar desigua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Alto gasto total y aporte privado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No sólo requieren apoyo los más vulnerables, sino el 80% de los hogare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Baja eficiencia interna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LOS MALESTARES SOCIALES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Sociedad chilena no es meritocrátic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Pretende serlo con prueba de selección universitaria pero desigual calidad educación escolar, familia origen pesa y pre-Universitario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En el mercado laboral no hay igualdad de trat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Desigual calidad educación escolar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“</a:t>
            </a: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No importa cuánto me esfuerce, en el liceo donde estoy nadie ha sacado nunca más de 500 puntos”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Fracaso del sistema escolar para responder a las expectativa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Endeudamiento vs. “Derecho”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Mala calidad de la educación entregada por algunas instituciones y falta de información adecuad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5905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ELEMENTOS CONCEPTUALES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TEMAS CLAV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FINANCIAMIENTO ESTUDIANTI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Pregrado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Rentabilidad, masividad, equidad ex ante y ex post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“</a:t>
            </a: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GOVERNANCE” Y FINANCIAMIENT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La demanda social a la educación superior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Configuración del sistema de incentivos y poder de los actores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Justificación de los aportes estatale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El caso de las universidades de investigación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El caso de las universidades regionale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Autonomía o impunidad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Necesidad de mejores regulacione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9900"/>
                </a:solidFill>
                <a:latin typeface="Verdana"/>
              </a:rPr>
              <a:t>OBJETIVOS DE LOS SISTEMAS DE EDUCACIÓN SUPERIOR</a:t>
            </a:r>
            <a:endParaRPr b="0" lang="en-US" sz="24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61760" y="2165040"/>
            <a:ext cx="7723080" cy="3794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Robbins (1963)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Calificaciones de la fuerza de trabaj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Hombres y mujeres cultos, no meros especialista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Aumentar el conocimient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Transmisión de una cultura común y estándares de ciudadaní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ANÁLISIS ECONÓMICO DE LOS SISTEMAS DE EDUCACIÓN SUPERIOR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4840" y="2165400"/>
            <a:ext cx="7724520" cy="386568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squema analítico: </a:t>
            </a:r>
            <a:r>
              <a:rPr b="0" i="1" lang="es-ES_tradnl" sz="2800" spc="-1" strike="noStrike">
                <a:solidFill>
                  <a:srgbClr val="cc6600"/>
                </a:solidFill>
                <a:latin typeface="Verdana"/>
              </a:rPr>
              <a:t>Empresa</a:t>
            </a: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 “multi- producto”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Docenci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Capital humano o goce consumo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Economía se centra en análisis como inversión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Investigación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Aumento stock de conocimientos humanidad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¿Otros? Extensión (actividades culturales, de difusión, servicio a la comunidad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1143000" y="2971800"/>
            <a:ext cx="3276720" cy="1219320"/>
          </a:xfrm>
          <a:prstGeom prst="ellipse">
            <a:avLst/>
          </a:prstGeom>
          <a:noFill/>
          <a:ln cap="sq"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OBJETIVOS PRIVADOS RESPECTO A LA DOCENCIA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ducación para los demandantes es en parte un bien de consumo y en parte un bien de inversión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Personas toman decisión de educarse sobre la base de: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Preferencia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Capacidade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Información disponible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Beneficios: mayores ingresos, etc.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Costos directos, indirectos y de oportunidad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ducarse si el VPN&gt;0 o equivalentemente TIR</a:t>
            </a:r>
            <a:r>
              <a:rPr b="0" lang="es-ES_tradnl" sz="2400" spc="-1" strike="noStrike">
                <a:solidFill>
                  <a:srgbClr val="cc66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r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LA DECISIÓN DE SEGUIR ESTUDIOS SUPERIORES</a:t>
            </a:r>
            <a:r>
              <a:rPr b="0" lang="es-ES_tradnl" sz="3200" spc="-1" strike="noStrike">
                <a:solidFill>
                  <a:srgbClr val="fbfff7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0" y="1600200"/>
          <a:ext cx="914400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91440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TASAS DE RETORNO DE EDUCACIÓN SUPERIOR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Varios estudios para países latinoamericanos encuentran TIR &gt; 20% anual, excepto Uruguay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Han crecido desde los novent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n Chile Beyer (2001), Sapelli y Torche (2002), Mizala y Romaguera (2002), Arellano y Braun (1999), Carnoy et al. (2003)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9900"/>
                </a:solidFill>
                <a:latin typeface="Arial Black"/>
              </a:rPr>
              <a:t>Estimaciones por carrera utilizando información tributaria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Mayoría de las </a:t>
            </a:r>
            <a:r>
              <a:rPr b="0" lang="es-ES" sz="2800" spc="-1" strike="noStrike" u="sng">
                <a:solidFill>
                  <a:srgbClr val="996633"/>
                </a:solidFill>
                <a:uFillTx/>
                <a:latin typeface="Tahoma"/>
                <a:hlinkClick r:id="rId1"/>
              </a:rPr>
              <a:t>carreras </a:t>
            </a:r>
            <a:r>
              <a:rPr b="0" lang="es-ES" sz="2800" spc="-1" strike="noStrike" u="sng">
                <a:solidFill>
                  <a:srgbClr val="996633"/>
                </a:solidFill>
                <a:uFillTx/>
                <a:latin typeface="Tahoma"/>
                <a:hlinkClick r:id="rId2"/>
              </a:rPr>
              <a:t>técnicas </a:t>
            </a: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se ubica por encima del 20%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996633"/>
                </a:solidFill>
                <a:uFillTx/>
                <a:latin typeface="Tahoma"/>
                <a:hlinkClick r:id="rId3"/>
              </a:rPr>
              <a:t>Algunas carrera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http://www.futurolaboral.cl/FuturoLaboral/carreras/index.htm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4"/>
              </a:rPr>
              <a:t>Derech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5"/>
              </a:rPr>
              <a:t>Ingeniería industrial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6"/>
              </a:rPr>
              <a:t>Pedagogía en educación básic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7"/>
              </a:rPr>
              <a:t>Periodismo y comunicación social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8"/>
              </a:rPr>
              <a:t>Psicologí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EDUCACIÓN SUPERIOR ES UNA INVERSIÓN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Privadamente rentable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TIR ha ido creciendo en el tiemp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cc6600"/>
                </a:solidFill>
                <a:latin typeface="Verdana"/>
              </a:rPr>
              <a:t>Esto de hecho es una causa de que la distribución del ingreso no ha mejorado en los noventa, pese al aumento de la escolaridad de la población sin estudios universitarios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Masiva: 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Financiar la educación superior con recursos públicos siempre ha sido inequitativ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Pero cuando era un sistema de elite era viable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¿Entonces por qué el Estado apoya la docencia de pregrado?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Beneficios docencia educación superior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Mayor parte de beneficios son apropiados por el graduado vía mayores ingresos y bienestar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“</a:t>
            </a: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Externalidades” positiva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c6600"/>
                </a:solidFill>
                <a:latin typeface="Tahoma"/>
              </a:rPr>
              <a:t>Poca evidencia empírica</a:t>
            </a:r>
            <a:r>
              <a:rPr b="0" lang="es-CL" sz="1200" spc="-1" strike="noStrike">
                <a:solidFill>
                  <a:srgbClr val="cc6600"/>
                </a:solidFill>
                <a:latin typeface="Tahoma"/>
              </a:rPr>
              <a:t> (pero ver McMahon, 2004)</a:t>
            </a:r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24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c6600"/>
                </a:solidFill>
                <a:latin typeface="Tahoma"/>
              </a:rPr>
              <a:t>¿Concentradas en niveles más tempranos? </a:t>
            </a:r>
            <a:r>
              <a:rPr b="0" lang="es-ES_tradnl" sz="1000" spc="-1" strike="noStrike">
                <a:solidFill>
                  <a:srgbClr val="cc6600"/>
                </a:solidFill>
                <a:latin typeface="Verdana"/>
              </a:rPr>
              <a:t>(Poterba, 1996, Hanushek, 2003)</a:t>
            </a:r>
            <a:endParaRPr b="0" lang="en-US" sz="10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c6600"/>
                </a:solidFill>
                <a:latin typeface="Tahoma"/>
              </a:rPr>
              <a:t>Excepto por concentración de capital humano avanzado en ámbitos muy específicos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Pero es una inversión que tiene riesgo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6600"/>
                </a:solidFill>
                <a:latin typeface="Verdana"/>
              </a:rPr>
              <a:t>¿Aversión al riesgo privada </a:t>
            </a:r>
            <a:r>
              <a:rPr b="0" lang="es-ES_tradnl" sz="1800" spc="-1" strike="noStrike">
                <a:solidFill>
                  <a:srgbClr val="cc6600"/>
                </a:solidFill>
                <a:latin typeface="Symbol"/>
                <a:ea typeface="Symbol"/>
              </a:rPr>
              <a:t></a:t>
            </a:r>
            <a:r>
              <a:rPr b="0" lang="es-ES_tradnl" sz="1800" spc="-1" strike="noStrike">
                <a:solidFill>
                  <a:srgbClr val="cc6600"/>
                </a:solidFill>
                <a:latin typeface="Verdana"/>
              </a:rPr>
              <a:t> social?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¿Imperfecciones mercado de capitales? </a:t>
            </a:r>
            <a:r>
              <a:rPr b="0" lang="es-ES_tradnl" sz="2400" spc="-1" strike="noStrike">
                <a:solidFill>
                  <a:srgbClr val="cc66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 ¿Restricciones de liquidez?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Capacidad de presión grupos organizado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Las soluciones desde la economía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…</a:t>
            </a: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Herramientas para resolver las fallas de mercado y hacer más eficiente el sistem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Al enfrentar el problema de liquidez mediante créditos contingentes a ingresos o impuesto a los graduados se cree solucionar el problema de equidad </a:t>
            </a: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(Barr, Salmi)</a:t>
            </a: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Estudiantes tienen financiamiento para una actividad que se espera sea privadamente rentable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Futuros profesionales devuelven en función de su capacidad de pago (si les va mal no devuelven)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ubsidiar educación superior significaría apoyo a grupos de mayores ingresos (ex-ante y ex-post)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9900"/>
                </a:solidFill>
                <a:latin typeface="Arial Black"/>
              </a:rPr>
              <a:t>Más sobre la solución vía mecanismos de crédito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Además, resuelve el ajuste de la oferta de graduados a necesidades del mercado labora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Esto se produce a través de la transmisión de señales del mercado laboral al sistema de educación superior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6600"/>
                </a:solidFill>
                <a:latin typeface="Tahoma"/>
              </a:rPr>
              <a:t>Lo que requiere resolver los problemas de información, que también tienen aspectos relacionados con equidad (los más informados son los que tienen más acceso a redes, etc.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EVOLUCIÓN MATRÍCULA EDUCACIÓN SUPERIOR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008000" y="1601640"/>
          <a:ext cx="8301240" cy="539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8000" y="1601640"/>
                    <a:ext cx="8301240" cy="539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5867280" y="1219320"/>
            <a:ext cx="2971800" cy="642600"/>
          </a:xfrm>
          <a:prstGeom prst="rect">
            <a:avLst/>
          </a:prstGeom>
          <a:noFill/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Tahoma"/>
              </a:rPr>
              <a:t>+ de 70% es primera generación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¿Dónde falla el argumento?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Financiamiento incierto: ¿me atrevo a arriesgarme si no tengo certeza que voy a contar con el 100% de los recursos que necesito?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Financiamiento parcial: costo de oportunidad y gasto para mantenimiento durante el período de estudi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Patrones culturales: más probable aspirar a educación superior si padres profesionales, aspiraciones del entorno, resistencia a endeudamient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Educación superior: </a:t>
            </a:r>
            <a:r>
              <a:rPr b="0" lang="es-CL" sz="3200" spc="-1" strike="noStrike" u="sng">
                <a:solidFill>
                  <a:srgbClr val="996633"/>
                </a:solidFill>
                <a:uFillTx/>
                <a:latin typeface="Tahoma"/>
                <a:hlinkClick r:id="rId1" action="ppaction://hlinksldjump"/>
              </a:rPr>
              <a:t>bien de confianza/ bien de uso </a:t>
            </a: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dependiendo de capacidad de procesamiento del estudiante y su familia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Hay un rol del estado respecto a </a:t>
            </a:r>
            <a:r>
              <a:rPr b="0" lang="es-CL" sz="3200" spc="-1" strike="noStrike" u="sng">
                <a:solidFill>
                  <a:srgbClr val="996633"/>
                </a:solidFill>
                <a:uFillTx/>
                <a:latin typeface="Tahoma"/>
                <a:hlinkClick r:id="rId2" action="ppaction://hlinksldjump"/>
              </a:rPr>
              <a:t>informar adecuadamente a los postulante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OTROS ELEMENTOS IMPORTANTES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Tipos de bien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30592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De inspección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Calidad puede ser evaluada antes de comprarlos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Sandía calada, estampilla, postal, revista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De confianz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Consumidor tarda mucho y a veces no comprueba nunca la calidad del bien que adquirió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Resistencia a terremotos de una vivienda, oportunidad de una intervención quirúrgica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De us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Calidad se determina al emplearlos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Autos, electrodomésticos, etc. 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¿Evaluación compleja y compra poco frecuente? (rentas vitalicias)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  <p:pic>
        <p:nvPicPr>
          <p:cNvPr id="21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5880" y="6248520"/>
            <a:ext cx="304812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IMPORTANCIA DE INFORMACIÓN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958160" cy="411012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Información incorrecta lleva a asignación de recursos ineficiente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Adquirir información tiene costo (tiempo)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studios muestran que consumidores utilizan un pequeño set de información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n educación consumidores utilizan: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sus redes sociale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proxis de calidad (apariencia física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89120" y="259920"/>
            <a:ext cx="782136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9900"/>
                </a:solidFill>
                <a:latin typeface="Verdana"/>
              </a:rPr>
              <a:t>ROL DEL ESTADO RESPECTO A INFORMA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quidad: capacidad de obtener y procesar información inversamente relacionadas con nivel educacional y socioeconómic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ficiencia: economías de escala en producción de información y características de bien público (no rival y no excluible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Homogeneidad información para poder comparar (caso planes Isapres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9900"/>
                </a:solidFill>
                <a:latin typeface="Arial Black"/>
              </a:rPr>
              <a:t>ROL DEL ESTADO RESPECTO A EQUIDAD E IGUALDAD DE OPORTUNIDADES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Mejorar oportunidades de acceso al sistema escolar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Mejorar distribución calidad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Compensar desigualdades de origen: + recursos en los más pobres </a:t>
            </a:r>
            <a:r>
              <a:rPr b="0" lang="es-ES" sz="1600" spc="-1" strike="noStrike">
                <a:solidFill>
                  <a:srgbClr val="cc6600"/>
                </a:solidFill>
                <a:latin typeface="Tahoma"/>
              </a:rPr>
              <a:t>(ej. Sudáfrica; subvención diferenciada)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Horarios que no favorecen trabajo part-time,</a:t>
            </a: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cc6600"/>
                </a:solidFill>
                <a:latin typeface="Tahoma"/>
              </a:rPr>
              <a:t>ej. Brasi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¿Cuán largo me lo fiáis?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6600"/>
                </a:solidFill>
                <a:latin typeface="Tahoma"/>
              </a:rPr>
              <a:t>Acción afirmativa: ejemplo, premiar a los mejores alumnos de cada curso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6600"/>
                </a:solidFill>
                <a:latin typeface="Tahoma"/>
              </a:rPr>
              <a:t>Necesidad de cursos de nivelación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438280"/>
            <a:ext cx="82803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ASPECTOS CENTRALES DEL FINANCIAMIENTO A LA DOCENCIA DE PREGRADO EN CHILE (</a:t>
            </a:r>
            <a:r>
              <a:rPr b="0" lang="es-CL" sz="3600" spc="-1" strike="noStrike" u="sng">
                <a:solidFill>
                  <a:srgbClr val="996633"/>
                </a:solidFill>
                <a:uFillTx/>
                <a:latin typeface="Arial Black"/>
                <a:hlinkClick r:id="rId1" action="ppaction://hlinksldjump"/>
              </a:rPr>
              <a:t>Saltar</a:t>
            </a: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)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ASPECTOS CENTRALES FINANCIAMIENTO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Recuperación de costos: recursos privado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Dos sistemas de apoyo estudiantil según fecha creación de universidad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Becas y crédito subsidiado CRectore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Crédito para programas acreditados en privada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SISTEMA DE CRÉDITO UNIVERSITARIO </a:t>
            </a:r>
            <a:r>
              <a:rPr b="1" lang="es-ES_tradnl" sz="1800" spc="-1" strike="noStrike">
                <a:solidFill>
                  <a:srgbClr val="cc9900"/>
                </a:solidFill>
                <a:latin typeface="Verdana"/>
              </a:rPr>
              <a:t>CONSEJO RECTORES </a:t>
            </a:r>
            <a:endParaRPr b="0" lang="en-US" sz="1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958160" cy="472428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Crédito contingente a ingresos es equitativo y eficiente (Barr, 1992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La ayuda estudiantil está relativamente bien focalizada comparada a otros países de LA pero mal r.a. otros niveles del sistema 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Monto total: limitaciones surgen principalmente de la morosidad y del subsidio de tasa de interés (2% fijo). Es cuestionable también el límite de 5% de los ingreso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No cubre costos de oportunidad: mantención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Apoyo a CFT, IP y universidades privadas post 1981 largo tiempo restringido a becas Pdte Rep., hasta nueva ley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9900"/>
                </a:solidFill>
                <a:latin typeface="Arial Black"/>
              </a:rPr>
              <a:t>TEMAS NUEVO SISTEMA DE CRÉDITO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Garantía universitaria y estándares de aprobación más lax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Incertidumbre respecto a recursos que el estado tendrá que aportar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Trade-off entre garantía estatal y tasa de interés que se cobre a los alumn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Diferencias por mérito, socioeconómicas, carreras y universidades. ¿Subsidios cruzados?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Información disponible para postulante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Cobertura neta educación superio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OTROS APORT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AFI: no se justifica, subsidio a la demanda mal concebido </a:t>
            </a: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(ver libro Caminos para la inclusión en educación superior)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Aporte fiscal directo y fondos institucionale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Necesidad de aclarar que se está “comprando” con estos aporte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¿Son adecuadas las fórmulas?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36232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9900"/>
                </a:solidFill>
                <a:latin typeface="Arial Black"/>
              </a:rPr>
              <a:t>COMPARACIÓN CRÉDITO CON ALTERNATIVAS DE FINANCIAMIENTO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Arancel diferenciado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Más difícil controlar ingreso actual que ingreso futuro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Menos recursos a educación 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Recursos públicos: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Limitación restringiría crecimiento sistema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Costo de oportunidad: esquema actual permite mejorar razón Gpub sup/ Gpub escolar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Inequitativo ex-post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Tendencia a alargar carreras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¿Cómo se financia? No se puede cobrar x sobre el costo a los más ricos porque se irían a otras Ues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Impuesto a graduados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No se discrimina diferencias de costo de las carreras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Menos recursos a educación (se requieren ahora y el costo de oportunidad de recursos públicos es alto):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Limitación restringiría crecimiento sistema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Tendencia a alargar carreras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Recaudación probablemente entraría a rentas generales, no incrementaría disponibilidad recursos en instituciones más exitosas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Problemas sistemas de crédito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¿Reticencia grupos de menores ingresos a endeudarse? (para mayor consumo futuro)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Necesidad de seguro para abaratar costo crédito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520" y="25905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OTROS TEMA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TODOS LOS ACTORES DEBEN TENER INCENTIVOS CORRECTOS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lección, crédito e información aseguran cumplimiento de objetivos privados, no objetivos públic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Pero </a:t>
            </a:r>
            <a:r>
              <a:rPr b="0" lang="es-ES_tradnl" sz="2800" spc="-1" strike="noStrike">
                <a:solidFill>
                  <a:srgbClr val="996633"/>
                </a:solidFill>
                <a:latin typeface="Verdana"/>
              </a:rPr>
              <a:t>que la institución sea pública tampoco asegura la producción de los “objetivos públicos”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Debe haber incentivos para proveer esos objetivos eficientemente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regulación y financiamiento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¿Regulación respecto al lucro solo incentiva elusión tributaria?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9900"/>
                </a:solidFill>
                <a:latin typeface="Arial Black"/>
              </a:rPr>
              <a:t>OTROS BIEN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l valor de la universidad pública: ¿pluralismo, independencia académica (autonomía o impunidad: importancia de accountability), cohesión social?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Incluso en EEUU más de dos tercios de los estudiantes asisten a Ues estatale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Aportes institucionales, universidades regionales, financiamiento investigación, etc.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514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RESUMEN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9900"/>
                </a:solidFill>
                <a:latin typeface="Arial Black"/>
              </a:rPr>
              <a:t>Resumen ¿Qué debe hacer el estado respecto a la docencia?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6600"/>
                </a:solidFill>
                <a:latin typeface="Tahoma"/>
              </a:rPr>
              <a:t>Asegurar que los estudiantes meritorios tengan acceso: crédito contingente a ingresos futuros o con seguro estatal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6600"/>
                </a:solidFill>
                <a:latin typeface="Tahoma"/>
              </a:rPr>
              <a:t>Necesidad de medidas para mejorar equidad Sistema escolar/ ¿Acción afirmativa? ¿Mantención? ¿Horarios?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6600"/>
                </a:solidFill>
                <a:latin typeface="Tahoma"/>
              </a:rPr>
              <a:t>¿Carreras saturadas? Importancia de la información en decisiones, problemas de otros instrumentos (ej. Informática en EEUU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6600"/>
                </a:solidFill>
                <a:latin typeface="Tahoma"/>
              </a:rPr>
              <a:t>Importancia de instituciones públicas y de decisiones privadas alineadas con el interés público: también en la oferta hay problema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Cobertura bruta educación superio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Límites quintiles de ingreso autónomo de los hogares 2006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1886040"/>
          <a:ext cx="8305920" cy="4209840"/>
        </p:xfrm>
        <a:graphic>
          <a:graphicData uri="http://schemas.openxmlformats.org/drawingml/2006/table">
            <a:tbl>
              <a:tblPr/>
              <a:tblGrid>
                <a:gridCol w="1255680"/>
                <a:gridCol w="1687680"/>
                <a:gridCol w="1611000"/>
                <a:gridCol w="1327320"/>
                <a:gridCol w="1211400"/>
                <a:gridCol w="1212840"/>
              </a:tblGrid>
              <a:tr h="670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Quintil Autónomo Regional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Promedio de personas en el Hogar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Promedio Ingreso Autónomo Hogar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Ingreso autónomo per-cápita del hogar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Promedio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Mínimo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Máximo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14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4,2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127.668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29.122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49.400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II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4,1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268.693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65.859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49.407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83.658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III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3,7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387.722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104.446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83.660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130.656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IV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3,5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607.348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173.740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130.669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236.509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3,1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1.674.721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593.100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236.527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--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3785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9900"/>
                </a:solidFill>
                <a:latin typeface="Verdana"/>
              </a:rPr>
              <a:t>DISTRIBUCIÓN DE LA MATRÍCULA DE EDUCACIÓN SUPERIOR POR QUINTIL DE INGRESO AUTONÓMO, 2003</a:t>
            </a:r>
            <a:endParaRPr b="0" lang="en-US" sz="2000" spc="-1" strike="noStrike">
              <a:solidFill>
                <a:srgbClr val="cc9900"/>
              </a:solidFill>
              <a:latin typeface="Arial Black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57200" y="1905120"/>
            <a:ext cx="8229600" cy="4143240"/>
            <a:chOff x="457200" y="1905120"/>
            <a:chExt cx="8229600" cy="4143240"/>
          </a:xfrm>
        </p:grpSpPr>
        <p:sp>
          <p:nvSpPr>
            <p:cNvPr id="109" name=""/>
            <p:cNvSpPr/>
            <p:nvPr/>
          </p:nvSpPr>
          <p:spPr>
            <a:xfrm>
              <a:off x="7711920" y="5362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35600" y="5362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32,9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61080" y="536256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8,6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84760" y="5362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1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09880" y="5362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24080" y="536256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6,4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" y="536256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Total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711920" y="4662360"/>
              <a:ext cx="974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735600" y="4662360"/>
              <a:ext cx="9763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41,8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761080" y="4662360"/>
              <a:ext cx="9745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8,6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84760" y="4662360"/>
              <a:ext cx="9763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6,5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09880" y="4662360"/>
              <a:ext cx="974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8,2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24080" y="4662360"/>
              <a:ext cx="68580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4,8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" y="4662360"/>
              <a:ext cx="2666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Educación Universitaria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11920" y="3976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735600" y="3976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9,1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761080" y="397656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31,6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784760" y="3976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1,3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09880" y="3976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6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124080" y="397656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5,5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7200" y="397656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nstituto Profesional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11920" y="3276720"/>
              <a:ext cx="974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735600" y="3276720"/>
              <a:ext cx="9763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1,1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61080" y="3276720"/>
              <a:ext cx="9745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7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84760" y="3276720"/>
              <a:ext cx="9763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5,7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09880" y="3276720"/>
              <a:ext cx="974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24080" y="3276720"/>
              <a:ext cx="68580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5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57200" y="3276720"/>
              <a:ext cx="2666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Centro de Formación Técnica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711920" y="25909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Total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735600" y="259092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V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761080" y="259092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V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84760" y="259092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II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09880" y="25909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I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24080" y="259092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7200" y="259092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 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711920" y="19051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 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24080" y="1905120"/>
              <a:ext cx="458784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Quintil de ingreso autónomo percapita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7200" y="190512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7200" y="259092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124080" y="1905120"/>
              <a:ext cx="0" cy="41432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11920" y="1905120"/>
              <a:ext cx="0" cy="41432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0988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78476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76108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3560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39765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57200" y="46623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57200" y="53625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7200" y="1905120"/>
              <a:ext cx="8229600" cy="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57200" y="1905120"/>
              <a:ext cx="0" cy="414324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686800" y="1905120"/>
              <a:ext cx="0" cy="414324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7200" y="6048360"/>
              <a:ext cx="8229600" cy="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17928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c6600"/>
                </a:solidFill>
                <a:latin typeface="Tahoma"/>
              </a:rPr>
              <a:t>MIDEPLAN, División Social, a partir de Encuesta CASEN  años respectivos</a:t>
            </a:r>
            <a:endParaRPr b="0" lang="en-US" sz="1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9900"/>
                </a:solidFill>
                <a:latin typeface="Arial Black"/>
              </a:rPr>
              <a:t>Población 20-24 años con al menos educación media completa según deciles de ingreso de los hogares</a:t>
            </a:r>
            <a:endParaRPr b="0" lang="en-US" sz="24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Ingresos según años de escolaridad         </a:t>
            </a:r>
            <a:r>
              <a:rPr b="0" lang="es-CL" sz="1800" spc="-1" strike="noStrike">
                <a:solidFill>
                  <a:srgbClr val="cc9900"/>
                </a:solidFill>
                <a:latin typeface="Arial Black"/>
              </a:rPr>
              <a:t>($ Nov 2006)</a:t>
            </a:r>
            <a:endParaRPr b="0" lang="en-US" sz="18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8607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2:48:43Z</dcterms:created>
  <dc:creator>Pablo Gonzalez</dc:creator>
  <dc:description/>
  <dc:language>en-US</dc:language>
  <cp:lastModifiedBy>pabloa.gonzalez</cp:lastModifiedBy>
  <dcterms:modified xsi:type="dcterms:W3CDTF">2008-09-22T15:20:53Z</dcterms:modified>
  <cp:revision>52</cp:revision>
  <dc:subject/>
  <dc:title>ANÁLISIS ECONÓMICO DE LA EDUCACIÓN SUPERIOR</dc:title>
</cp:coreProperties>
</file>