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8915-00B5-413C-A735-56B903708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0714-01E7-44C3-8D3C-73B1624B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CBF-38AC-4005-A1AF-5D810C82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B8A-E36C-461A-88C8-2F8EA2F0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BEE-6A45-4A71-BD0E-E89F786A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72B4-7908-42B2-8A02-BC098186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DFC3-8211-45A6-A93F-8914323B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D9B7-4134-4B48-AC43-DBD22C3C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C2C4-E3CB-42A3-9635-67B5EACB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27CA-8062-43FE-8A12-B65FA9E1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F409-C5DE-4604-923C-F5967697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3192-13F9-4223-8A95-D257B583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3261-56B4-4CDA-A126-DD99B700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86FC-A1E5-4026-81EE-ED34CCFA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DD59-DF89-4774-B2D9-8FEEF390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0B7D-3E07-427A-821B-29E00C70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D537-825F-479A-A68F-F1D9E128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0666-D0CC-4C81-85FE-B683B8B7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5D8-88D4-48EE-BA30-1B4A0DCE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CF5-D0F2-4FB3-AF30-8E49021B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216-AC6F-45BA-AA43-7C4CB9EF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42D-5173-4A74-8FD3-E7EDC96F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A24-F0EF-4B14-B5B9-7ABA5D76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39E-F0F0-4E21-BC5E-B279C26A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419-A51E-47B7-8C2E-92451AF1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0054-C46E-4E78-B9F8-66C5F482C406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DFA9-C3D4-4073-A4E9-AA319A9EB3AC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pabloa.gonzalez</cp:lastModifiedBy>
  <dcterms:modified xsi:type="dcterms:W3CDTF">2008-09-22T15:20:53Z</dcterms:modified>
  <cp:revision>52</cp:revision>
  <dc:subject/>
  <dc:title>ANÁLISIS ECONÓMICO DE LA EDUCACIÓN SUPERIOR</dc:title>
</cp:coreProperties>
</file>