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BE9-8B54-4A26-AA21-C9C5BBBC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88F-A184-4F92-8E14-7752A27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B0A-6C89-4ABE-A4F5-B46E508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272-B71D-432F-95CA-76BF3BC1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F48-A1BA-4D2D-B3E7-A518BBC0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F8F-A2B4-423F-83D1-235401EC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B78B-58C6-40E7-8695-7454775F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944-26B0-490E-9CE9-FD26B5F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8F7-0465-4296-AC6E-967E110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7CE5-FB97-488A-BA2A-C789E509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F63-7CA7-42C1-ADDE-BEF523E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EDA-741C-49FF-9D66-B311064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9DA-2579-475F-9D2A-D356D58C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6F8-1027-4547-B9DE-7B5304D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BF5-33D5-4212-B774-99E8654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5930-0BB2-4A6E-91C8-32E6DAA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4781-6B3F-4B66-AB26-39912517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4EE-78A2-4A62-9C51-97137BB4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970-4736-43BB-B338-B3EF4EF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785-3FBA-4B99-ABEE-67C44031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32B-E498-41D7-8F65-5AE274C8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284-3372-4B5D-B3A3-0248BF4D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3BD-EA79-45DC-98CD-F45843E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142-0CD1-4CAE-BB44-0E9DD4B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58E-85AF-48EA-AC1C-7584C517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64C-D999-49E4-88F1-A815876E80E2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4E6-DD7E-4D30-BC7E-F7CD49424C8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pabloa.gonzalez</cp:lastModifiedBy>
  <dcterms:modified xsi:type="dcterms:W3CDTF">2008-09-22T15:20:53Z</dcterms:modified>
  <cp:revision>52</cp:revision>
  <dc:subject/>
  <dc:title>ANÁLISIS ECONÓMICO DE LA EDUCACIÓN SUPERIOR</dc:title>
</cp:coreProperties>
</file>