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CAA5-888D-4932-AB8E-A685254D8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877-F7A5-420D-A65A-A05C9212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804-705E-4C45-900C-B4E94850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F1F-AA27-403E-8BCB-A6C86352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246-AC57-400C-83FD-818896EB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911A-BEB7-4B0F-B268-605D24A2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E06F-7967-4C93-863C-69E47A51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B14A-F585-469A-9B39-9B3B7E34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BB24-A57B-4BA9-8825-685D1A4E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3702-385B-4196-914F-921F38F1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6AE5-5AAF-4EF6-B932-BCF92722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C3D9-3058-4265-B0D3-72124B94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BBF-D001-4837-81F2-D67F0C5D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595C-CE31-48A3-B4BD-9BD01D58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F2F7-8B38-4200-9F7B-EC6FAB09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CEB1-28EF-47CC-9E86-EA19A259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680B-7DCF-4AB2-9AFC-A0A1C192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D860-104D-4A3A-92BC-9B161194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A51-D5F1-4A66-BB31-D78EF144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162-55AF-479D-B26F-94AA7A9D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EB2-673D-4BB0-8C39-34CE1965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95B-E6B5-4AC2-B7A2-318B4944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3EF-97A6-4DD8-8D3A-4F684210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B49-C54C-4418-A735-2225067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0F8-320E-4830-80D0-00E6156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CBB5-1FCF-4A6C-9D9A-BB9A2A7F6C33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A208-C525-4F63-96DE-6426DB5D268E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pabloa.gonzalez</cp:lastModifiedBy>
  <dcterms:modified xsi:type="dcterms:W3CDTF">2008-09-22T15:20:53Z</dcterms:modified>
  <cp:revision>52</cp:revision>
  <dc:subject/>
  <dc:title>ANÁLISIS ECONÓMICO DE LA EDUCACIÓN SUPERIOR</dc:title>
</cp:coreProperties>
</file>