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A9F2-6ABB-407A-B66D-E93430A4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474-7438-421E-BBDA-69E443BB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DE8-105B-4845-84FB-C5192F39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456-778E-4627-958B-33B0BE66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C1A-35E7-4B8B-8B86-5C9A2A93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21E-D014-4F81-8E07-2D1D4D8C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3B8-F466-49D0-AAEB-197143FD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05A-C3E3-440B-B9B6-0DFBEC4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C87-D412-412C-8831-FE338182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47A-2920-496C-96F4-4A18B79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6F1-3C63-4D57-9796-A9D174E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D1C-5515-4EC5-8A53-4F1CD2EF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A73-76B3-4C1D-8609-71E45F0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D5E-2DA5-47AA-AA54-B05C791EE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86868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236520"/>
          <a:ext cx="8763120" cy="646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520"/>
                    <a:ext cx="876312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ASTO PÚBLICO Y PRIVADO EN EDUCACIÓN COMO % DEL P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457200"/>
            <a:ext cx="53341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ria y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c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0"/>
          <a:ext cx="8381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81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PRESUPUESTO LIMITADO Y COSTO DE OPORTU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/PI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f( </a:t>
            </a:r>
            <a:r>
              <a:rPr b="0" lang="es-CL" sz="3200" spc="-1" strike="noStrike">
                <a:solidFill>
                  <a:srgbClr val="3333cc"/>
                </a:solidFill>
                <a:latin typeface="Arial"/>
              </a:rPr>
              <a:t>Pob en edad escolar / Pob total *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ob en sist esc / Pob edad esc *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rofesor / Alumno *                    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w promedio / PIB per capita ;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% Gotros insumos)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Salario docente anu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Salario docente por hora * horas anuales de enseñ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 = Gpub + G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ADOS PRUEBA TIMSS 1999 MATE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ómo 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n los rendimientos de distintos países, en relación a su Producto Interno Br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561080" cy="5010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77760" y="65530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nte: Banco Mundial 2000, TIMSS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437000"/>
            <a:ext cx="287640" cy="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% QUE A LOS 17 AÑOS ESTÁ EN EDUCACIÓN (post&amp;)SECUND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600200"/>
          <a:ext cx="9296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296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90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1:04:48Z</dcterms:created>
  <dc:creator>Pablo Gonzalez</dc:creator>
  <dc:description/>
  <dc:language>en-US</dc:language>
  <cp:lastModifiedBy>Pablo Gonz</cp:lastModifiedBy>
  <dcterms:modified xsi:type="dcterms:W3CDTF">2008-08-01T03:22:51Z</dcterms:modified>
  <cp:revision>13</cp:revision>
  <dc:subject/>
  <dc:title>Slide 1</dc:title>
</cp:coreProperties>
</file>