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087E-7E1F-420C-8B1F-2884E334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052-0F48-45E5-8900-B5489D2D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2BA-483A-43A8-BC0B-E2D3C42D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E89-7808-4D0A-A94E-34A84A27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FBC-EDF7-41F2-883A-C28EA526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10F-AE88-4C8A-A091-7C27A05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EDF-F0F9-4D51-8E0F-0D9FF41B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3D1-FACC-4C0B-8F6A-E9D64E9D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B6B-72F3-4F73-A903-478882DD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856-8C94-4897-8AF2-A667B6FD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726-EEE5-4411-A992-E978E166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226-5012-47FB-B69F-F9106D2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2D7-72B5-418D-9258-5D3E7337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2784-036A-45C5-96BF-CF8D1147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86868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236520"/>
          <a:ext cx="8763120" cy="646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520"/>
                    <a:ext cx="876312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ASTO PÚBLICO Y PRIVADO EN EDUCACIÓN COMO % DEL P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457200"/>
            <a:ext cx="53341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ria y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c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0"/>
          <a:ext cx="8381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81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PRESUPUESTO LIMITADO Y COSTO DE OPORTU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/PI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f( </a:t>
            </a:r>
            <a:r>
              <a:rPr b="0" lang="es-CL" sz="3200" spc="-1" strike="noStrike">
                <a:solidFill>
                  <a:srgbClr val="3333cc"/>
                </a:solidFill>
                <a:latin typeface="Arial"/>
              </a:rPr>
              <a:t>Pob en edad escolar / Pob total *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ob en sist esc / Pob edad esc *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rofesor / Alumno *                    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w promedio / PIB per capita ;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% Gotros insumos)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Salario docente anu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Salario docente por hora * horas anuales de enseñ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 = Gpub + G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ADOS PRUEBA TIMSS 1999 MATE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ómo 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n los rendimientos de distintos países, en relación a su Producto Interno Br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561080" cy="5010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77760" y="65530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nte: Banco Mundial 2000, TIMSS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437000"/>
            <a:ext cx="287640" cy="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% QUE A LOS 17 AÑOS ESTÁ EN EDUCACIÓN (post&amp;)SECUND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600200"/>
          <a:ext cx="9296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296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90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1:04:48Z</dcterms:created>
  <dc:creator>Pablo Gonzalez</dc:creator>
  <dc:description/>
  <dc:language>en-US</dc:language>
  <cp:lastModifiedBy>Pablo Gonz</cp:lastModifiedBy>
  <dcterms:modified xsi:type="dcterms:W3CDTF">2008-08-01T03:22:51Z</dcterms:modified>
  <cp:revision>13</cp:revision>
  <dc:subject/>
  <dc:title>Slide 1</dc:title>
</cp:coreProperties>
</file>