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3620-19A2-40A0-BBE2-1BDD78EB3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2E5-870F-4AC8-B196-CF0E6F33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8D5-F7B1-473D-9819-4E4A4854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711-751C-466E-8F89-579750CF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13C-6A1A-43E3-9FF6-3FF82657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3CA-4DCE-4890-95C2-BE0025E2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3A0-A3B5-44A0-9638-E594FECF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D82-E3EE-41DD-BC2C-8AB6D1BB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503-4B3A-484E-8DA3-03DBD18D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946-D4DB-47B3-870E-9368BB9A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B91-B032-41CA-8AB3-EF316CCB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B0B-1A65-4D44-B4BA-F2AA406D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84B-2D1F-4D25-91D3-29285E22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D22D-251F-4D53-B551-FDB64FC8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86868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86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236520"/>
          <a:ext cx="8763120" cy="646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520"/>
                    <a:ext cx="876312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ASTO PÚBLICO Y PRIVADO EN EDUCACIÓN COMO % DEL P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0" y="457200"/>
            <a:ext cx="5334120" cy="120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ria y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c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0"/>
          <a:ext cx="83818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81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PRESUPUESTO LIMITADO Y COSTO DE OPORTU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G/PI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f( </a:t>
            </a:r>
            <a:r>
              <a:rPr b="0" lang="es-CL" sz="3200" spc="-1" strike="noStrike">
                <a:solidFill>
                  <a:srgbClr val="3333cc"/>
                </a:solidFill>
                <a:latin typeface="Arial"/>
              </a:rPr>
              <a:t>Pob en edad escolar / Pob total *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Pob en sist esc / Pob edad esc *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Profesor / Alumno *                         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w promedio / PIB per capita ;     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% Gotros insumos)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Salario docente anu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Salario docente por hora * horas anuales de enseñ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G = Gpub + Gpriv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ADOS PRUEBA TIMSS 1999 MATEM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ómo 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n los rendimientos de distintos países, en relación a su Producto Interno Br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561080" cy="5010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77760" y="6553080"/>
            <a:ext cx="36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ente: Banco Mundial 2000, TIMSS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437000"/>
            <a:ext cx="287640" cy="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% QUE A LOS 17 AÑOS ESTÁ EN EDUCACIÓN (post&amp;)SECUND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600200"/>
          <a:ext cx="9296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296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90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1:04:48Z</dcterms:created>
  <dc:creator>Pablo Gonzalez</dc:creator>
  <dc:description/>
  <dc:language>en-US</dc:language>
  <cp:lastModifiedBy>Pablo Gonz</cp:lastModifiedBy>
  <dcterms:modified xsi:type="dcterms:W3CDTF">2008-08-01T03:22:51Z</dcterms:modified>
  <cp:revision>13</cp:revision>
  <dc:subject/>
  <dc:title>Slide 1</dc:title>
</cp:coreProperties>
</file>