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2E1D-B0AF-4020-93F8-68503621D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D4B-1042-4215-A27B-9F0B76F2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83C-DC06-4AFC-B298-A3E8990F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4AD-E657-430C-852A-4F856EC1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0BF-27E2-4637-AA67-043F153E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283-94C7-49B7-A4BE-0A6C275E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3D1-F87C-4D8F-8CAB-EAB79931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7DA-460F-4785-B268-697A6CA3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9B7-5AB5-4CCB-883B-E7304F84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7F1-49A0-4292-9AC1-8B5D9349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461-358E-42B1-AE2B-AC64145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4FC-CAD7-481F-945B-8DF469C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F98-0082-45BA-B408-6EA7741E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CF4-4795-47A5-A5F2-79997084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86868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236520"/>
          <a:ext cx="8763120" cy="646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520"/>
                    <a:ext cx="876312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ASTO PÚBLICO Y PRIVADO EN EDUCACIÓN COMO % DEL P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0" y="457200"/>
            <a:ext cx="5334120" cy="120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ria y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c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0"/>
          <a:ext cx="83818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81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PRESUPUESTO LIMITADO Y COSTO DE OPORTU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/PI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f( </a:t>
            </a:r>
            <a:r>
              <a:rPr b="0" lang="es-CL" sz="3200" spc="-1" strike="noStrike">
                <a:solidFill>
                  <a:srgbClr val="3333cc"/>
                </a:solidFill>
                <a:latin typeface="Arial"/>
              </a:rPr>
              <a:t>Pob en edad escolar / Pob total *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ob en sist esc / Pob edad esc *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Profesor / Alumno *                    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w promedio / PIB per capita ;     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% Gotros insumos)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Salario docente anu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Salario docente por hora * horas anuales de enseñ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cc33"/>
                </a:solidFill>
                <a:latin typeface="Arial"/>
              </a:rPr>
              <a:t>G = Gpub + Gpriv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ADOS PRUEBA TIMSS 1999 MATEM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ómo 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n los rendimientos de distintos países, en relación a su Producto Interno Br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561080" cy="5010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77760" y="65530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uente: Banco Mundial 2000, TIMSS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437000"/>
            <a:ext cx="287640" cy="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% QUE A LOS 17 AÑOS ESTÁ EN EDUCACIÓN (post&amp;)SECUND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600200"/>
          <a:ext cx="9296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296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90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1:04:48Z</dcterms:created>
  <dc:creator>Pablo Gonzalez</dc:creator>
  <dc:description/>
  <dc:language>en-US</dc:language>
  <cp:lastModifiedBy>Pablo Gonz</cp:lastModifiedBy>
  <dcterms:modified xsi:type="dcterms:W3CDTF">2008-08-01T03:22:51Z</dcterms:modified>
  <cp:revision>13</cp:revision>
  <dc:subject/>
  <dc:title>Slide 1</dc:title>
</cp:coreProperties>
</file>