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E8C-D1EF-4E9D-80A6-CD7C2450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F51-0617-4650-BB3E-6E3ECE40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AAE-5112-4C6F-950E-BCF62C3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082-E55E-4523-87AD-5F14508F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C1D-AF41-4596-8B72-A1EDAE4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6CD-20C3-424E-96CE-4F43361F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F17-18CD-4C0E-9127-ED650D7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D35-376C-4CC7-AC63-AE3512A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E12-56C6-43BE-B2B7-28A47BF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C79-8D81-4244-82A5-61034B6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E8B-FE68-475E-B2D0-17799FE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1B8-220B-4A1F-A0A8-CC5E690A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1A2-CCBB-4AAC-9080-258095B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D9AD-3453-4AF5-BDF9-3700701B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8686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6520"/>
          <a:ext cx="876312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520"/>
                    <a:ext cx="876312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ASTO PÚBLICO Y PRIVADO EN EDUCACIÓN COMO % DEL P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57200"/>
            <a:ext cx="53341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ria y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0"/>
          <a:ext cx="8381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PRESUPUESTO LIMITADO Y COSTO DE OPORTU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/PI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f( </a:t>
            </a:r>
            <a:r>
              <a:rPr b="0" lang="es-CL" sz="3200" spc="-1" strike="noStrike">
                <a:solidFill>
                  <a:srgbClr val="3333cc"/>
                </a:solidFill>
                <a:latin typeface="Arial"/>
              </a:rPr>
              <a:t>Pob en edad escolar / Pob total *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ob en sist esc / Pob edad esc *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rofesor / Alumno *                    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w promedio / PIB per capita ;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% Gotros insumos)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Salario docente anu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Salario docente por hora * horas anuales de 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 = Gpub + G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 PRUEBA TIMSS 1999 MATE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ómo 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 los rendimientos de distintos países, en relación a su Producto Interno Br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77760" y="65530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nte: Banco Mundial 2000, TIMSS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437000"/>
            <a:ext cx="28764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% QUE A LOS 17 AÑOS ESTÁ EN EDUCACIÓN (post&amp;)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9296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296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4:48Z</dcterms:created>
  <dc:creator>Pablo Gonzalez</dc:creator>
  <dc:description/>
  <dc:language>en-US</dc:language>
  <cp:lastModifiedBy>Pablo Gonz</cp:lastModifiedBy>
  <dcterms:modified xsi:type="dcterms:W3CDTF">2008-08-01T03:22:51Z</dcterms:modified>
  <cp:revision>13</cp:revision>
  <dc:subject/>
  <dc:title>Slide 1</dc:title>
</cp:coreProperties>
</file>