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5840" y="7740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0F6-6F52-41F1-AEE8-1FA1A44C4F5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C4C7-041D-46C2-B248-9765FAEFFF0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630-9CC3-43F7-A1E4-FB9720B7937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6041880"/>
            <a:ext cx="50292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6165-7D4D-4C0B-8587-082F915A826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5FC-DE8F-4C43-8A72-C69801A8D0C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10D-6D68-4307-84BB-DF135310720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A2B9-F9F8-4EF5-AD82-2CB22459D9E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7225-8320-41FE-9C78-09EE30D1670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4897-83F2-4174-8EE3-B4024F60902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A4C-E0BF-457D-BDCE-19807602947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C701-9219-414E-A562-09CEA72C1E9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9D0-3D0B-4888-8F1A-664B4B3DC19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09B-3D5F-4FC9-B033-F987B11FC5D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ADA7-762F-46E4-9D43-81D6631B0C4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550-6E98-4DED-9CCF-DD86288D2E3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5F23-6D24-45BA-872A-DA1A7064930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6170400"/>
            <a:ext cx="5486400" cy="45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E89D-3E22-4165-A378-834523374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5D48-E178-41BF-BCF4-A539C718E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68A5B-93E0-466C-AAF2-F87442F59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5286-F884-4BDE-ACED-BD661AAB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34C8B-7AED-4180-AE65-DA3CD7BE59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102B-E8FE-4EC3-93FB-46501D8BD8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52C31-3E5F-4F62-AC85-2241345A25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C096-C58B-4FD2-AEC7-137523DCC5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9517-BEF8-49EE-9FFD-07D6DBD20F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A45A-EF67-4B52-9166-614A8C7273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489F-5199-4CC6-B373-82F67C867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F249-C4F3-4083-9587-4DA2DF518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D866-1F14-46C2-A699-71578DFC64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8A93-7243-4F54-8737-6AF04C6A5C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7AA5-5048-46D0-B6CF-3E88815691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2CF6-6A29-48F4-A317-C7414D90C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0A0C-249F-4DC6-B28F-57427FCA4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6017-55D6-4C5A-A374-076B8975A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D28F-B9C1-45A1-B4DC-CBC5B94EA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A566-6736-4DAA-85F3-B7DEE8129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7B54-B249-4AF1-9203-3C77ED7CB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02767-FC97-481C-8964-0B8313FE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04A3-7C31-4516-8556-87BA32335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34A4-44A6-490C-B782-FAE80FCA6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684E-2722-4276-9404-5AD9D7624CB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2781000"/>
            <a:ext cx="716256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B0CA-70C2-4F97-8D1B-9E0B76ECD0D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55640" algn="ctr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5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Agost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ario Waissblu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(en base a materiales de Ivan Brag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C818-7E4C-4E1E-A780-F278AF1463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aa1"/>
              </a:gs>
              <a:gs pos="50000">
                <a:srgbClr val="063de8"/>
              </a:gs>
              <a:gs pos="100000">
                <a:srgbClr val="042aa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79BF-74D0-40FF-B8FB-9923937D52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317" name="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920C-3212-4CA4-B29E-D38CD5CADE7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B9D9-34B9-48F6-B218-52995DDCBC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87" name="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35" name="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/>
                <a:ahLst/>
                <a:rect l="l" t="t" r="r" b="b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/>
              <a:ahLst/>
              <a:rect l="l" t="t" r="r" b="b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/>
              <a:ahLst/>
              <a:rect l="l" t="t" r="r" b="b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5D0B-3FBB-4343-A6C3-85B4059ACA9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44" name="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EC8A-442B-4392-9D39-F283161073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613CB-C884-4ADB-9523-F19180B723E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4992-6AF6-4E46-B9FA-00A46A5C99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AFA4-A36D-464E-9D8E-B323FEFFBBB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7" idx="0"/>
            <a:endCxn id="505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7" idx="2"/>
            <a:endCxn id="510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10" idx="0"/>
            <a:endCxn id="507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3" name="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514" name="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18" idx="3"/>
              <a:endCxn id="519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8" name=""/>
            <p:cNvCxnSpPr>
              <a:stCxn id="519" idx="3"/>
              <a:endCxn id="520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9" name=""/>
            <p:cNvCxnSpPr>
              <a:stCxn id="523" idx="3"/>
              <a:endCxn id="525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0" name=""/>
            <p:cNvCxnSpPr>
              <a:stCxn id="531" idx="2"/>
              <a:endCxn id="526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2" name=""/>
            <p:cNvCxnSpPr>
              <a:stCxn id="523" idx="1"/>
              <a:endCxn id="524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3" name="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4" name=""/>
            <p:cNvCxnSpPr>
              <a:stCxn id="520" idx="1"/>
              <a:endCxn id="523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5" name="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25" idx="3"/>
              <a:endCxn id="531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1" name="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0" name=""/>
            <p:cNvCxnSpPr>
              <a:endCxn id="531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1" name="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46" name="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/>
              <a:ahLst/>
              <a:rect l="l" t="t" r="r" b="b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/>
              <a:ahLst/>
              <a:rect l="l" t="t" r="r" b="b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418B-4F3C-45F9-908F-2E823D9CDE5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3" idx="2"/>
            <a:endCxn id="604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"/>
          <p:cNvCxnSpPr>
            <a:stCxn id="604" idx="0"/>
            <a:endCxn id="603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7" name="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2"/>
            <a:endCxn id="607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"/>
          <p:cNvCxnSpPr>
            <a:stCxn id="607" idx="2"/>
            <a:endCxn id="608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1" name="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13A6-FEE9-4272-B05C-B9EBEDF797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FF3D-E8C9-40B6-888E-13524F7930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5A997-C2E0-46AD-8228-8A456EEB3323}" type="slidenum">
              <a:t>20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E8EF-1B0C-4B5B-A9E9-86F71035D23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25" name="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6" name="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8" name="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0" name="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33" name="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54" name="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5" name="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2FB4-094B-4DB2-9D61-F472C3F1B5F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0" name="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2" name="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0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1CE7-830F-461F-8A01-31EBF7BE384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9D0E-056B-46C8-A5F4-595ECC1F800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4" name=""/>
          <p:cNvCxnSpPr>
            <a:stCxn id="712" idx="2"/>
            <a:endCxn id="713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713" idx="0"/>
            <a:endCxn id="712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6" name="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stCxn id="713" idx="2"/>
            <a:endCxn id="716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716" idx="0"/>
            <a:endCxn id="713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CF9E-A4FF-4619-AACA-0B4B2A7EAF5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551A-A50F-4FB1-834F-B40D01FC3BA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3" name="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9E57-DA22-4205-9061-E94D036BD6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AF7C-6C07-47CD-8AD6-1A15CD5691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43FB-3DC7-4C83-BFDA-876ABC2B9C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4050-9A81-46BA-9B16-0B28C4BE40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2AEE-CEFA-4688-8640-E1B03A5021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5378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21280" y="2276640"/>
            <a:ext cx="1511280" cy="977760"/>
          </a:xfrm>
          <a:prstGeom prst="rect">
            <a:avLst/>
          </a:prstGeom>
          <a:gradFill rotWithShape="0">
            <a:gsLst>
              <a:gs pos="0">
                <a:srgbClr val="4d71c9"/>
              </a:gs>
              <a:gs pos="50000">
                <a:srgbClr val="618ffd"/>
              </a:gs>
              <a:gs pos="100000">
                <a:srgbClr val="4d71c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878200"/>
            <a:ext cx="19620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65104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0" y="2249640"/>
            <a:ext cx="13852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Insu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657760" y="2801520"/>
            <a:ext cx="18097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4480" y="2249640"/>
            <a:ext cx="1604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(Produ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81760" y="1125360"/>
            <a:ext cx="240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troal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2192400"/>
            <a:ext cx="1968480" cy="143496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473960" y="2124000"/>
            <a:ext cx="1587600" cy="1435320"/>
          </a:xfrm>
          <a:prstGeom prst="ellipse">
            <a:avLst/>
          </a:prstGeom>
          <a:gradFill rotWithShape="0">
            <a:gsLst>
              <a:gs pos="0">
                <a:srgbClr val="ab8449"/>
              </a:gs>
              <a:gs pos="50000">
                <a:srgbClr val="f6bf69"/>
              </a:gs>
              <a:gs pos="100000">
                <a:srgbClr val="ab844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intern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x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43080" y="1511280"/>
            <a:ext cx="341964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75" y="0"/>
                </a:moveTo>
                <a:arcTo wR="10800" hR="10800" stAng="-5376206" swAng="5376206"/>
                <a:lnTo>
                  <a:pt x="10800" y="10800"/>
                </a:lnTo>
                <a:close/>
              </a:path>
              <a:path fill="none" w="21600" h="21600">
                <a:moveTo>
                  <a:pt x="10875" y="0"/>
                </a:moveTo>
                <a:arcTo wR="10800" hR="10800" stAng="-5376206" swAng="5376206"/>
              </a:path>
            </a:pathLst>
          </a:custGeom>
          <a:noFill/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62600" y="1511280"/>
            <a:ext cx="3120840" cy="137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942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94200"/>
              </a:path>
            </a:pathLst>
          </a:custGeom>
          <a:noFill/>
          <a:ln cap="rnd"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27160" y="4325760"/>
            <a:ext cx="547920" cy="55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32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55960" y="4325760"/>
            <a:ext cx="54792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6400" y="4325760"/>
            <a:ext cx="549000" cy="5558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8280" y="4311720"/>
            <a:ext cx="549000" cy="6318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2680" y="4311720"/>
            <a:ext cx="549000" cy="631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47080" y="4311720"/>
            <a:ext cx="549000" cy="72216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81280" y="4672080"/>
            <a:ext cx="18252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03880" y="4672080"/>
            <a:ext cx="9180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135400" y="4672080"/>
            <a:ext cx="92160" cy="921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867280" y="4672080"/>
            <a:ext cx="274680" cy="921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672080"/>
            <a:ext cx="2746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65070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300400" y="495144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35000" y="5419800"/>
            <a:ext cx="1036800" cy="4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insu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95680" y="4951080"/>
            <a:ext cx="109692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95680" y="4951080"/>
            <a:ext cx="36540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129200" y="4951080"/>
            <a:ext cx="366480" cy="639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607000"/>
            <a:ext cx="2133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actividades de transformación que crean (o no) 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5419800"/>
            <a:ext cx="974880" cy="4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29600" y="5046840"/>
            <a:ext cx="12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600" spc="-1" strike="noStrike">
                <a:solidFill>
                  <a:srgbClr val="000066"/>
                </a:solidFill>
                <a:latin typeface="Arial"/>
              </a:rPr>
              <a:t>Valor cr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530680"/>
            <a:ext cx="0" cy="100512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569960" y="4727520"/>
            <a:ext cx="0" cy="1736640"/>
          </a:xfrm>
          <a:prstGeom prst="line">
            <a:avLst/>
          </a:prstGeom>
          <a:ln cap="rnd" w="2844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69960" y="4727520"/>
            <a:ext cx="27324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6521400"/>
            <a:ext cx="6019920" cy="0"/>
          </a:xfrm>
          <a:prstGeom prst="line">
            <a:avLst/>
          </a:prstGeom>
          <a:ln cap="rnd" w="38160">
            <a:solidFill>
              <a:srgbClr val="cc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692600"/>
            <a:ext cx="3045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3276720" y="4920840"/>
            <a:ext cx="121896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400000">
            <a:off x="4381200" y="1315440"/>
            <a:ext cx="609480" cy="4953240"/>
          </a:xfrm>
          <a:custGeom>
            <a:avLst/>
            <a:gdLst>
              <a:gd name="textAreaLeft" fmla="*/ 389520 w 609480"/>
              <a:gd name="textAreaRight" fmla="*/ 609840 w 60948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0" t="0" r="0" b="24749"/>
          <a:stretch/>
        </p:blipFill>
        <p:spPr>
          <a:xfrm>
            <a:off x="7272360" y="189000"/>
            <a:ext cx="1547640" cy="47772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273" name="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CFDD-AD05-41E1-913F-5601B6F8843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5311-3269-414B-A58A-2EF10E429C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77F8-C4D1-40F0-B0C2-916529702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F99C-4455-4F67-A4A7-EB963B125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 </cp:lastModifiedBy>
  <cp:lastPrinted>2002-12-20T00:24:57Z</cp:lastPrinted>
  <dcterms:modified xsi:type="dcterms:W3CDTF">2008-07-26T21:09:59Z</dcterms:modified>
  <cp:revision>1033</cp:revision>
  <dc:subject>versión 9 de Abril de 2004</dc:subject>
  <dc:title>Material BID OAC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6365710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EntryID">
    <vt:lpwstr>000000007F2EF3D47D697843BE6559C4891B7D1344543500</vt:lpwstr>
  </property>
  <property fmtid="{D5CDD505-2E9C-101B-9397-08002B2CF9AE}" pid="6" name="_EmailStoreID">
    <vt:lpwstr>0000000038A1BB1005E5101AA1BB08002B2A56C20000454D534D44422E444C4C00000000000000001B55FA20AA6611CD9BC800AA002FC45A0C0000004D41494C002F6F3D496E766572746563204947542F6F753D494E5645525445435F4947542F636E3D526563697069656E74732F636E3D656865726E616E64657A00</vt:lpwstr>
  </property>
  <property fmtid="{D5CDD505-2E9C-101B-9397-08002B2CF9AE}" pid="7" name="_EmailSubject">
    <vt:lpwstr>Rediseño de Procesos MGPP.ppt</vt:lpwstr>
  </property>
  <property fmtid="{D5CDD505-2E9C-101B-9397-08002B2CF9AE}" pid="8" name="_PreviousAdHocReviewCycleID">
    <vt:r8>1320568217</vt:r8>
  </property>
  <property fmtid="{D5CDD505-2E9C-101B-9397-08002B2CF9AE}" pid="9" name="_ReviewCycleID">
    <vt:r8>2143798465</vt:r8>
  </property>
  <property fmtid="{D5CDD505-2E9C-101B-9397-08002B2CF9AE}" pid="10" name="_ReviewingToolsShownOnce">
    <vt:lpwstr/>
  </property>
</Properties>
</file>