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7740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5840" y="7740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88FC-8A86-40F6-AA14-0FE3514FE40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C3B0-926E-433A-BAFD-017300FEBCE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9FAB-3CCE-4B63-9B4D-7EC88E50FB64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604188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AF90-80BB-48C9-A3ED-D9305129756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DF8F-D9D8-41FF-AB96-976AB0CB4EC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1E72-A6F5-404F-9451-DF59BD14EC0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C5EC-4D14-4E2F-A593-ACD90DFA477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F558-2297-4747-B11F-B07DD0A31A0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F13B-D9A3-4099-A2B1-DA22B4EAF28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0F05-F683-459F-8830-B047952A479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7EC8-EF4D-4D54-A9C5-A92EA578729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EE0B-0876-41FF-8B0C-36A6B8AE335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3E9F-F92E-4259-A54B-DC335F8D45D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08C4-792F-4519-8AAE-F73B46335B4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F68B-1250-4FEA-B1FB-AAD64F9CD88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4B87-CEE7-4803-8C83-9936657B275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4A00-5783-4A12-B523-99B20C05C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A88F-E3F3-463A-974A-689312D56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E9EA-44CD-43C3-B5D3-6FA5E1C10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6511-FB34-49A0-A308-68C791D27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54E5-8CC1-4AAC-B7C8-B11FB75A3D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5840-3F36-4F9B-BF9E-3403892F93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D848-ED44-42D1-A3D8-7E5DF6EE70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48F2D-B14A-4D31-8531-87CAC77796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9B57-D149-4CE0-AB9E-9D6B0AE1CA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D64B-50B2-4129-85E4-0967CA7CCF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3A1B-F784-4553-864C-D2F5DFD01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6329-7D7B-4D88-8778-C74431DA2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314A-11F3-4AB8-967E-A09F752D65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C6F5-5653-4FC5-8AA8-5BCDABC9A9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5CE8-4F7A-4A76-8C35-FDAFAE7FA0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8269-4469-4F77-BA96-150AD47E68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82A4-5E2A-4B86-8823-D89E5110B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25E5-0601-4E4C-B1DE-8EDBA6422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5CF4-7528-49F2-BA77-B70FA8ACF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5B75-24C5-4DEA-B0E6-6A774E10B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62ED-4F16-422C-907B-1E2A585B7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28D3-5D45-4FFA-8434-456CE2C37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3E2D-A694-4AC2-80AD-9DDA9FDDC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036B-BAEE-4D28-AC76-068B9ADF1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6E7-B362-48BD-97BF-FA6EEEFFAAD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2781000"/>
            <a:ext cx="71625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6BE2-19DE-48B2-A911-ED888074F34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55640" algn="ctr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slideLayout" Target="../slideLayouts/slideLayout5.xml"/><Relationship Id="rId4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50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297180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troducción al Rediseño de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M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75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Agosto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Mario Waissbl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(en base a materiales de Ivan Bra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AC14-D703-4567-BFD6-5592212F8EF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73160" y="1682640"/>
            <a:ext cx="7912080" cy="4864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88400" y="1914480"/>
            <a:ext cx="3275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MACRO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2978280"/>
            <a:ext cx="173988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92480" y="4121280"/>
            <a:ext cx="173988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16360" y="2444760"/>
            <a:ext cx="1663560" cy="82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8480" y="3587760"/>
            <a:ext cx="3187440" cy="219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28160" y="3789360"/>
            <a:ext cx="194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30760" y="41972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30760" y="48830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59560" y="3664080"/>
            <a:ext cx="1054080" cy="20444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11840" y="427356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aa1"/>
              </a:gs>
              <a:gs pos="50000">
                <a:srgbClr val="063de8"/>
              </a:gs>
              <a:gs pos="100000">
                <a:srgbClr val="042aa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11840" y="480708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aa1"/>
              </a:gs>
              <a:gs pos="50000">
                <a:srgbClr val="063de8"/>
              </a:gs>
              <a:gs pos="100000">
                <a:srgbClr val="042aa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92880" y="274320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2749680"/>
            <a:ext cx="0" cy="825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971800" y="2508120"/>
            <a:ext cx="0" cy="4701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965320" y="2514600"/>
            <a:ext cx="8510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200400" y="3879360"/>
            <a:ext cx="0" cy="241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44960" y="4648320"/>
            <a:ext cx="520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3270240"/>
            <a:ext cx="0" cy="851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724280"/>
            <a:ext cx="0" cy="298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492880"/>
            <a:ext cx="0" cy="1396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73760" y="5638680"/>
            <a:ext cx="901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162920" y="4571640"/>
            <a:ext cx="0" cy="235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65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ara analizar los procesos es fundamental descomponerlo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7B69-7A35-4346-ACAF-186C05E4DB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todología de estructuración y descomposición jerárquica de los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8400" y="1770120"/>
            <a:ext cx="48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cro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ub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5320" y="26654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5320" y="31226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87440" y="35798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87440" y="40370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01840" y="457056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01840" y="502776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805920" y="1770120"/>
            <a:ext cx="5112360" cy="4480920"/>
            <a:chOff x="3805920" y="1770120"/>
            <a:chExt cx="5112360" cy="4480920"/>
          </a:xfrm>
        </p:grpSpPr>
        <p:sp>
          <p:nvSpPr>
            <p:cNvPr id="317" name=""/>
            <p:cNvSpPr/>
            <p:nvPr/>
          </p:nvSpPr>
          <p:spPr>
            <a:xfrm>
              <a:off x="3805920" y="1770120"/>
              <a:ext cx="51123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clien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Factu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Lectu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greso d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81480" y="2589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1480" y="3046680"/>
              <a:ext cx="30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43600" y="3503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43600" y="396108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58000" y="449424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58000" y="495144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971800" y="192240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1271-7513-490F-8196-F6C622B9D6D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98320" y="158760"/>
            <a:ext cx="7772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INCO GRUPOS DE PROCESOS CON DOCE SUB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97040" y="1682640"/>
            <a:ext cx="5778360" cy="478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11640" y="5264280"/>
            <a:ext cx="303516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02360" y="2444760"/>
            <a:ext cx="204444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25640" y="2368440"/>
            <a:ext cx="16635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54440" y="1835280"/>
            <a:ext cx="128268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11640" y="4197240"/>
            <a:ext cx="234936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36160" y="2355840"/>
            <a:ext cx="130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cesami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 orde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8280" y="1822320"/>
            <a:ext cx="1167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B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trat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72240" y="2584440"/>
            <a:ext cx="1047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58560" y="4184640"/>
            <a:ext cx="1141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ctur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68800" y="5327640"/>
            <a:ext cx="16002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icio al Cli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75200" y="3956040"/>
            <a:ext cx="8611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6320" y="3803760"/>
            <a:ext cx="1173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veedor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7396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641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54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2624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11640" y="2521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779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68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6372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16560" y="45784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88160" y="473076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552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9764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139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04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9972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47640" y="2508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0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001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6224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0960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52200" y="45655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47480" y="471816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9520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5732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39920" y="1523880"/>
            <a:ext cx="657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09680" y="1554120"/>
            <a:ext cx="0" cy="177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39920" y="3352680"/>
            <a:ext cx="70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82920" y="3352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30280" y="3535200"/>
            <a:ext cx="40176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38120" y="3483000"/>
            <a:ext cx="78264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92200" y="4221000"/>
            <a:ext cx="299232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92400" y="3992400"/>
            <a:ext cx="1392120" cy="6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471840" y="2644920"/>
            <a:ext cx="706320" cy="73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16280" y="2697120"/>
            <a:ext cx="70668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7680" y="2849400"/>
            <a:ext cx="173160" cy="169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59280" y="335268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69120" y="335268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02280" y="3535200"/>
            <a:ext cx="20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16480" y="3535200"/>
            <a:ext cx="47808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130880" y="3916440"/>
            <a:ext cx="478080" cy="17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21200" y="480060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291360" y="4321080"/>
            <a:ext cx="1239840" cy="57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013080" y="4525920"/>
            <a:ext cx="1646280" cy="12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40520" y="5943600"/>
            <a:ext cx="32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900840" y="4626000"/>
            <a:ext cx="858960" cy="13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39080" y="1554120"/>
            <a:ext cx="0" cy="238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D5FB-B168-440F-8768-4110FC398F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39116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Herramientas de modelamiento – flujos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57200" y="1600200"/>
            <a:ext cx="8229600" cy="4572000"/>
            <a:chOff x="457200" y="1600200"/>
            <a:chExt cx="8229600" cy="4572000"/>
          </a:xfrm>
        </p:grpSpPr>
        <p:sp>
          <p:nvSpPr>
            <p:cNvPr id="387" name=""/>
            <p:cNvSpPr/>
            <p:nvPr/>
          </p:nvSpPr>
          <p:spPr>
            <a:xfrm>
              <a:off x="469800" y="1611360"/>
              <a:ext cx="8207640" cy="430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9800" y="2038320"/>
              <a:ext cx="8207640" cy="4125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21080" y="16225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58680" y="162252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00560" y="1622520"/>
              <a:ext cx="1381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Descrip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7440" y="232236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76280" y="2049480"/>
              <a:ext cx="303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que agrega valor a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040" y="2289240"/>
              <a:ext cx="352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roceso. Hacer avanzar en forma direct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80240" y="2529000"/>
              <a:ext cx="93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al proceso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6720" y="3162240"/>
              <a:ext cx="116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77360" y="2922480"/>
              <a:ext cx="267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acción que desplaz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75920" y="3162240"/>
              <a:ext cx="290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formación u objetos, incluyendo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80600" y="3402000"/>
              <a:ext cx="84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ersona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8520" y="3778200"/>
              <a:ext cx="1866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Demor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(no programada)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83120" y="377820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tiempo de espera no programado relacionado con personas.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1480" y="4606920"/>
              <a:ext cx="1152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3120" y="442764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cluye inspecciones/controles de calidad  y cantidad, revisiones y autorizacione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7800" y="5110200"/>
              <a:ext cx="125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75920" y="5025960"/>
              <a:ext cx="306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Retraso programado de materiales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77360" y="5265720"/>
              <a:ext cx="164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artes o producto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7440" y="5686560"/>
              <a:ext cx="104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83120" y="559116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operacional innecesario y repetido. Corrige algún problema o error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" y="1600200"/>
              <a:ext cx="1440" cy="457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200" y="1600200"/>
              <a:ext cx="23760" cy="45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386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386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29120" y="1622520"/>
              <a:ext cx="180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2912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630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630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0960" y="16002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0960" y="160020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0960" y="202716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0960" y="202716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0960" y="289872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960" y="289872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0960" y="375444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960" y="375444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960" y="440388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0960" y="440388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0960" y="500364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0960" y="500364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0960" y="55674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0960" y="556740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0960" y="614988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960" y="614988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76760" y="2232000"/>
              <a:ext cx="460440" cy="379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695760" y="3244680"/>
              <a:ext cx="695160" cy="183960"/>
              <a:chOff x="3695760" y="3244680"/>
              <a:chExt cx="695160" cy="183960"/>
            </a:xfrm>
          </p:grpSpPr>
          <p:sp>
            <p:nvSpPr>
              <p:cNvPr id="435" name=""/>
              <p:cNvSpPr/>
              <p:nvPr/>
            </p:nvSpPr>
            <p:spPr>
              <a:xfrm>
                <a:off x="3695760" y="3335040"/>
                <a:ext cx="504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194000" y="3244680"/>
                <a:ext cx="196920" cy="183960"/>
              </a:xfrm>
              <a:custGeom>
                <a:avLst/>
                <a:gdLst/>
                <a:ahLst/>
                <a:rect l="l" t="t" r="r" b="b"/>
                <a:pathLst>
                  <a:path w="124" h="116">
                    <a:moveTo>
                      <a:pt x="0" y="116"/>
                    </a:moveTo>
                    <a:lnTo>
                      <a:pt x="124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816360" y="5108400"/>
              <a:ext cx="534960" cy="385920"/>
            </a:xfrm>
            <a:custGeom>
              <a:avLst/>
              <a:gdLst/>
              <a:ahLst/>
              <a:rect l="l" t="t" r="r" b="b"/>
              <a:pathLst>
                <a:path w="337" h="257">
                  <a:moveTo>
                    <a:pt x="162" y="257"/>
                  </a:moveTo>
                  <a:lnTo>
                    <a:pt x="0" y="0"/>
                  </a:lnTo>
                  <a:lnTo>
                    <a:pt x="337" y="0"/>
                  </a:lnTo>
                  <a:lnTo>
                    <a:pt x="162" y="25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51280" y="5643720"/>
              <a:ext cx="460440" cy="377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06800" y="5646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33640" y="4524480"/>
              <a:ext cx="520920" cy="344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5960" y="3860640"/>
              <a:ext cx="515880" cy="358920"/>
            </a:xfrm>
            <a:custGeom>
              <a:avLst/>
              <a:gdLst/>
              <a:ahLst/>
              <a:rect l="l" t="t" r="r" b="b"/>
              <a:pathLst>
                <a:path w="325" h="226">
                  <a:moveTo>
                    <a:pt x="162" y="0"/>
                  </a:moveTo>
                  <a:lnTo>
                    <a:pt x="196" y="2"/>
                  </a:lnTo>
                  <a:lnTo>
                    <a:pt x="226" y="9"/>
                  </a:lnTo>
                  <a:lnTo>
                    <a:pt x="253" y="20"/>
                  </a:lnTo>
                  <a:lnTo>
                    <a:pt x="278" y="32"/>
                  </a:lnTo>
                  <a:lnTo>
                    <a:pt x="297" y="50"/>
                  </a:lnTo>
                  <a:lnTo>
                    <a:pt x="312" y="68"/>
                  </a:lnTo>
                  <a:lnTo>
                    <a:pt x="321" y="89"/>
                  </a:lnTo>
                  <a:lnTo>
                    <a:pt x="325" y="112"/>
                  </a:lnTo>
                  <a:lnTo>
                    <a:pt x="321" y="135"/>
                  </a:lnTo>
                  <a:lnTo>
                    <a:pt x="312" y="156"/>
                  </a:lnTo>
                  <a:lnTo>
                    <a:pt x="297" y="176"/>
                  </a:lnTo>
                  <a:lnTo>
                    <a:pt x="278" y="194"/>
                  </a:lnTo>
                  <a:lnTo>
                    <a:pt x="253" y="206"/>
                  </a:lnTo>
                  <a:lnTo>
                    <a:pt x="226" y="217"/>
                  </a:lnTo>
                  <a:lnTo>
                    <a:pt x="196" y="224"/>
                  </a:lnTo>
                  <a:lnTo>
                    <a:pt x="162" y="226"/>
                  </a:lnTo>
                  <a:lnTo>
                    <a:pt x="0" y="226"/>
                  </a:lnTo>
                  <a:lnTo>
                    <a:pt x="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C3A4-5057-43E8-90A0-3510B075F3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ólo los pasos de operación agregan valor… el resto es pérdida de tiempo y recur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143000" y="1600200"/>
            <a:ext cx="6934320" cy="4419720"/>
            <a:chOff x="1143000" y="1600200"/>
            <a:chExt cx="6934320" cy="4419720"/>
          </a:xfrm>
        </p:grpSpPr>
        <p:sp>
          <p:nvSpPr>
            <p:cNvPr id="444" name=""/>
            <p:cNvSpPr/>
            <p:nvPr/>
          </p:nvSpPr>
          <p:spPr>
            <a:xfrm>
              <a:off x="1155600" y="1611360"/>
              <a:ext cx="6912000" cy="414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55600" y="2023920"/>
              <a:ext cx="6912000" cy="398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04960" y="162252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16600" y="1622520"/>
              <a:ext cx="90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08880" y="203364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08520" y="287820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08880" y="370512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09240" y="39862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08880" y="433224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09600" y="491184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09240" y="545796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43000" y="1600200"/>
              <a:ext cx="1440" cy="441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43000" y="1600200"/>
              <a:ext cx="27000" cy="441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7028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7028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70000" y="16002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70000" y="16002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0000" y="20131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70000" y="20131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0000" y="2855880"/>
              <a:ext cx="6907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70000" y="285588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70000" y="368316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70000" y="3683160"/>
              <a:ext cx="69073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70000" y="43117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70000" y="43117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70000" y="48895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70000" y="488952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70000" y="543564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70000" y="543564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70000" y="59976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70000" y="59976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73280" y="2200320"/>
              <a:ext cx="500400" cy="365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57640" y="3211560"/>
              <a:ext cx="54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98720" y="3106800"/>
              <a:ext cx="214560" cy="1778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89400" y="4978440"/>
              <a:ext cx="581040" cy="395280"/>
            </a:xfrm>
            <a:custGeom>
              <a:avLst/>
              <a:gdLst/>
              <a:ahLst/>
              <a:rect l="l" t="t" r="r" b="b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19640" y="5510160"/>
              <a:ext cx="500040" cy="36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95680" y="5511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08480" y="4464000"/>
              <a:ext cx="56520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2240" y="3801960"/>
              <a:ext cx="560160" cy="347760"/>
            </a:xfrm>
            <a:custGeom>
              <a:avLst/>
              <a:gdLst/>
              <a:ahLst/>
              <a:rect l="l" t="t" r="r" b="b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90680" y="1622520"/>
              <a:ext cx="82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89640" y="1622520"/>
              <a:ext cx="130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74800" y="22874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02080" y="31240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02080" y="3849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02080" y="4452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02080" y="50148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2080" y="5568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9756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9756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24480" y="1622520"/>
              <a:ext cx="180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24480" y="1622520"/>
              <a:ext cx="2556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5032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50320" y="1622520"/>
              <a:ext cx="270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E093-86CF-4B78-A1C2-F3DB2F903A6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1267920"/>
            <a:ext cx="7772400" cy="4753080"/>
          </a:xfrm>
          <a:prstGeom prst="rect">
            <a:avLst/>
          </a:prstGeom>
          <a:solidFill>
            <a:srgbClr val="f9d29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Arial"/>
              </a:rPr>
              <a:t>ENSAMBLAJE DE MUÑEC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2. Buscar piern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3. Llevar las piernas al lugar de trabajo ( 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4. Colocar las piernas (5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5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6. Buscar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7. Llevar los brazo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8. Colocar los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9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0. Buscar cabez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1. Llevar las cabeza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2. Colocar las cabeza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3. Inspeccionar la calidad del muñec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4. Llevar el muñeco al estante de almacenaje (3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¿Qué sobra aquí…..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B530-C87E-4E17-9DDA-802CD020FF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80880" y="1197000"/>
            <a:ext cx="8458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Señales de alarma para mejorar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lejidad, excepciones, caso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to intercambio de información, captura (recaptura) de datos y redundancia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allas de coordinación o costos de coord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onsistencia hacia el ex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aja utilización de 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troles cerrados y ca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onal con alta carga de trabajo y poc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98EF-80DA-4B0A-92FA-11ECD0433D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ases de un proyecto de rediseñ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1476360"/>
            <a:ext cx="2764080" cy="4924440"/>
          </a:xfrm>
          <a:prstGeom prst="rightArrowCallout">
            <a:avLst>
              <a:gd name="adj1" fmla="val 44544"/>
              <a:gd name="adj2" fmla="val 44540"/>
              <a:gd name="adj3" fmla="val 16667"/>
              <a:gd name="adj4" fmla="val 787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1. DIAGNO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Levanta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detalle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roceso, tal cu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hoy ope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Definición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étrica del Proce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Tablero de Monitore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Medició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dicadores del Tabl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situación inic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Identific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1447920"/>
            <a:ext cx="3324240" cy="4968720"/>
          </a:xfrm>
          <a:prstGeom prst="rightArrowCallout">
            <a:avLst>
              <a:gd name="adj1" fmla="val 32845"/>
              <a:gd name="adj2" fmla="val 36225"/>
              <a:gd name="adj3" fmla="val 15903"/>
              <a:gd name="adj4" fmla="val 788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2. DISEÑ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Rediseño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Procedimiento; Sistem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Roles; Estánd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Espec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resultados verificable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tas para cada indic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l Tablero de Monitore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cluyendo la definició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Implementar Quick Wi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Seguimiento a Quick W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00640" y="1371600"/>
            <a:ext cx="2791080" cy="505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ahoma"/>
              </a:rPr>
              <a:t>. IMPLANT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) Elaboración de Guí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diseño Focalizad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) Form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quipo de impla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abajo de impla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)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pacitación en el nue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) Medición periódic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sultados en Table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f)Reporte mensu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vances mediante Table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903C-089A-4A9D-BBF4-CAB0F648DF0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38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tender Situación Act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71800" y="1295280"/>
            <a:ext cx="17524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7" idx="0"/>
            <a:endCxn id="505" idx="1"/>
          </p:cNvCxnSpPr>
          <p:nvPr/>
        </p:nvCxnSpPr>
        <p:spPr>
          <a:xfrm flipH="1" flipV="1" rot="5400000">
            <a:off x="1904760" y="1370880"/>
            <a:ext cx="686520" cy="1448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-2133720" y="74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746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320" y="2438280"/>
            <a:ext cx="2895480" cy="685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ar la 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5120" y="4724280"/>
            <a:ext cx="259056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lidar y 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7" idx="2"/>
            <a:endCxn id="510" idx="1"/>
          </p:cNvCxnSpPr>
          <p:nvPr/>
        </p:nvCxnSpPr>
        <p:spPr>
          <a:xfrm flipH="1" rot="16200000">
            <a:off x="761040" y="3885840"/>
            <a:ext cx="1905840" cy="3819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10" idx="0"/>
            <a:endCxn id="507" idx="3"/>
          </p:cNvCxnSpPr>
          <p:nvPr/>
        </p:nvCxnSpPr>
        <p:spPr>
          <a:xfrm flipV="1" rot="16200000">
            <a:off x="2113920" y="3637800"/>
            <a:ext cx="1943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13" name=""/>
          <p:cNvGrpSpPr/>
          <p:nvPr/>
        </p:nvGrpSpPr>
        <p:grpSpPr>
          <a:xfrm>
            <a:off x="4876920" y="1447920"/>
            <a:ext cx="4266720" cy="4674600"/>
            <a:chOff x="4876920" y="1447920"/>
            <a:chExt cx="4266720" cy="4674600"/>
          </a:xfrm>
        </p:grpSpPr>
        <p:sp>
          <p:nvSpPr>
            <p:cNvPr id="514" name=""/>
            <p:cNvSpPr/>
            <p:nvPr/>
          </p:nvSpPr>
          <p:spPr>
            <a:xfrm>
              <a:off x="6989400" y="1721160"/>
              <a:ext cx="105372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8360" y="1721160"/>
              <a:ext cx="111600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76920" y="1721160"/>
              <a:ext cx="99144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2336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16600" y="2095920"/>
              <a:ext cx="587160" cy="343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03800" y="2395800"/>
              <a:ext cx="687600" cy="326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47440" y="2920680"/>
              <a:ext cx="69768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91840" y="3550320"/>
              <a:ext cx="34884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56800" y="3723480"/>
              <a:ext cx="34848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SÍ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47800" y="3431520"/>
              <a:ext cx="278640" cy="1980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99400" y="3881520"/>
              <a:ext cx="6973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86680" y="3881520"/>
              <a:ext cx="7675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05720" y="5566680"/>
              <a:ext cx="209160" cy="202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18" idx="3"/>
              <a:endCxn id="519" idx="0"/>
            </p:cNvCxnSpPr>
            <p:nvPr/>
          </p:nvCxnSpPr>
          <p:spPr>
            <a:xfrm>
              <a:off x="5603760" y="2267640"/>
              <a:ext cx="845280" cy="12888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8" name=""/>
            <p:cNvCxnSpPr>
              <a:stCxn id="519" idx="3"/>
              <a:endCxn id="520" idx="0"/>
            </p:cNvCxnSpPr>
            <p:nvPr/>
          </p:nvCxnSpPr>
          <p:spPr>
            <a:xfrm>
              <a:off x="6791400" y="2559960"/>
              <a:ext cx="705240" cy="3614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9" name=""/>
            <p:cNvCxnSpPr>
              <a:stCxn id="523" idx="3"/>
              <a:endCxn id="525" idx="0"/>
            </p:cNvCxnSpPr>
            <p:nvPr/>
          </p:nvCxnSpPr>
          <p:spPr>
            <a:xfrm>
              <a:off x="6526800" y="3531600"/>
              <a:ext cx="1044720" cy="3506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0" name=""/>
            <p:cNvCxnSpPr>
              <a:stCxn id="531" idx="2"/>
              <a:endCxn id="526" idx="0"/>
            </p:cNvCxnSpPr>
            <p:nvPr/>
          </p:nvCxnSpPr>
          <p:spPr>
            <a:xfrm flipH="1">
              <a:off x="8610120" y="5202000"/>
              <a:ext cx="15840" cy="3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2" name=""/>
            <p:cNvCxnSpPr>
              <a:stCxn id="523" idx="1"/>
              <a:endCxn id="524" idx="1"/>
            </p:cNvCxnSpPr>
            <p:nvPr/>
          </p:nvCxnSpPr>
          <p:spPr>
            <a:xfrm flipV="1" rot="10800000">
              <a:off x="5998680" y="3530520"/>
              <a:ext cx="249120" cy="515880"/>
            </a:xfrm>
            <a:prstGeom prst="bentConnector3">
              <a:avLst>
                <a:gd name="adj1" fmla="val 184081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3" name=""/>
            <p:cNvSpPr/>
            <p:nvPr/>
          </p:nvSpPr>
          <p:spPr>
            <a:xfrm>
              <a:off x="8043480" y="1721160"/>
              <a:ext cx="110016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4" name=""/>
            <p:cNvCxnSpPr>
              <a:stCxn id="520" idx="1"/>
              <a:endCxn id="523" idx="0"/>
            </p:cNvCxnSpPr>
            <p:nvPr/>
          </p:nvCxnSpPr>
          <p:spPr>
            <a:xfrm flipV="1" rot="10800000">
              <a:off x="6386760" y="3085200"/>
              <a:ext cx="760680" cy="345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5" name=""/>
            <p:cNvSpPr/>
            <p:nvPr/>
          </p:nvSpPr>
          <p:spPr>
            <a:xfrm>
              <a:off x="59119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9400" y="4493520"/>
              <a:ext cx="729360" cy="39960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rebuchet MS"/>
                </a:rPr>
                <a:t>Documento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25" idx="3"/>
              <a:endCxn id="531" idx="0"/>
            </p:cNvCxnSpPr>
            <p:nvPr/>
          </p:nvCxnSpPr>
          <p:spPr>
            <a:xfrm>
              <a:off x="7954200" y="4046400"/>
              <a:ext cx="672120" cy="82692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1" name=""/>
            <p:cNvSpPr/>
            <p:nvPr/>
          </p:nvSpPr>
          <p:spPr>
            <a:xfrm>
              <a:off x="8242560" y="4872960"/>
              <a:ext cx="76716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28640" y="1447920"/>
              <a:ext cx="9810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9160" y="4210920"/>
              <a:ext cx="1080" cy="28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0" name=""/>
            <p:cNvCxnSpPr>
              <a:endCxn id="531" idx="1"/>
            </p:cNvCxnSpPr>
            <p:nvPr/>
          </p:nvCxnSpPr>
          <p:spPr>
            <a:xfrm>
              <a:off x="6724800" y="4640040"/>
              <a:ext cx="1518480" cy="398520"/>
            </a:xfrm>
            <a:prstGeom prst="bentConnector3">
              <a:avLst>
                <a:gd name="adj1" fmla="val 49988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1" name=""/>
            <p:cNvSpPr/>
            <p:nvPr/>
          </p:nvSpPr>
          <p:spPr>
            <a:xfrm>
              <a:off x="80881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19000" y="187272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72120" y="1721160"/>
              <a:ext cx="278640" cy="198000"/>
            </a:xfrm>
            <a:prstGeom prst="flowChartConnector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089240" y="5526000"/>
            <a:ext cx="4028760" cy="1258920"/>
            <a:chOff x="4089240" y="5526000"/>
            <a:chExt cx="4028760" cy="1258920"/>
          </a:xfrm>
        </p:grpSpPr>
        <p:sp>
          <p:nvSpPr>
            <p:cNvPr id="546" name=""/>
            <p:cNvSpPr/>
            <p:nvPr/>
          </p:nvSpPr>
          <p:spPr>
            <a:xfrm>
              <a:off x="4096440" y="5528880"/>
              <a:ext cx="4016160" cy="115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96440" y="5644080"/>
              <a:ext cx="4016160" cy="111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16480" y="553212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92000" y="553212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27400" y="56466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27760" y="588168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27400" y="611352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28480" y="619128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26320" y="628812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27040" y="644832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27760" y="6600960"/>
              <a:ext cx="44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9240" y="5526000"/>
              <a:ext cx="720" cy="123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89240" y="5526000"/>
              <a:ext cx="15480" cy="123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9256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9256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4720" y="552600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04720" y="552600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04720" y="5640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04720" y="56408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04720" y="58759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04720" y="58759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04720" y="61063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04720" y="61063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04720" y="62816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04720" y="62816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04720" y="644256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04720" y="644256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04720" y="6594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04720" y="65948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04720" y="67514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04720" y="67514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43200" y="5693040"/>
              <a:ext cx="290520" cy="10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17920" y="5974920"/>
              <a:ext cx="3178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32200" y="5945760"/>
              <a:ext cx="124560" cy="4932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94240" y="6467400"/>
              <a:ext cx="337320" cy="110160"/>
            </a:xfrm>
            <a:custGeom>
              <a:avLst/>
              <a:gdLst/>
              <a:ahLst/>
              <a:rect l="l" t="t" r="r" b="b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11880" y="6615360"/>
              <a:ext cx="290520" cy="10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14120" y="66164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05400" y="6324120"/>
              <a:ext cx="328320" cy="9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19080" y="6139440"/>
              <a:ext cx="325440" cy="96840"/>
            </a:xfrm>
            <a:custGeom>
              <a:avLst/>
              <a:gdLst/>
              <a:ahLst/>
              <a:rect l="l" t="t" r="r" b="b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23760" y="553212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37000" y="553212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47680" y="5717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51360" y="5951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1360" y="615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1360" y="6321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51360" y="6477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1360" y="6632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624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9624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999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99920" y="5532120"/>
              <a:ext cx="1476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025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102520" y="5532120"/>
              <a:ext cx="1548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 flipV="1">
            <a:off x="5106960" y="4723920"/>
            <a:ext cx="6516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092560" y="5202000"/>
            <a:ext cx="1540080" cy="32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18280" y="5029200"/>
            <a:ext cx="4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FEAD-24EB-48B4-A369-189E5DDD364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11280" y="260280"/>
            <a:ext cx="488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diseñ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8760" y="1371600"/>
            <a:ext cx="243828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tablecer dirección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06680" y="2895480"/>
            <a:ext cx="335268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señar un nuevo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603" idx="2"/>
            <a:endCxn id="604" idx="1"/>
          </p:cNvCxnSpPr>
          <p:nvPr/>
        </p:nvCxnSpPr>
        <p:spPr>
          <a:xfrm flipH="1" rot="16200000">
            <a:off x="1110240" y="2704680"/>
            <a:ext cx="7628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604" idx="0"/>
            <a:endCxn id="603" idx="3"/>
          </p:cNvCxnSpPr>
          <p:nvPr/>
        </p:nvCxnSpPr>
        <p:spPr>
          <a:xfrm flipV="1" rot="16200000">
            <a:off x="2444040" y="20566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3740040" y="40384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delar y evaluar re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26040" y="5105520"/>
            <a:ext cx="3048120" cy="60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etallar y probar re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4" idx="2"/>
            <a:endCxn id="607" idx="1"/>
          </p:cNvCxnSpPr>
          <p:nvPr/>
        </p:nvCxnSpPr>
        <p:spPr>
          <a:xfrm flipH="1" rot="16200000">
            <a:off x="3092400" y="3695400"/>
            <a:ext cx="83880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"/>
          <p:cNvCxnSpPr>
            <a:stCxn id="607" idx="2"/>
            <a:endCxn id="608" idx="1"/>
          </p:cNvCxnSpPr>
          <p:nvPr/>
        </p:nvCxnSpPr>
        <p:spPr>
          <a:xfrm flipH="1" rot="16200000">
            <a:off x="5320440" y="4705200"/>
            <a:ext cx="762480" cy="648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0" y="260280"/>
            <a:ext cx="990720" cy="99072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DF7A-DC47-4011-ABC8-A5C83C62B2D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s una secuencia y encadenamiento de pasos, operaciones o transformaciones relacionadas a un conjunto específico de insumos o actividades que intentan producir un resultado, ya sea un producto o la prestación de un servici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a transformación se define claramente por la arquitectura de proceso, que incorpora 5 elemento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ntradas y Salidas (inputs o output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idades de flu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a red de actividades y almacenes (buffer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Recursos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structura de inform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B303-D576-42B3-A612-569B27B666E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¿Cómo hago el rediseño de los procesos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3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 esto no hay recetas, pero si algunas orientaciones básicas que sirven para conducir el cambio en los proceso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da una de estas posibilidades debe analizarse en función del proceso que se quiere rediseñar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nceptos útil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Desperdicio: errores en la ejecución; retrabajos; etc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ctividad que No Agrega Valor: representa las actividades que están demás, que impiden el avance ágil del proceso, sólo agrega costos y tiemp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Lo central en el rediseño es identificar y eliminar el desperdicio y actividades que no agregan valor en los proceso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AE43-4911-4888-A40A-18801715AB8B}" type="slidenum">
              <a:t>2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131400"/>
            <a:ext cx="79992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recciones de cambio posib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8040" y="1312560"/>
            <a:ext cx="8066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liminar y/o reducir desperdic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Simplificar, simplificar, simplific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mbinar pasos de proce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rear rutas altern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Trabajar en paralelo, no en lín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sminuir la VARI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ptar la información en el ori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r la coordinación y comunicación entre grupos de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tecnologí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2096-D881-4015-83BC-1DFD416FE12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2169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os procesos no solo generan resultados deseados, también producen desperdici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840888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obreprod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Tiempos de esper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coria o material de desech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transpor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procesamien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ventar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perdicio de movimient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ductos defectuo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clam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50920" y="0"/>
            <a:ext cx="6931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ndo la coordinación y comunicación entre grupos de trabajo a través de las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00720" y="4797360"/>
            <a:ext cx="2590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OTRAS ORGAN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Utilizando tecnología: Internet, Call Center, Work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760" y="3716280"/>
            <a:ext cx="36576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INTERN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HORIZONT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 el mismo nivel)</a:t>
            </a: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 Y VERTIC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tre dueños y subordin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Workflow –Direcciona automáticamente documentos en rutas predefinidas respetando secuencia y pre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Groupware: Apoya grupos de trabajo que deben compartir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05480" y="1447920"/>
            <a:ext cx="33526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 LOS CLIENTES EX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Reclamos y suger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articipación activa en el diseño de procesos y produ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ermitir que el cliente tenga acceso a más información para que pueda tomar decis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267080" y="5486400"/>
            <a:ext cx="1898640" cy="984240"/>
            <a:chOff x="4267080" y="5486400"/>
            <a:chExt cx="1898640" cy="984240"/>
          </a:xfrm>
        </p:grpSpPr>
        <p:sp>
          <p:nvSpPr>
            <p:cNvPr id="625" name=""/>
            <p:cNvSpPr/>
            <p:nvPr/>
          </p:nvSpPr>
          <p:spPr>
            <a:xfrm>
              <a:off x="4267080" y="5486400"/>
              <a:ext cx="1898640" cy="9842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6" name=""/>
            <p:cNvGraphicFramePr/>
            <p:nvPr/>
          </p:nvGraphicFramePr>
          <p:xfrm>
            <a:off x="4426200" y="5679720"/>
            <a:ext cx="59940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6200" y="5679720"/>
                      <a:ext cx="59940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8" name=""/>
            <p:cNvGraphicFramePr/>
            <p:nvPr/>
          </p:nvGraphicFramePr>
          <p:xfrm>
            <a:off x="5080320" y="5679720"/>
            <a:ext cx="871920" cy="56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80320" y="5679720"/>
                      <a:ext cx="871920" cy="56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0" name=""/>
          <p:cNvSpPr/>
          <p:nvPr/>
        </p:nvSpPr>
        <p:spPr>
          <a:xfrm>
            <a:off x="2438280" y="2286000"/>
            <a:ext cx="2743200" cy="320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2209680"/>
            <a:ext cx="3124440" cy="182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09480" y="1447920"/>
            <a:ext cx="1892520" cy="1143000"/>
            <a:chOff x="609480" y="1447920"/>
            <a:chExt cx="1892520" cy="1143000"/>
          </a:xfrm>
        </p:grpSpPr>
        <p:sp>
          <p:nvSpPr>
            <p:cNvPr id="633" name=""/>
            <p:cNvSpPr/>
            <p:nvPr/>
          </p:nvSpPr>
          <p:spPr>
            <a:xfrm flipV="1">
              <a:off x="1476360" y="1687320"/>
              <a:ext cx="11700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9480" y="1447920"/>
              <a:ext cx="1892520" cy="1143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35320" y="1571040"/>
              <a:ext cx="32328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576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7008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2404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3732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898560" y="1686960"/>
              <a:ext cx="57096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65440" y="1694160"/>
              <a:ext cx="756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1427760" y="1694160"/>
              <a:ext cx="17172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65440" y="1694160"/>
              <a:ext cx="40572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2240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7636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30680" y="2019240"/>
              <a:ext cx="1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11480" y="2351160"/>
              <a:ext cx="199440" cy="116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98560" y="2063880"/>
              <a:ext cx="40572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0320" y="2063880"/>
              <a:ext cx="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476360" y="2057040"/>
              <a:ext cx="32328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559160" y="2056680"/>
              <a:ext cx="694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476360" y="1687320"/>
              <a:ext cx="19944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334120" y="3892680"/>
            <a:ext cx="1746000" cy="831600"/>
            <a:chOff x="5334120" y="3892680"/>
            <a:chExt cx="1746000" cy="831600"/>
          </a:xfrm>
        </p:grpSpPr>
        <p:sp>
          <p:nvSpPr>
            <p:cNvPr id="654" name=""/>
            <p:cNvSpPr/>
            <p:nvPr/>
          </p:nvSpPr>
          <p:spPr>
            <a:xfrm>
              <a:off x="5334120" y="3892680"/>
              <a:ext cx="1746000" cy="831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5" name=""/>
            <p:cNvGraphicFramePr/>
            <p:nvPr/>
          </p:nvGraphicFramePr>
          <p:xfrm>
            <a:off x="5712120" y="3931560"/>
            <a:ext cx="917280" cy="72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2120" y="3931560"/>
                      <a:ext cx="91728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2CA7-64AC-48BD-BFC9-6D1F3A3BD3E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0880" y="573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5735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la tecnología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608040" y="2284560"/>
          <a:ext cx="45720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2845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760320" y="2513160"/>
          <a:ext cx="45720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25131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912960" y="2741760"/>
          <a:ext cx="457200" cy="47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7417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3198960" y="2519280"/>
          <a:ext cx="45720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8960" y="251928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8075520" y="2665440"/>
          <a:ext cx="45720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5520" y="266544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8151840" y="2513160"/>
          <a:ext cx="45720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51840" y="251316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8304120" y="2360520"/>
          <a:ext cx="457200" cy="55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04120" y="2360520"/>
                    <a:ext cx="457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739800" y="1371600"/>
            <a:ext cx="459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Proces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16120" y="3627360"/>
            <a:ext cx="451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Proceso automat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5332320" y="2595600"/>
          <a:ext cx="457200" cy="5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2320" y="259560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760320" y="2436840"/>
          <a:ext cx="45720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0320" y="24368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912960" y="2665440"/>
          <a:ext cx="45720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2960" y="26654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4341960" y="5354640"/>
          <a:ext cx="4572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1960" y="535464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4417920" y="5506920"/>
          <a:ext cx="4572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7920" y="550692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4570560" y="5659560"/>
          <a:ext cx="45720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570560" y="5659560"/>
                    <a:ext cx="457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>
            <a:off x="3586320" y="573552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28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2057400" y="2022480"/>
          <a:ext cx="1066680" cy="1252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57400" y="202248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2900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186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43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326200" y="5735520"/>
            <a:ext cx="69840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982760" y="5056200"/>
            <a:ext cx="50760" cy="353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79520" y="6192720"/>
            <a:ext cx="165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038480" y="2001960"/>
          <a:ext cx="1067040" cy="1252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38480" y="2001960"/>
                    <a:ext cx="10670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6324480" y="2077920"/>
          <a:ext cx="1067040" cy="1252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24480" y="20779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4495680" y="3678120"/>
          <a:ext cx="1067040" cy="125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495680" y="36781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6019920" y="4821120"/>
          <a:ext cx="1066680" cy="1252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4821120"/>
                    <a:ext cx="106668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2514600" y="4897440"/>
          <a:ext cx="1066680" cy="1252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514600" y="489744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25A4-3324-463C-8D57-D48370AD117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73280" y="1268280"/>
            <a:ext cx="7432560" cy="243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Ingreso de información por parte del clien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4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Fiscalización basada en Intern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Dejar que el cliente tenga acceso a más información y pueda decidi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utoservic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trol del proceso por parte del client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EEA8-128B-456E-96D5-509D4A5CF49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0080" y="291960"/>
            <a:ext cx="49626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90720" y="1828800"/>
            <a:ext cx="281916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iseñar el plan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19520" y="3352680"/>
            <a:ext cx="335268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2" idx="2"/>
            <a:endCxn id="713" idx="1"/>
          </p:cNvCxnSpPr>
          <p:nvPr/>
        </p:nvCxnSpPr>
        <p:spPr>
          <a:xfrm flipH="1" rot="16200000">
            <a:off x="2209680" y="3085560"/>
            <a:ext cx="80100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713" idx="0"/>
            <a:endCxn id="712" idx="3"/>
          </p:cNvCxnSpPr>
          <p:nvPr/>
        </p:nvCxnSpPr>
        <p:spPr>
          <a:xfrm flipV="1" rot="16200000">
            <a:off x="3656880" y="25138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6" name=""/>
          <p:cNvSpPr/>
          <p:nvPr/>
        </p:nvSpPr>
        <p:spPr>
          <a:xfrm>
            <a:off x="4952880" y="44956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y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7" name=""/>
          <p:cNvCxnSpPr>
            <a:stCxn id="713" idx="2"/>
            <a:endCxn id="716" idx="1"/>
          </p:cNvCxnSpPr>
          <p:nvPr/>
        </p:nvCxnSpPr>
        <p:spPr>
          <a:xfrm flipH="1" rot="16200000">
            <a:off x="4343040" y="4190400"/>
            <a:ext cx="76284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716" idx="0"/>
            <a:endCxn id="713" idx="3"/>
          </p:cNvCxnSpPr>
          <p:nvPr/>
        </p:nvCxnSpPr>
        <p:spPr>
          <a:xfrm flipV="1" rot="16200000">
            <a:off x="5981400" y="3885480"/>
            <a:ext cx="80064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81B8-5AB5-4B09-BA8A-2D8C1483FB5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a implementación es clave en el éxito de un rediseñ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6324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No sirve un cuidadoso proceso previo si no se hace una muy buena implementación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sideracion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xplicar los alcances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apacit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segurar los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dios y tecnologías de apoy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dministración de proyecto y del camb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Preocupación por los deta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Transi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poyo gerencia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562720" y="3962520"/>
            <a:ext cx="3581280" cy="236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quemas de implement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l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archa bla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al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lt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mplantación gr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029B-7F6F-4038-B188-A8558A183AB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3" name=""/>
          <p:cNvGraphicFramePr/>
          <p:nvPr/>
        </p:nvGraphicFramePr>
        <p:xfrm>
          <a:off x="76320" y="57240"/>
          <a:ext cx="906768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7240"/>
                    <a:ext cx="906768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4211640" y="57240"/>
            <a:ext cx="367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diseño de Cobranza en Tesorería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2CAD-CCC4-4AA9-A60D-EDDDEFA36B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181080" y="550800"/>
            <a:ext cx="718920" cy="646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87280" y="0"/>
            <a:ext cx="720108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00000" y="457200"/>
            <a:ext cx="8015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699"/>
                </a:solidFill>
                <a:latin typeface="Century Gothic"/>
              </a:rPr>
              <a:t>Incremento en la Recaudación Por Acciones de Cobranza (Año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0560" y="6629400"/>
            <a:ext cx="610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* Tipo de cambio Nominal promedio anual del dólar observado. Fuente Banco Central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4514760" cy="20397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1905120" y="1295280"/>
            <a:ext cx="5486400" cy="320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A527-2D1E-4A0D-8551-46DA601157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24440" y="1079640"/>
            <a:ext cx="1206360" cy="5205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4040" y="2070000"/>
            <a:ext cx="97776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3000" y="2070000"/>
            <a:ext cx="12067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4600" y="2070000"/>
            <a:ext cx="9781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39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055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00800" y="2070000"/>
            <a:ext cx="105408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7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9072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2444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3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85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184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812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46609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144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90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42037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13280" y="114444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1720" y="2233440"/>
            <a:ext cx="80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icial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7280" y="2233440"/>
            <a:ext cx="114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g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71000" y="2233440"/>
            <a:ext cx="112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08120" y="2233440"/>
            <a:ext cx="81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at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35000" y="2081160"/>
            <a:ext cx="94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udad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447920"/>
            <a:ext cx="0" cy="3682800"/>
          </a:xfrm>
          <a:prstGeom prst="line">
            <a:avLst/>
          </a:prstGeom>
          <a:ln w="507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1371600"/>
            <a:ext cx="0" cy="37591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4080" y="5270400"/>
            <a:ext cx="1802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 información fluy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cia arri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27560" y="5346720"/>
            <a:ext cx="2549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s Políticas y Desiciones s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plegadas hacia abaj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81240" y="1835280"/>
            <a:ext cx="66164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4920" y="297828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5320" y="2978280"/>
            <a:ext cx="825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9040" y="2978280"/>
            <a:ext cx="9777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1240" y="3968640"/>
            <a:ext cx="1968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53040" y="442584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7440" y="16128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747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041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463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568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609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325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984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08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88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37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3256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23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7476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5584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65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46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624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89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336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37280" y="2679840"/>
            <a:ext cx="0" cy="5205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1344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65480" y="3670200"/>
            <a:ext cx="0" cy="292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548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89560" y="3670200"/>
            <a:ext cx="0" cy="749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06720" y="223344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0520" y="927000"/>
            <a:ext cx="8521560" cy="516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B22C-023D-4F8F-B2BD-91966BE5F9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miento de Productividad, Rediseño de Procesos de Servipa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7027920" y="6400800"/>
            <a:ext cx="102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d9e1d5"/>
                </a:solidFill>
                <a:uFillTx/>
                <a:latin typeface="Times New Roman"/>
                <a:hlinkClick r:id="rId2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0B1D-1863-4213-A74F-30B6F90B61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S FUTURO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o trabajan las organizaciones orientadas a los proces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7240" y="16066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75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019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163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30760" y="252108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214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358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74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89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6680" y="450216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72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354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93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95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8680" y="48830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724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796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844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210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456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8440" y="2286000"/>
            <a:ext cx="46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9840" y="32767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5444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25440" y="42670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25840" y="464832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2063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1040" y="1454040"/>
            <a:ext cx="8521920" cy="471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89268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0236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7760" y="42735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28320" y="5423040"/>
            <a:ext cx="30481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 eventos suceden horizontalm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06840" y="5867280"/>
            <a:ext cx="19303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360" y="351144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800" y="3629160"/>
            <a:ext cx="114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70800" y="244476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56920" y="2562120"/>
            <a:ext cx="85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5760" y="3811680"/>
            <a:ext cx="5587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09680" y="2812680"/>
            <a:ext cx="0" cy="1041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62280" y="2813040"/>
            <a:ext cx="0" cy="16257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52560" y="4398840"/>
            <a:ext cx="15494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87960" y="2803680"/>
            <a:ext cx="0" cy="1625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95920" y="2809800"/>
            <a:ext cx="0" cy="1470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86560" y="4246560"/>
            <a:ext cx="139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086600" y="2774520"/>
            <a:ext cx="0" cy="14986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59600" y="2752560"/>
            <a:ext cx="534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0320" y="283860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0960" y="2809800"/>
            <a:ext cx="1447560" cy="9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5034-E241-4D98-A2A9-1A2EDF6013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5378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26588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¿Qué es un proceso?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21280" y="2276640"/>
            <a:ext cx="1511280" cy="977760"/>
          </a:xfrm>
          <a:prstGeom prst="rect">
            <a:avLst/>
          </a:prstGeom>
          <a:gradFill rotWithShape="0">
            <a:gsLst>
              <a:gs pos="0">
                <a:srgbClr val="4d71c9"/>
              </a:gs>
              <a:gs pos="50000">
                <a:srgbClr val="618ffd"/>
              </a:gs>
              <a:gs pos="100000">
                <a:srgbClr val="4d71c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2878200"/>
            <a:ext cx="1962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265104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0" y="2249640"/>
            <a:ext cx="1385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(Insu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657760" y="2801520"/>
            <a:ext cx="18097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94480" y="2249640"/>
            <a:ext cx="1604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(Produ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81760" y="1125360"/>
            <a:ext cx="240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troal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192400"/>
            <a:ext cx="1968480" cy="1434960"/>
          </a:xfrm>
          <a:prstGeom prst="ellipse">
            <a:avLst/>
          </a:prstGeom>
          <a:gradFill rotWithShape="0">
            <a:gsLst>
              <a:gs pos="0">
                <a:srgbClr val="ab8449"/>
              </a:gs>
              <a:gs pos="50000">
                <a:srgbClr val="f6bf69"/>
              </a:gs>
              <a:gs pos="100000">
                <a:srgbClr val="ab844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tern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73960" y="2124000"/>
            <a:ext cx="1587600" cy="1435320"/>
          </a:xfrm>
          <a:prstGeom prst="ellipse">
            <a:avLst/>
          </a:prstGeom>
          <a:gradFill rotWithShape="0">
            <a:gsLst>
              <a:gs pos="0">
                <a:srgbClr val="ab8449"/>
              </a:gs>
              <a:gs pos="50000">
                <a:srgbClr val="f6bf69"/>
              </a:gs>
              <a:gs pos="100000">
                <a:srgbClr val="ab844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tern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43080" y="1511280"/>
            <a:ext cx="3419640" cy="12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75" y="0"/>
                </a:moveTo>
                <a:arcTo wR="10800" hR="10800" stAng="-5376206" swAng="5376206"/>
                <a:lnTo>
                  <a:pt x="10800" y="10800"/>
                </a:lnTo>
                <a:close/>
              </a:path>
              <a:path fill="none" w="21600" h="21600">
                <a:moveTo>
                  <a:pt x="10875" y="0"/>
                </a:moveTo>
                <a:arcTo wR="10800" hR="10800" stAng="-5376206" swAng="5376206"/>
              </a:path>
            </a:pathLst>
          </a:custGeom>
          <a:noFill/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62600" y="1511280"/>
            <a:ext cx="3120840" cy="137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942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94200"/>
              </a:path>
            </a:pathLst>
          </a:custGeom>
          <a:noFill/>
          <a:ln cap="rnd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27160" y="4325760"/>
            <a:ext cx="547920" cy="55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32280" y="4311720"/>
            <a:ext cx="549000" cy="631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55960" y="4325760"/>
            <a:ext cx="547920" cy="5558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86400" y="4325760"/>
            <a:ext cx="549000" cy="5558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18280" y="4311720"/>
            <a:ext cx="549000" cy="631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32680" y="4311720"/>
            <a:ext cx="54900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47080" y="4311720"/>
            <a:ext cx="549000" cy="7221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81280" y="4672080"/>
            <a:ext cx="18252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03880" y="4672080"/>
            <a:ext cx="9180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135400" y="4672080"/>
            <a:ext cx="9216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867280" y="4672080"/>
            <a:ext cx="274680" cy="921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672080"/>
            <a:ext cx="2746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507000" y="495144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300400" y="495144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35000" y="5419800"/>
            <a:ext cx="103680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95680" y="4951080"/>
            <a:ext cx="109692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495680" y="4951080"/>
            <a:ext cx="36540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129200" y="4951080"/>
            <a:ext cx="36648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607000"/>
            <a:ext cx="2133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actividades de transformación que crean (o no)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5419800"/>
            <a:ext cx="97488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29600" y="5046840"/>
            <a:ext cx="1204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Valor cr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0120" y="5530680"/>
            <a:ext cx="0" cy="100512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569960" y="4727520"/>
            <a:ext cx="0" cy="1736640"/>
          </a:xfrm>
          <a:prstGeom prst="line">
            <a:avLst/>
          </a:prstGeom>
          <a:ln cap="rnd" w="2844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69960" y="4727520"/>
            <a:ext cx="273240" cy="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6521400"/>
            <a:ext cx="6019920" cy="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4692600"/>
            <a:ext cx="3045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276720" y="4920840"/>
            <a:ext cx="121896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381200" y="1315440"/>
            <a:ext cx="609480" cy="4953240"/>
          </a:xfrm>
          <a:custGeom>
            <a:avLst/>
            <a:gdLst>
              <a:gd name="textAreaLeft" fmla="*/ 389520 w 609480"/>
              <a:gd name="textAreaRight" fmla="*/ 609840 w 60948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0" r="0" b="24749"/>
          <a:stretch/>
        </p:blipFill>
        <p:spPr>
          <a:xfrm>
            <a:off x="7272360" y="189000"/>
            <a:ext cx="1547640" cy="47772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273" name="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tributos de un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4187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st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 total incurrido en producir y entregar salidas (output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emp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iempo total que se necesita para transformar una unidad de entrada (input) a una unidad de salida (outpu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409640" y="1267920"/>
            <a:ext cx="442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lexibi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una variedad de producto/servicio deseada. Relacionado con la flexibilidad de sus recurso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a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productos de calidad. Se incluye la exactitud, fiabilidad y mantenimient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062F-1DA9-4AF7-8E2C-0E3AC7E876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66"/>
                </a:solidFill>
                <a:latin typeface="Arial"/>
              </a:rPr>
              <a:t>Mape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31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66"/>
                </a:solidFill>
                <a:latin typeface="Arial"/>
              </a:rPr>
              <a:t>Es de gran utilidad identificar las fronteras de los procesos a través de un MAPA, por ejemplo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se inicia con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termina con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incluye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excluye (en referencia a procesos adjun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ara rediseñar los procesos es importante el poder representarlos a través d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Flujogra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iagram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Mapa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escripcion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F7C4-6D8E-449F-A693-8E668C068F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jemplo: Solicitud Crédito Hipotecar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135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Una persona requiere financiar la compra de su vivienda, para lo cual se acerca al Banco y solicita su crédito hipotecari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solicita una serie de antecedentes de renta y de la vivienda a comprar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Se realiza la Tasación, Estudio de Títulos e Historia Crediticia, para en ese momento hacer la solicitud de crédi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presenta la solicitud al Comité, el cual aprueba o no dicha solicitud, estableciendo las condiciones de otorgamien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Banco procede a generar la escritura (en conjunto con quien vende la vivienda) y realiza la inscripción en el Conservador de Bienes Raíces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Luego, se comunica al comprador que se acerque al Banco para cerrar la operación, entregando el dinero al vendedor y la escritura al comprador.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2CBC-42BF-4C0E-A422-B4BD22F2C9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145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egun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4160" y="1458720"/>
            <a:ext cx="73357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Cliente?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Producto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Ejecutor (es)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Qué se hace en cada etapa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Hay medidas de tiempos involucrado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686E-0383-4248-AF05-154785DA6C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Analía Medrano</dc:creator>
  <dc:description/>
  <dc:language>en-US</dc:language>
  <cp:lastModifiedBy> </cp:lastModifiedBy>
  <cp:lastPrinted>2002-12-20T00:24:57Z</cp:lastPrinted>
  <dcterms:modified xsi:type="dcterms:W3CDTF">2008-07-26T21:09:59Z</dcterms:modified>
  <cp:revision>1033</cp:revision>
  <dc:subject>versión 9 de Abril de 2004</dc:subject>
  <dc:title>Material BID OA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6365710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EntryID">
    <vt:lpwstr>000000007F2EF3D47D697843BE6559C4891B7D1344543500</vt:lpwstr>
  </property>
  <property fmtid="{D5CDD505-2E9C-101B-9397-08002B2CF9AE}" pid="6" name="_EmailStoreID">
    <vt:lpwstr>0000000038A1BB1005E5101AA1BB08002B2A56C20000454D534D44422E444C4C00000000000000001B55FA20AA6611CD9BC800AA002FC45A0C0000004D41494C002F6F3D496E766572746563204947542F6F753D494E5645525445435F4947542F636E3D526563697069656E74732F636E3D656865726E616E64657A00</vt:lpwstr>
  </property>
  <property fmtid="{D5CDD505-2E9C-101B-9397-08002B2CF9AE}" pid="7" name="_EmailSubject">
    <vt:lpwstr>Rediseño de Procesos MGPP.ppt</vt:lpwstr>
  </property>
  <property fmtid="{D5CDD505-2E9C-101B-9397-08002B2CF9AE}" pid="8" name="_PreviousAdHocReviewCycleID">
    <vt:r8>1320568217</vt:r8>
  </property>
  <property fmtid="{D5CDD505-2E9C-101B-9397-08002B2CF9AE}" pid="9" name="_ReviewCycleID">
    <vt:r8>2143798465</vt:r8>
  </property>
  <property fmtid="{D5CDD505-2E9C-101B-9397-08002B2CF9AE}" pid="10" name="_ReviewingToolsShownOnce">
    <vt:lpwstr/>
  </property>
</Properties>
</file>