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9.wmf" ContentType="image/x-wmf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8.bin" ContentType="application/vnd.openxmlformats-officedocument.oleObject"/>
  <Override PartName="/ppt/embeddings/oleObject4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77400"/>
            <a:ext cx="2971800" cy="29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3885840" y="77400"/>
            <a:ext cx="2971800" cy="29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5785920"/>
            <a:ext cx="5029200" cy="122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-360" y="8843760"/>
            <a:ext cx="2971800" cy="29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3885840" y="8843760"/>
            <a:ext cx="2971800" cy="29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2DEAC-CDA8-4749-90EB-6A848B6BDEB2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 txBox="1"/>
          <p:nvPr/>
        </p:nvSpPr>
        <p:spPr>
          <a:xfrm>
            <a:off x="3885840" y="8843760"/>
            <a:ext cx="2971800" cy="29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22BAB-E8CC-40C3-A4D0-26FC9EA2C3AC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6170400"/>
            <a:ext cx="5486400" cy="45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 txBox="1"/>
          <p:nvPr/>
        </p:nvSpPr>
        <p:spPr>
          <a:xfrm>
            <a:off x="3885840" y="8843760"/>
            <a:ext cx="2971800" cy="29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1D6B7-9875-431A-B123-7B4F4FF83793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914400" y="6041880"/>
            <a:ext cx="5029200" cy="45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 txBox="1"/>
          <p:nvPr/>
        </p:nvSpPr>
        <p:spPr>
          <a:xfrm>
            <a:off x="3885840" y="8843760"/>
            <a:ext cx="2971800" cy="29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54BD9-6725-4164-A738-E331278767DD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6170400"/>
            <a:ext cx="5486400" cy="45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 txBox="1"/>
          <p:nvPr/>
        </p:nvSpPr>
        <p:spPr>
          <a:xfrm>
            <a:off x="3885840" y="8843760"/>
            <a:ext cx="2971800" cy="29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692C2-CC6F-4665-9E87-E7A293639C8A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CL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 txBox="1"/>
          <p:nvPr/>
        </p:nvSpPr>
        <p:spPr>
          <a:xfrm>
            <a:off x="3885840" y="8843760"/>
            <a:ext cx="2971800" cy="29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1182B-13B0-43B6-9D7E-3D91733EC0D0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CL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 txBox="1"/>
          <p:nvPr/>
        </p:nvSpPr>
        <p:spPr>
          <a:xfrm>
            <a:off x="3885840" y="8843760"/>
            <a:ext cx="2971800" cy="29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A3165-6808-4C4B-A699-9E78561A7B8D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CL" sz="1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 txBox="1"/>
          <p:nvPr/>
        </p:nvSpPr>
        <p:spPr>
          <a:xfrm>
            <a:off x="3885840" y="8843760"/>
            <a:ext cx="2971800" cy="29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87589-3B6C-4F12-965B-53EF84FBDC65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6170400"/>
            <a:ext cx="5486400" cy="45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 txBox="1"/>
          <p:nvPr/>
        </p:nvSpPr>
        <p:spPr>
          <a:xfrm>
            <a:off x="3885840" y="8843760"/>
            <a:ext cx="2971800" cy="29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99707-E4B3-468F-B187-4632A8EA70BA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CL" sz="1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 txBox="1"/>
          <p:nvPr/>
        </p:nvSpPr>
        <p:spPr>
          <a:xfrm>
            <a:off x="3885840" y="8843760"/>
            <a:ext cx="2971800" cy="29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C750F-A136-4C20-91F8-686A0E933B48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CL" sz="10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"/>
          <p:cNvSpPr txBox="1"/>
          <p:nvPr/>
        </p:nvSpPr>
        <p:spPr>
          <a:xfrm>
            <a:off x="3885840" y="8843760"/>
            <a:ext cx="2971800" cy="29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847BD-0FEE-4CD7-950C-1E72B8BE49BF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6170400"/>
            <a:ext cx="5486400" cy="45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"/>
          <p:cNvSpPr txBox="1"/>
          <p:nvPr/>
        </p:nvSpPr>
        <p:spPr>
          <a:xfrm>
            <a:off x="3885840" y="8843760"/>
            <a:ext cx="2971800" cy="29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9FFEA-A13F-409C-9DEE-C40B712A6A2A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6170400"/>
            <a:ext cx="5486400" cy="45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 txBox="1"/>
          <p:nvPr/>
        </p:nvSpPr>
        <p:spPr>
          <a:xfrm>
            <a:off x="3885840" y="8843760"/>
            <a:ext cx="2971800" cy="29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6D286-6D9D-4910-941D-483AAB424599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6170400"/>
            <a:ext cx="5486400" cy="45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 txBox="1"/>
          <p:nvPr/>
        </p:nvSpPr>
        <p:spPr>
          <a:xfrm>
            <a:off x="3885840" y="8843760"/>
            <a:ext cx="2971800" cy="29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FDC0E-C432-45A3-B69A-BBCD546F5332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6170400"/>
            <a:ext cx="5486400" cy="45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CL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/>
          <p:cNvSpPr txBox="1"/>
          <p:nvPr/>
        </p:nvSpPr>
        <p:spPr>
          <a:xfrm>
            <a:off x="3885840" y="8843760"/>
            <a:ext cx="2971800" cy="29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16BDE-BFAB-4CFE-8FEB-6D41F224F5F1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6170400"/>
            <a:ext cx="5486400" cy="45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 txBox="1"/>
          <p:nvPr/>
        </p:nvSpPr>
        <p:spPr>
          <a:xfrm>
            <a:off x="3885840" y="8843760"/>
            <a:ext cx="2971800" cy="29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C85B1-5784-40F1-B021-B77177FB928F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6170400"/>
            <a:ext cx="5486400" cy="45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49DA1-2C69-431C-B0CF-21348DD1C0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8534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3863880"/>
            <a:ext cx="8534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060C8-E0F2-4D45-A546-1442EB06B4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784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86388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7840" y="386388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F7FBD-AA47-4A54-9E00-E5555AFE34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0680" y="126792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6080" y="126792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386388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0680" y="386388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6080" y="386388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4A0B2-5BCD-4B39-B21B-EDDEAE4E3D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2954D-1543-41FA-B031-566618D0F9A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04920" y="1267920"/>
            <a:ext cx="853416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D653F-E863-4AC6-B1A4-A76A8E42B93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8534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37606-27E1-47F3-8B2B-B387DBEFD8E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41644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7840" y="1267920"/>
            <a:ext cx="41644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33634-82CD-4201-8ECB-B9321E5569B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2BA27-610F-4808-B7EE-785B6EC2250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24000" y="226800"/>
            <a:ext cx="6912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5A248-760C-4A48-B079-DF4057B89D3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7840" y="1267920"/>
            <a:ext cx="41644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04920" y="386388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BDA70-D92F-4202-9685-FE8544AEFC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1267920"/>
            <a:ext cx="853416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A247C-5607-46A7-A34B-233E93515A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41644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784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7840" y="386388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7311E-4237-466F-898F-037F7E832A1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784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3863880"/>
            <a:ext cx="8534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2A5B6-7853-4795-A0A5-8896A25C9CF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8534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04920" y="3863880"/>
            <a:ext cx="8534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F8DCA-90AF-40F2-B3CD-F707F8FC291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784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4920" y="386388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7840" y="386388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ED577-92C7-4F58-A757-4869BCEE4CA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90680" y="126792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6080" y="126792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04920" y="386388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90680" y="386388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6080" y="386388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1A833-472D-404B-9933-2559001252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8534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3D683-4F6C-41AA-BBD0-E125D76818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41644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7840" y="1267920"/>
            <a:ext cx="41644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8CE0A-057C-4C2C-B12E-C096659CE2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8172E-0C64-4383-AA4C-C7FBA80EAE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24000" y="226800"/>
            <a:ext cx="6912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981FE-B90E-43B3-A22E-1C34DDF17A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7840" y="1267920"/>
            <a:ext cx="41644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386388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DA182-A4E4-4D9B-BA7E-D05A282CFD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41644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784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7840" y="386388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F1745-25C8-473D-8F82-2E35E31DC6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784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3863880"/>
            <a:ext cx="8534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20009-50E9-4E84-ADB6-B2B3B05105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1267920"/>
            <a:ext cx="8534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9000" indent="-18900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5200" indent="-18576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46160" indent="-29052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324000" y="981000"/>
            <a:ext cx="8424360" cy="72720"/>
            <a:chOff x="324000" y="981000"/>
            <a:chExt cx="8424360" cy="72720"/>
          </a:xfrm>
        </p:grpSpPr>
        <p:sp>
          <p:nvSpPr>
            <p:cNvPr id="3" name=""/>
            <p:cNvSpPr/>
            <p:nvPr/>
          </p:nvSpPr>
          <p:spPr>
            <a:xfrm>
              <a:off x="324000" y="1053720"/>
              <a:ext cx="842436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24000" y="981000"/>
              <a:ext cx="842436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162560" y="6381360"/>
            <a:ext cx="190476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_tradnl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675F1-9844-450E-BE4C-00E8D3381365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6491160"/>
            <a:ext cx="1212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66"/>
                </a:solidFill>
                <a:latin typeface="Arial"/>
              </a:rPr>
              <a:t>www.igt.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19320" y="2781000"/>
            <a:ext cx="716256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7162560" y="6453360"/>
            <a:ext cx="1904760" cy="3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_tradnl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982FE-4B6C-420A-912D-F0CB0C23D3EF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19044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755640" algn="ctr">
              <a:spcBef>
                <a:spcPts val="4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6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6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6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6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6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6.wmf"/><Relationship Id="rId39" Type="http://schemas.openxmlformats.org/officeDocument/2006/relationships/slideLayout" Target="../slideLayouts/slideLayout5.xml"/><Relationship Id="rId40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" Target="slide50.xml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09480" y="2971800"/>
            <a:ext cx="8209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Arial"/>
              </a:rPr>
              <a:t>Introducción al Rediseño de Proce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Arial"/>
              </a:rPr>
              <a:t>MGP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Arial"/>
              </a:rPr>
              <a:t>IN75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"/>
              </a:rPr>
              <a:t>Agosto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"/>
              </a:rPr>
              <a:t>Mario Waissblu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"/>
              </a:rPr>
              <a:t>(en base a materiales de Ivan Brag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DF764-F2CC-4C13-AC1D-7A8894647C3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1073160" y="1682640"/>
            <a:ext cx="7912080" cy="486432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488400" y="1914480"/>
            <a:ext cx="32752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MACROPROC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835280" y="2978280"/>
            <a:ext cx="1739880" cy="90144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292480" y="4121280"/>
            <a:ext cx="1739880" cy="143496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816360" y="2444760"/>
            <a:ext cx="1663560" cy="82548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578480" y="3587760"/>
            <a:ext cx="3187440" cy="219708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628160" y="3789360"/>
            <a:ext cx="1949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PROCESO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730760" y="4197240"/>
            <a:ext cx="1739880" cy="59688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Actividad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730760" y="4883040"/>
            <a:ext cx="1739880" cy="59688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Activida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559560" y="3664080"/>
            <a:ext cx="1054080" cy="20444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711840" y="4273560"/>
            <a:ext cx="825480" cy="29196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042aa1"/>
              </a:gs>
              <a:gs pos="50000">
                <a:srgbClr val="063de8"/>
              </a:gs>
              <a:gs pos="100000">
                <a:srgbClr val="042aa1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as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711840" y="4807080"/>
            <a:ext cx="825480" cy="29196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042aa1"/>
              </a:gs>
              <a:gs pos="50000">
                <a:srgbClr val="063de8"/>
              </a:gs>
              <a:gs pos="100000">
                <a:srgbClr val="042aa1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aso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492880" y="2743200"/>
            <a:ext cx="74916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248520" y="2749680"/>
            <a:ext cx="0" cy="8254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2971800" y="2508120"/>
            <a:ext cx="0" cy="47016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2965320" y="2514600"/>
            <a:ext cx="85104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200400" y="3879360"/>
            <a:ext cx="0" cy="24156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044960" y="4648320"/>
            <a:ext cx="52056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3962520" y="3270240"/>
            <a:ext cx="0" cy="85104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715000" y="4724280"/>
            <a:ext cx="0" cy="29844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867280" y="5492880"/>
            <a:ext cx="0" cy="13968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873760" y="5638680"/>
            <a:ext cx="90180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7162920" y="4571640"/>
            <a:ext cx="0" cy="23508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6591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Para analizar los procesos es fundamental descomponerlos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4BA05-B83E-4396-A57A-A29C0F5EEF9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Metodología de estructuración y descomposición jerárquica de los proceso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58400" y="1770120"/>
            <a:ext cx="48715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Macroproce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roce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Subproce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25320" y="2665440"/>
            <a:ext cx="0" cy="4572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25320" y="312264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387440" y="3579840"/>
            <a:ext cx="0" cy="4572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387440" y="403704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301840" y="4570560"/>
            <a:ext cx="0" cy="4572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301840" y="502776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3805920" y="1770120"/>
            <a:ext cx="5112360" cy="4480920"/>
            <a:chOff x="3805920" y="1770120"/>
            <a:chExt cx="5112360" cy="4480920"/>
          </a:xfrm>
        </p:grpSpPr>
        <p:sp>
          <p:nvSpPr>
            <p:cNvPr id="317" name=""/>
            <p:cNvSpPr/>
            <p:nvPr/>
          </p:nvSpPr>
          <p:spPr>
            <a:xfrm>
              <a:off x="3805920" y="1770120"/>
              <a:ext cx="5112360" cy="448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Gestión de client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Facturació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Gestión de Lectur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Ingreso d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informació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281480" y="258948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281480" y="3046680"/>
              <a:ext cx="304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043600" y="350388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043600" y="3961080"/>
              <a:ext cx="3045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958000" y="449424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958000" y="4951440"/>
              <a:ext cx="3045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2971800" y="1922400"/>
            <a:ext cx="609480" cy="38124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c0c0c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EB7B2-8763-478C-BF9B-DDABDC7CFAA9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598320" y="158760"/>
            <a:ext cx="777240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INCO GRUPOS DE PROCESOS CON DOCE SUBPROCE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697040" y="1682640"/>
            <a:ext cx="5778360" cy="4788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211640" y="5264280"/>
            <a:ext cx="3035160" cy="1054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202360" y="2444760"/>
            <a:ext cx="2044440" cy="1587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925640" y="2368440"/>
            <a:ext cx="1663560" cy="1739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754440" y="1835280"/>
            <a:ext cx="1282680" cy="1130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211640" y="4197240"/>
            <a:ext cx="2349360" cy="90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036160" y="2355840"/>
            <a:ext cx="130464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Proceso A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rocesamient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e orden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788280" y="1822320"/>
            <a:ext cx="116748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Proceso B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ontratació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772240" y="2584440"/>
            <a:ext cx="104724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Proceso C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ntreg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858560" y="4184640"/>
            <a:ext cx="114156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Proceso D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acturació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168800" y="5327640"/>
            <a:ext cx="160020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Proceso E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ervicio al Client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675200" y="3956040"/>
            <a:ext cx="86112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lient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xterno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36320" y="3803760"/>
            <a:ext cx="117360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roveedores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xterno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573960" y="3206880"/>
            <a:ext cx="36828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964120" y="3206880"/>
            <a:ext cx="36828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354640" y="3206880"/>
            <a:ext cx="36828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726240" y="3664080"/>
            <a:ext cx="36828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211640" y="2521080"/>
            <a:ext cx="36828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077920" y="3206880"/>
            <a:ext cx="36828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068640" y="3206880"/>
            <a:ext cx="36828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763720" y="3664080"/>
            <a:ext cx="36828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516560" y="4578480"/>
            <a:ext cx="36828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888160" y="4730760"/>
            <a:ext cx="36828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35520" y="5797440"/>
            <a:ext cx="368280" cy="292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497640" y="5797440"/>
            <a:ext cx="368280" cy="292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113920" y="3193920"/>
            <a:ext cx="27756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104640" y="3193920"/>
            <a:ext cx="27756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799720" y="3651120"/>
            <a:ext cx="27756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247640" y="2508120"/>
            <a:ext cx="27756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390640" y="3193920"/>
            <a:ext cx="27756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000120" y="3193920"/>
            <a:ext cx="27756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762240" y="3651120"/>
            <a:ext cx="27756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609600" y="3193920"/>
            <a:ext cx="27756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552200" y="4565520"/>
            <a:ext cx="27756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847480" y="4718160"/>
            <a:ext cx="37332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695200" y="5784840"/>
            <a:ext cx="37332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457320" y="5784840"/>
            <a:ext cx="37332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339920" y="1523880"/>
            <a:ext cx="6573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309680" y="1554120"/>
            <a:ext cx="0" cy="177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339920" y="3352680"/>
            <a:ext cx="706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482920" y="3352680"/>
            <a:ext cx="554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330280" y="3535200"/>
            <a:ext cx="401760" cy="17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1338120" y="3483000"/>
            <a:ext cx="782640" cy="426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492200" y="4221000"/>
            <a:ext cx="2992320" cy="554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092400" y="3992400"/>
            <a:ext cx="1392120" cy="63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3471840" y="2644920"/>
            <a:ext cx="706320" cy="73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616280" y="2697120"/>
            <a:ext cx="706680" cy="554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87680" y="2849400"/>
            <a:ext cx="173160" cy="169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759280" y="3352680"/>
            <a:ext cx="17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369120" y="3352680"/>
            <a:ext cx="172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902280" y="3535200"/>
            <a:ext cx="20880" cy="96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216480" y="3535200"/>
            <a:ext cx="478080" cy="17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130880" y="3916440"/>
            <a:ext cx="478080" cy="172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921200" y="4800600"/>
            <a:ext cx="93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6291360" y="4321080"/>
            <a:ext cx="1239840" cy="579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6013080" y="4525920"/>
            <a:ext cx="1646280" cy="123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140520" y="5943600"/>
            <a:ext cx="325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6900840" y="4626000"/>
            <a:ext cx="858960" cy="1341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939080" y="1554120"/>
            <a:ext cx="0" cy="23828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A5B56-9AAA-4E49-8AC8-27E9B9F3052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739116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Herramientas de modelamiento – flujos de proceso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457200" y="1600200"/>
            <a:ext cx="8229600" cy="4572000"/>
            <a:chOff x="457200" y="1600200"/>
            <a:chExt cx="8229600" cy="4572000"/>
          </a:xfrm>
        </p:grpSpPr>
        <p:sp>
          <p:nvSpPr>
            <p:cNvPr id="387" name=""/>
            <p:cNvSpPr/>
            <p:nvPr/>
          </p:nvSpPr>
          <p:spPr>
            <a:xfrm>
              <a:off x="469800" y="1611360"/>
              <a:ext cx="8207640" cy="4302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69800" y="2038320"/>
              <a:ext cx="8207640" cy="41259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621080" y="1622520"/>
              <a:ext cx="5767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900" spc="-1" strike="noStrike">
                  <a:solidFill>
                    <a:srgbClr val="000000"/>
                  </a:solidFill>
                  <a:latin typeface="Arial"/>
                </a:rPr>
                <a:t>Paso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658680" y="1622520"/>
              <a:ext cx="951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9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100560" y="1622520"/>
              <a:ext cx="13813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900" spc="-1" strike="noStrike">
                  <a:solidFill>
                    <a:srgbClr val="000000"/>
                  </a:solidFill>
                  <a:latin typeface="Arial"/>
                </a:rPr>
                <a:t>Descripció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67440" y="2322360"/>
              <a:ext cx="1113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9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976280" y="2049480"/>
              <a:ext cx="3039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Cualquier paso que agrega valor al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973040" y="2289240"/>
              <a:ext cx="3528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proceso. Hacer avanzar en forma directa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980240" y="2529000"/>
              <a:ext cx="939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al proceso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66720" y="3162240"/>
              <a:ext cx="1168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900" spc="-1" strike="noStrike">
                  <a:solidFill>
                    <a:srgbClr val="000000"/>
                  </a:solidFill>
                  <a:latin typeface="Arial"/>
                </a:rPr>
                <a:t>Transport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977360" y="2922480"/>
              <a:ext cx="2676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Cualquier acción que desplaza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975920" y="3162240"/>
              <a:ext cx="2900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información u objetos, incluyendo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980600" y="3402000"/>
              <a:ext cx="843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personas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8520" y="3778200"/>
              <a:ext cx="18662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900" spc="-1" strike="noStrike">
                  <a:solidFill>
                    <a:srgbClr val="000000"/>
                  </a:solidFill>
                  <a:latin typeface="Arial"/>
                </a:rPr>
                <a:t>Demor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900" spc="-1" strike="noStrike">
                  <a:solidFill>
                    <a:srgbClr val="000000"/>
                  </a:solidFill>
                  <a:latin typeface="Arial"/>
                </a:rPr>
                <a:t>(no programada)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983120" y="3778200"/>
              <a:ext cx="36799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Cualquier tiempo de espera no programado relacionado con personas.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1480" y="4606920"/>
              <a:ext cx="11527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900" spc="-1" strike="noStrike">
                  <a:solidFill>
                    <a:srgbClr val="000000"/>
                  </a:solidFill>
                  <a:latin typeface="Arial"/>
                </a:rPr>
                <a:t>Inspecció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983120" y="4427640"/>
              <a:ext cx="36799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Incluye inspecciones/controles de calidad  y cantidad, revisiones y autorizaciones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67800" y="5110200"/>
              <a:ext cx="1259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900" spc="-1" strike="noStrike">
                  <a:solidFill>
                    <a:srgbClr val="000000"/>
                  </a:solidFill>
                  <a:latin typeface="Arial"/>
                </a:rPr>
                <a:t>Almacenaj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975920" y="5025960"/>
              <a:ext cx="3068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Retraso programado de materiales,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977360" y="5265720"/>
              <a:ext cx="1643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partes o productos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67440" y="5686560"/>
              <a:ext cx="1046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900" spc="-1" strike="noStrike">
                  <a:solidFill>
                    <a:srgbClr val="000000"/>
                  </a:solidFill>
                  <a:latin typeface="Arial"/>
                </a:rPr>
                <a:t>Retrabajo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983120" y="5591160"/>
              <a:ext cx="36799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Cualquier paso operacional innecesario y repetido. Corrige algún problema o error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57200" y="1600200"/>
              <a:ext cx="1440" cy="4572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57200" y="1600200"/>
              <a:ext cx="23760" cy="457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338640" y="1622520"/>
              <a:ext cx="1440" cy="4549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338640" y="1622520"/>
              <a:ext cx="23760" cy="4549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929120" y="1622520"/>
              <a:ext cx="1800" cy="4549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929120" y="1622520"/>
              <a:ext cx="23760" cy="4549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663040" y="1622520"/>
              <a:ext cx="1440" cy="4549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663040" y="1622520"/>
              <a:ext cx="23760" cy="4549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80960" y="1600200"/>
              <a:ext cx="8205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80960" y="1600200"/>
              <a:ext cx="82058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80960" y="2027160"/>
              <a:ext cx="8205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80960" y="2027160"/>
              <a:ext cx="82058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80960" y="2898720"/>
              <a:ext cx="8205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80960" y="2898720"/>
              <a:ext cx="8205840" cy="23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80960" y="3754440"/>
              <a:ext cx="8205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80960" y="3754440"/>
              <a:ext cx="8205840" cy="23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80960" y="4403880"/>
              <a:ext cx="8205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80960" y="4403880"/>
              <a:ext cx="8205840" cy="23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80960" y="5003640"/>
              <a:ext cx="8205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80960" y="5003640"/>
              <a:ext cx="82058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80960" y="5567400"/>
              <a:ext cx="8205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80960" y="5567400"/>
              <a:ext cx="8205840" cy="23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80960" y="6149880"/>
              <a:ext cx="8205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80960" y="6149880"/>
              <a:ext cx="82058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776760" y="2232000"/>
              <a:ext cx="460440" cy="3794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4" name=""/>
            <p:cNvGrpSpPr/>
            <p:nvPr/>
          </p:nvGrpSpPr>
          <p:grpSpPr>
            <a:xfrm>
              <a:off x="3695760" y="3244680"/>
              <a:ext cx="695160" cy="183960"/>
              <a:chOff x="3695760" y="3244680"/>
              <a:chExt cx="695160" cy="183960"/>
            </a:xfrm>
          </p:grpSpPr>
          <p:sp>
            <p:nvSpPr>
              <p:cNvPr id="435" name=""/>
              <p:cNvSpPr/>
              <p:nvPr/>
            </p:nvSpPr>
            <p:spPr>
              <a:xfrm>
                <a:off x="3695760" y="3335040"/>
                <a:ext cx="50472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194000" y="3244680"/>
                <a:ext cx="196920" cy="183960"/>
              </a:xfrm>
              <a:custGeom>
                <a:avLst/>
                <a:gdLst/>
                <a:ahLst/>
                <a:rect l="l" t="t" r="r" b="b"/>
                <a:pathLst>
                  <a:path w="124" h="116">
                    <a:moveTo>
                      <a:pt x="0" y="116"/>
                    </a:moveTo>
                    <a:lnTo>
                      <a:pt x="124" y="57"/>
                    </a:lnTo>
                    <a:lnTo>
                      <a:pt x="0" y="0"/>
                    </a:lnTo>
                    <a:lnTo>
                      <a:pt x="0" y="1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7" name=""/>
            <p:cNvSpPr/>
            <p:nvPr/>
          </p:nvSpPr>
          <p:spPr>
            <a:xfrm>
              <a:off x="3816360" y="5108400"/>
              <a:ext cx="534960" cy="385920"/>
            </a:xfrm>
            <a:custGeom>
              <a:avLst/>
              <a:gdLst/>
              <a:ahLst/>
              <a:rect l="l" t="t" r="r" b="b"/>
              <a:pathLst>
                <a:path w="337" h="257">
                  <a:moveTo>
                    <a:pt x="162" y="257"/>
                  </a:moveTo>
                  <a:lnTo>
                    <a:pt x="0" y="0"/>
                  </a:lnTo>
                  <a:lnTo>
                    <a:pt x="337" y="0"/>
                  </a:lnTo>
                  <a:lnTo>
                    <a:pt x="162" y="257"/>
                  </a:lnTo>
                  <a:close/>
                </a:path>
              </a:pathLst>
            </a:custGeom>
            <a:solidFill>
              <a:srgbClr val="ffffff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851280" y="5643720"/>
              <a:ext cx="460440" cy="377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006800" y="564660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833640" y="4524480"/>
              <a:ext cx="520920" cy="3445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855960" y="3860640"/>
              <a:ext cx="515880" cy="358920"/>
            </a:xfrm>
            <a:custGeom>
              <a:avLst/>
              <a:gdLst/>
              <a:ahLst/>
              <a:rect l="l" t="t" r="r" b="b"/>
              <a:pathLst>
                <a:path w="325" h="226">
                  <a:moveTo>
                    <a:pt x="162" y="0"/>
                  </a:moveTo>
                  <a:lnTo>
                    <a:pt x="196" y="2"/>
                  </a:lnTo>
                  <a:lnTo>
                    <a:pt x="226" y="9"/>
                  </a:lnTo>
                  <a:lnTo>
                    <a:pt x="253" y="20"/>
                  </a:lnTo>
                  <a:lnTo>
                    <a:pt x="278" y="32"/>
                  </a:lnTo>
                  <a:lnTo>
                    <a:pt x="297" y="50"/>
                  </a:lnTo>
                  <a:lnTo>
                    <a:pt x="312" y="68"/>
                  </a:lnTo>
                  <a:lnTo>
                    <a:pt x="321" y="89"/>
                  </a:lnTo>
                  <a:lnTo>
                    <a:pt x="325" y="112"/>
                  </a:lnTo>
                  <a:lnTo>
                    <a:pt x="321" y="135"/>
                  </a:lnTo>
                  <a:lnTo>
                    <a:pt x="312" y="156"/>
                  </a:lnTo>
                  <a:lnTo>
                    <a:pt x="297" y="176"/>
                  </a:lnTo>
                  <a:lnTo>
                    <a:pt x="278" y="194"/>
                  </a:lnTo>
                  <a:lnTo>
                    <a:pt x="253" y="206"/>
                  </a:lnTo>
                  <a:lnTo>
                    <a:pt x="226" y="217"/>
                  </a:lnTo>
                  <a:lnTo>
                    <a:pt x="196" y="224"/>
                  </a:lnTo>
                  <a:lnTo>
                    <a:pt x="162" y="226"/>
                  </a:lnTo>
                  <a:lnTo>
                    <a:pt x="0" y="226"/>
                  </a:lnTo>
                  <a:lnTo>
                    <a:pt x="0" y="0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ffffff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1A662-E04F-4B9D-9B37-5FBD48918F1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739116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Sólo los pasos de operación agregan valor… el resto es pérdida de tiempo y recurso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1143000" y="1600200"/>
            <a:ext cx="6934320" cy="4419720"/>
            <a:chOff x="1143000" y="1600200"/>
            <a:chExt cx="6934320" cy="4419720"/>
          </a:xfrm>
        </p:grpSpPr>
        <p:sp>
          <p:nvSpPr>
            <p:cNvPr id="444" name=""/>
            <p:cNvSpPr/>
            <p:nvPr/>
          </p:nvSpPr>
          <p:spPr>
            <a:xfrm>
              <a:off x="1155600" y="1611360"/>
              <a:ext cx="6912000" cy="4143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155600" y="2023920"/>
              <a:ext cx="6912000" cy="3988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704960" y="1622520"/>
              <a:ext cx="546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Pas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216600" y="1622520"/>
              <a:ext cx="904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208880" y="2033640"/>
              <a:ext cx="1052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208520" y="2878200"/>
              <a:ext cx="110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Transpor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208880" y="3705120"/>
              <a:ext cx="1268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Demora (no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209240" y="3986280"/>
              <a:ext cx="1305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programada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208880" y="4332240"/>
              <a:ext cx="1090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Inspec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209600" y="4911840"/>
              <a:ext cx="1190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Almacenaj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209240" y="5457960"/>
              <a:ext cx="988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Retrabaj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143000" y="1600200"/>
              <a:ext cx="1440" cy="441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143000" y="1600200"/>
              <a:ext cx="27000" cy="441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870280" y="1622520"/>
              <a:ext cx="1440" cy="4397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870280" y="1622520"/>
              <a:ext cx="25200" cy="4397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170000" y="1600200"/>
              <a:ext cx="6907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170000" y="1600200"/>
              <a:ext cx="690732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170000" y="2013120"/>
              <a:ext cx="6907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170000" y="2013120"/>
              <a:ext cx="69073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170000" y="2855880"/>
              <a:ext cx="6907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170000" y="2855880"/>
              <a:ext cx="690732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170000" y="3683160"/>
              <a:ext cx="6907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170000" y="3683160"/>
              <a:ext cx="690732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170000" y="4311720"/>
              <a:ext cx="6907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170000" y="4311720"/>
              <a:ext cx="69073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170000" y="4889520"/>
              <a:ext cx="6907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170000" y="4889520"/>
              <a:ext cx="690732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170000" y="5435640"/>
              <a:ext cx="6907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170000" y="5435640"/>
              <a:ext cx="690732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170000" y="5997600"/>
              <a:ext cx="6907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170000" y="5997600"/>
              <a:ext cx="690732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473280" y="2200320"/>
              <a:ext cx="500400" cy="365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257640" y="3211560"/>
              <a:ext cx="5475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98720" y="3106800"/>
              <a:ext cx="214560" cy="177840"/>
            </a:xfrm>
            <a:custGeom>
              <a:avLst/>
              <a:gdLst/>
              <a:ahLst/>
              <a:rect l="l" t="t" r="r" b="b"/>
              <a:pathLst>
                <a:path w="135" h="112">
                  <a:moveTo>
                    <a:pt x="0" y="112"/>
                  </a:moveTo>
                  <a:lnTo>
                    <a:pt x="135" y="55"/>
                  </a:lnTo>
                  <a:lnTo>
                    <a:pt x="0" y="0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389400" y="4978440"/>
              <a:ext cx="581040" cy="395280"/>
            </a:xfrm>
            <a:custGeom>
              <a:avLst/>
              <a:gdLst/>
              <a:ahLst/>
              <a:rect l="l" t="t" r="r" b="b"/>
              <a:pathLst>
                <a:path w="366" h="249">
                  <a:moveTo>
                    <a:pt x="175" y="249"/>
                  </a:moveTo>
                  <a:lnTo>
                    <a:pt x="0" y="0"/>
                  </a:lnTo>
                  <a:lnTo>
                    <a:pt x="366" y="0"/>
                  </a:lnTo>
                  <a:lnTo>
                    <a:pt x="175" y="249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419640" y="5510160"/>
              <a:ext cx="500040" cy="3668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595680" y="551196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408480" y="4464000"/>
              <a:ext cx="565200" cy="333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432240" y="3801960"/>
              <a:ext cx="560160" cy="347760"/>
            </a:xfrm>
            <a:custGeom>
              <a:avLst/>
              <a:gdLst/>
              <a:ahLst/>
              <a:rect l="l" t="t" r="r" b="b"/>
              <a:pathLst>
                <a:path w="353" h="219">
                  <a:moveTo>
                    <a:pt x="175" y="0"/>
                  </a:moveTo>
                  <a:lnTo>
                    <a:pt x="213" y="2"/>
                  </a:lnTo>
                  <a:lnTo>
                    <a:pt x="246" y="9"/>
                  </a:lnTo>
                  <a:lnTo>
                    <a:pt x="275" y="19"/>
                  </a:lnTo>
                  <a:lnTo>
                    <a:pt x="301" y="31"/>
                  </a:lnTo>
                  <a:lnTo>
                    <a:pt x="322" y="49"/>
                  </a:lnTo>
                  <a:lnTo>
                    <a:pt x="339" y="66"/>
                  </a:lnTo>
                  <a:lnTo>
                    <a:pt x="349" y="86"/>
                  </a:lnTo>
                  <a:lnTo>
                    <a:pt x="353" y="109"/>
                  </a:lnTo>
                  <a:lnTo>
                    <a:pt x="349" y="131"/>
                  </a:lnTo>
                  <a:lnTo>
                    <a:pt x="339" y="152"/>
                  </a:lnTo>
                  <a:lnTo>
                    <a:pt x="322" y="171"/>
                  </a:lnTo>
                  <a:lnTo>
                    <a:pt x="301" y="188"/>
                  </a:lnTo>
                  <a:lnTo>
                    <a:pt x="275" y="200"/>
                  </a:lnTo>
                  <a:lnTo>
                    <a:pt x="246" y="210"/>
                  </a:lnTo>
                  <a:lnTo>
                    <a:pt x="213" y="217"/>
                  </a:lnTo>
                  <a:lnTo>
                    <a:pt x="175" y="219"/>
                  </a:lnTo>
                  <a:lnTo>
                    <a:pt x="0" y="219"/>
                  </a:lnTo>
                  <a:lnTo>
                    <a:pt x="0" y="0"/>
                  </a:lnTo>
                  <a:lnTo>
                    <a:pt x="175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990680" y="1622520"/>
              <a:ext cx="826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Trabaj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389640" y="1622520"/>
              <a:ext cx="1308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Desperdic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374800" y="2287440"/>
              <a:ext cx="186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102080" y="3124080"/>
              <a:ext cx="186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102080" y="3849840"/>
              <a:ext cx="186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02080" y="4452840"/>
              <a:ext cx="186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102080" y="5014800"/>
              <a:ext cx="186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02080" y="5568840"/>
              <a:ext cx="186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597560" y="1622520"/>
              <a:ext cx="1440" cy="4397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597560" y="1622520"/>
              <a:ext cx="25200" cy="4397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324480" y="1622520"/>
              <a:ext cx="1800" cy="4397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324480" y="1622520"/>
              <a:ext cx="25560" cy="4397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8050320" y="1622520"/>
              <a:ext cx="1440" cy="4397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050320" y="1622520"/>
              <a:ext cx="27000" cy="4397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EE27F-AFC4-4326-9501-F41EEC5645F7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066680" y="1267920"/>
            <a:ext cx="7772400" cy="4753080"/>
          </a:xfrm>
          <a:prstGeom prst="rect">
            <a:avLst/>
          </a:prstGeom>
          <a:solidFill>
            <a:srgbClr val="f9d29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 algn="ctr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Arial"/>
              </a:rPr>
              <a:t>ENSAMBLAJE DE MUÑECO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84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1. Caminar al estante de partes (2 minuto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84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2. Buscar piernas (1 minuto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84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3. Llevar las piernas al lugar de trabajo ( 2 minuto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84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4. Colocar las piernas (5 minuto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84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5. Caminar al estante de partes (2 minuto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84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6. Buscar brazos (1 minuto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84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7. Llevar los brazos al lugar de trabajo (2 minuto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84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8. Colocar los brazos (1 minuto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84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9. Caminar al estante de partes (2 minuto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84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10. Buscar cabezas (1 minuto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84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11. Llevar las cabezas al lugar de trabajo (2 minuto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84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12. Colocar las cabezas (2 minuto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84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13. Inspeccionar la calidad del muñeco (2 minuto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84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14. Llevar el muñeco al estante de almacenaje (3 minuto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title"/>
          </p:nvPr>
        </p:nvSpPr>
        <p:spPr>
          <a:xfrm>
            <a:off x="323640" y="260280"/>
            <a:ext cx="739116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¿Qué sobra aquí…..?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4A3E1-F8D7-430D-A2B4-21AB38F622E2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380880" y="1197000"/>
            <a:ext cx="8458200" cy="51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3300"/>
                </a:solidFill>
                <a:latin typeface="Arial"/>
              </a:rPr>
              <a:t>Señales de alarma para mejorar proces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omplejidad, excepciones, casos especi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lto intercambio de información, captura (recaptura) de datos y redundancia de da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Fallas de coordinación o costos de coordin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Inconsistencia hacia el exter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Baja utilización de recurs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ontroles cerrados y car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Personal con alta carga de trabajo y pocos result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E8DCD-E31F-4C25-A682-E5177B5268F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Fases de un proyecto de rediseñ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52280" y="1476360"/>
            <a:ext cx="2764080" cy="4924440"/>
          </a:xfrm>
          <a:prstGeom prst="rightArrowCallout">
            <a:avLst>
              <a:gd name="adj1" fmla="val 44544"/>
              <a:gd name="adj2" fmla="val 44540"/>
              <a:gd name="adj3" fmla="val 16667"/>
              <a:gd name="adj4" fmla="val 7870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 u="sng">
                <a:solidFill>
                  <a:srgbClr val="000000"/>
                </a:solidFill>
                <a:uFillTx/>
                <a:latin typeface="Tahoma"/>
              </a:rPr>
              <a:t>1. DIAGNOST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a) Levantamien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De detalle 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Proceso, tal cu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hoy oper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b) Definición de 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Métrica del Proces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(Tablero de Monitoreo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c) Medición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Indicadores del Tabl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De Monitore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(situación inici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d) Identificación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Quick Wins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971800" y="1447920"/>
            <a:ext cx="3324240" cy="4968720"/>
          </a:xfrm>
          <a:prstGeom prst="rightArrowCallout">
            <a:avLst>
              <a:gd name="adj1" fmla="val 32845"/>
              <a:gd name="adj2" fmla="val 36225"/>
              <a:gd name="adj3" fmla="val 15903"/>
              <a:gd name="adj4" fmla="val 78894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 u="sng">
                <a:solidFill>
                  <a:srgbClr val="000000"/>
                </a:solidFill>
                <a:uFillTx/>
                <a:latin typeface="Tahoma"/>
              </a:rPr>
              <a:t>2. DISEÑO</a:t>
            </a: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a) Rediseño del proce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(Procedimiento; Sistema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Roles; Estándar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b) Especific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de resultados verificables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Metas para cada indicad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Del Tablero de Monitoreo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incluyendo la definición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Quick Wins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c) Implementar Quick Wi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d) Seguimiento a Quick W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200640" y="1371600"/>
            <a:ext cx="2791080" cy="5056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 u="sng">
                <a:solidFill>
                  <a:srgbClr val="000000"/>
                </a:solidFill>
                <a:uFillTx/>
                <a:latin typeface="Tahoma"/>
              </a:rPr>
              <a:t>3</a:t>
            </a:r>
            <a:r>
              <a:rPr b="1" lang="es-ES" sz="1400" spc="-1" strike="noStrike" u="sng">
                <a:solidFill>
                  <a:srgbClr val="000000"/>
                </a:solidFill>
                <a:uFillTx/>
                <a:latin typeface="Tahoma"/>
              </a:rPr>
              <a:t>. IMPLANTAC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a) Elaboración de Guía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Rediseño Focalizado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Proce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b) Formación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equipo de implan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c) </a:t>
            </a: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Trabajo de implan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d) 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Capacitación en el nuev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proce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e) Medición periódica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resultados en Tablero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Monitore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f)Reporte mensual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avances mediante Tablero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Monitore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4E148-AC16-42C4-B986-C37C1AE5A25C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638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Entender Situación Actua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971800" y="1295280"/>
            <a:ext cx="1752480" cy="9144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4280" bIns="44280" anchor="ctr">
            <a:no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Identific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Quick W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6" name=""/>
          <p:cNvCxnSpPr>
            <a:stCxn id="507" idx="0"/>
            <a:endCxn id="505" idx="1"/>
          </p:cNvCxnSpPr>
          <p:nvPr/>
        </p:nvCxnSpPr>
        <p:spPr>
          <a:xfrm flipH="1" flipV="1" rot="5400000">
            <a:off x="1904760" y="1370880"/>
            <a:ext cx="686520" cy="144864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8" name=""/>
          <p:cNvSpPr/>
          <p:nvPr/>
        </p:nvSpPr>
        <p:spPr>
          <a:xfrm>
            <a:off x="-2133720" y="7467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04920" y="7467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6320" y="2438280"/>
            <a:ext cx="2895480" cy="6858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4280" bIns="4428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Modelar la Situación Ac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905120" y="4724280"/>
            <a:ext cx="2590560" cy="6098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4280" bIns="4428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Validar y Me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1" name=""/>
          <p:cNvCxnSpPr>
            <a:stCxn id="507" idx="2"/>
            <a:endCxn id="510" idx="1"/>
          </p:cNvCxnSpPr>
          <p:nvPr/>
        </p:nvCxnSpPr>
        <p:spPr>
          <a:xfrm flipH="1" rot="16200000">
            <a:off x="761040" y="3885840"/>
            <a:ext cx="1905840" cy="38196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2" name=""/>
          <p:cNvCxnSpPr>
            <a:stCxn id="510" idx="0"/>
            <a:endCxn id="507" idx="3"/>
          </p:cNvCxnSpPr>
          <p:nvPr/>
        </p:nvCxnSpPr>
        <p:spPr>
          <a:xfrm flipV="1" rot="16200000">
            <a:off x="2113920" y="3637800"/>
            <a:ext cx="1943640" cy="22932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13" name=""/>
          <p:cNvGrpSpPr/>
          <p:nvPr/>
        </p:nvGrpSpPr>
        <p:grpSpPr>
          <a:xfrm>
            <a:off x="4876920" y="1447920"/>
            <a:ext cx="4266720" cy="4674600"/>
            <a:chOff x="4876920" y="1447920"/>
            <a:chExt cx="4266720" cy="4674600"/>
          </a:xfrm>
        </p:grpSpPr>
        <p:sp>
          <p:nvSpPr>
            <p:cNvPr id="514" name=""/>
            <p:cNvSpPr/>
            <p:nvPr/>
          </p:nvSpPr>
          <p:spPr>
            <a:xfrm>
              <a:off x="6989400" y="1721160"/>
              <a:ext cx="1053720" cy="440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868360" y="1721160"/>
              <a:ext cx="1116000" cy="440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876920" y="1721160"/>
              <a:ext cx="991440" cy="440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923360" y="1447920"/>
              <a:ext cx="982440" cy="39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rebuchet MS"/>
                </a:rPr>
                <a:t>Responsable 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016600" y="2095920"/>
              <a:ext cx="587160" cy="3434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rebuchet MS"/>
                </a:rPr>
                <a:t>Actividad 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103800" y="2395800"/>
              <a:ext cx="687600" cy="3265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rebuchet MS"/>
                </a:rPr>
                <a:t>Actividad 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147440" y="2920680"/>
              <a:ext cx="697680" cy="3290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rebuchet MS"/>
                </a:rPr>
                <a:t>Actividad 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891840" y="3550320"/>
              <a:ext cx="348840" cy="200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rebuchet MS"/>
                </a:rPr>
                <a:t>N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356800" y="3723480"/>
              <a:ext cx="348480" cy="200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rebuchet MS"/>
                </a:rPr>
                <a:t>SÍ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247800" y="3431520"/>
              <a:ext cx="278640" cy="19800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999400" y="3881520"/>
              <a:ext cx="697320" cy="3290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rebuchet MS"/>
                </a:rPr>
                <a:t>Actividad 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186680" y="3881520"/>
              <a:ext cx="767520" cy="3290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rebuchet MS"/>
                </a:rPr>
                <a:t>Actividad 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505720" y="5566680"/>
              <a:ext cx="209160" cy="20268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7" name=""/>
            <p:cNvCxnSpPr>
              <a:stCxn id="518" idx="3"/>
              <a:endCxn id="519" idx="0"/>
            </p:cNvCxnSpPr>
            <p:nvPr/>
          </p:nvCxnSpPr>
          <p:spPr>
            <a:xfrm>
              <a:off x="5603760" y="2267640"/>
              <a:ext cx="845280" cy="128880"/>
            </a:xfrm>
            <a:prstGeom prst="bentConnector2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28" name=""/>
            <p:cNvCxnSpPr>
              <a:stCxn id="519" idx="3"/>
              <a:endCxn id="520" idx="0"/>
            </p:cNvCxnSpPr>
            <p:nvPr/>
          </p:nvCxnSpPr>
          <p:spPr>
            <a:xfrm>
              <a:off x="6791400" y="2559960"/>
              <a:ext cx="705240" cy="361440"/>
            </a:xfrm>
            <a:prstGeom prst="bentConnector2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29" name=""/>
            <p:cNvCxnSpPr>
              <a:stCxn id="523" idx="3"/>
              <a:endCxn id="525" idx="0"/>
            </p:cNvCxnSpPr>
            <p:nvPr/>
          </p:nvCxnSpPr>
          <p:spPr>
            <a:xfrm>
              <a:off x="6526800" y="3531600"/>
              <a:ext cx="1044720" cy="350640"/>
            </a:xfrm>
            <a:prstGeom prst="bentConnector2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30" name=""/>
            <p:cNvCxnSpPr>
              <a:stCxn id="531" idx="2"/>
              <a:endCxn id="526" idx="0"/>
            </p:cNvCxnSpPr>
            <p:nvPr/>
          </p:nvCxnSpPr>
          <p:spPr>
            <a:xfrm flipH="1">
              <a:off x="8610120" y="5202000"/>
              <a:ext cx="15840" cy="364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32" name=""/>
            <p:cNvCxnSpPr>
              <a:stCxn id="523" idx="1"/>
              <a:endCxn id="524" idx="1"/>
            </p:cNvCxnSpPr>
            <p:nvPr/>
          </p:nvCxnSpPr>
          <p:spPr>
            <a:xfrm flipV="1" rot="10800000">
              <a:off x="5998680" y="3530520"/>
              <a:ext cx="249120" cy="515880"/>
            </a:xfrm>
            <a:prstGeom prst="bentConnector3">
              <a:avLst>
                <a:gd name="adj1" fmla="val 184081"/>
              </a:avLst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33" name=""/>
            <p:cNvSpPr/>
            <p:nvPr/>
          </p:nvSpPr>
          <p:spPr>
            <a:xfrm>
              <a:off x="8043480" y="1721160"/>
              <a:ext cx="1100160" cy="440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34" name=""/>
            <p:cNvCxnSpPr>
              <a:stCxn id="520" idx="1"/>
              <a:endCxn id="523" idx="0"/>
            </p:cNvCxnSpPr>
            <p:nvPr/>
          </p:nvCxnSpPr>
          <p:spPr>
            <a:xfrm flipV="1" rot="10800000">
              <a:off x="6386760" y="3085200"/>
              <a:ext cx="760680" cy="34596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35" name=""/>
            <p:cNvSpPr/>
            <p:nvPr/>
          </p:nvSpPr>
          <p:spPr>
            <a:xfrm>
              <a:off x="5911920" y="1447920"/>
              <a:ext cx="982440" cy="39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rebuchet MS"/>
                </a:rPr>
                <a:t>Responsable 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999400" y="4493520"/>
              <a:ext cx="729360" cy="399600"/>
            </a:xfrm>
            <a:prstGeom prst="flowChart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rebuchet MS"/>
                </a:rPr>
                <a:t>Documento 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37" name=""/>
            <p:cNvCxnSpPr>
              <a:stCxn id="525" idx="3"/>
              <a:endCxn id="531" idx="0"/>
            </p:cNvCxnSpPr>
            <p:nvPr/>
          </p:nvCxnSpPr>
          <p:spPr>
            <a:xfrm>
              <a:off x="7954200" y="4046400"/>
              <a:ext cx="672120" cy="826920"/>
            </a:xfrm>
            <a:prstGeom prst="bentConnector2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31" name=""/>
            <p:cNvSpPr/>
            <p:nvPr/>
          </p:nvSpPr>
          <p:spPr>
            <a:xfrm>
              <a:off x="8242560" y="4872960"/>
              <a:ext cx="767160" cy="3290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rebuchet MS"/>
                </a:rPr>
                <a:t>Actividad 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028640" y="1447920"/>
              <a:ext cx="981000" cy="39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rebuchet MS"/>
                </a:rPr>
                <a:t>Responsable 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329160" y="4210920"/>
              <a:ext cx="1080" cy="282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40" name=""/>
            <p:cNvCxnSpPr>
              <a:endCxn id="531" idx="1"/>
            </p:cNvCxnSpPr>
            <p:nvPr/>
          </p:nvCxnSpPr>
          <p:spPr>
            <a:xfrm>
              <a:off x="6724800" y="4640040"/>
              <a:ext cx="1518480" cy="398520"/>
            </a:xfrm>
            <a:prstGeom prst="bentConnector3">
              <a:avLst>
                <a:gd name="adj1" fmla="val 49988"/>
              </a:avLst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41" name=""/>
            <p:cNvSpPr/>
            <p:nvPr/>
          </p:nvSpPr>
          <p:spPr>
            <a:xfrm>
              <a:off x="8088120" y="1447920"/>
              <a:ext cx="982440" cy="39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rebuchet MS"/>
                </a:rPr>
                <a:t>Responsable 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319000" y="1872720"/>
              <a:ext cx="0" cy="212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172120" y="1721160"/>
              <a:ext cx="278640" cy="198000"/>
            </a:xfrm>
            <a:prstGeom prst="flowChartConnector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4" name=""/>
          <p:cNvSpPr/>
          <p:nvPr/>
        </p:nvSpPr>
        <p:spPr>
          <a:xfrm>
            <a:off x="0" y="304920"/>
            <a:ext cx="990720" cy="990360"/>
          </a:xfrm>
          <a:custGeom>
            <a:avLst/>
            <a:gdLst>
              <a:gd name="textAreaLeft" fmla="*/ 154800 w 990720"/>
              <a:gd name="textAreaRight" fmla="*/ 866880 w 990720"/>
              <a:gd name="textAreaTop" fmla="*/ 247680 h 990360"/>
              <a:gd name="textAreaBottom" fmla="*/ 743040 h 99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4089240" y="5526000"/>
            <a:ext cx="4028760" cy="1258920"/>
            <a:chOff x="4089240" y="5526000"/>
            <a:chExt cx="4028760" cy="1258920"/>
          </a:xfrm>
        </p:grpSpPr>
        <p:sp>
          <p:nvSpPr>
            <p:cNvPr id="546" name=""/>
            <p:cNvSpPr/>
            <p:nvPr/>
          </p:nvSpPr>
          <p:spPr>
            <a:xfrm>
              <a:off x="4096440" y="5528880"/>
              <a:ext cx="4016160" cy="1152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096440" y="5644080"/>
              <a:ext cx="4016160" cy="1111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416480" y="5532120"/>
              <a:ext cx="24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Pas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292000" y="5532120"/>
              <a:ext cx="406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127400" y="5646600"/>
              <a:ext cx="470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127760" y="5881680"/>
              <a:ext cx="492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Transpor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127400" y="6113520"/>
              <a:ext cx="566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Demora (no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128480" y="6191280"/>
              <a:ext cx="581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programada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126320" y="6288120"/>
              <a:ext cx="489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Inspecció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127040" y="6448320"/>
              <a:ext cx="534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Almacenaj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127760" y="6600960"/>
              <a:ext cx="441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Retrabaj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089240" y="5526000"/>
              <a:ext cx="720" cy="1231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089240" y="5526000"/>
              <a:ext cx="15480" cy="1231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92560" y="5532120"/>
              <a:ext cx="720" cy="122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092560" y="5532120"/>
              <a:ext cx="14400" cy="122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104720" y="5526000"/>
              <a:ext cx="401328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104720" y="5526000"/>
              <a:ext cx="401328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104720" y="5640840"/>
              <a:ext cx="401328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104720" y="5640840"/>
              <a:ext cx="4013280" cy="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104720" y="5875920"/>
              <a:ext cx="401328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104720" y="5875920"/>
              <a:ext cx="401328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104720" y="6106320"/>
              <a:ext cx="401328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104720" y="6106320"/>
              <a:ext cx="401328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104720" y="6281640"/>
              <a:ext cx="401328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104720" y="6281640"/>
              <a:ext cx="4013280" cy="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104720" y="6442560"/>
              <a:ext cx="401328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104720" y="6442560"/>
              <a:ext cx="401328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104720" y="6594840"/>
              <a:ext cx="401328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104720" y="6594840"/>
              <a:ext cx="401328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104720" y="6751440"/>
              <a:ext cx="401328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104720" y="6751440"/>
              <a:ext cx="401328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443200" y="5693040"/>
              <a:ext cx="290520" cy="101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317920" y="5974920"/>
              <a:ext cx="317880" cy="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632200" y="5945760"/>
              <a:ext cx="124560" cy="49320"/>
            </a:xfrm>
            <a:custGeom>
              <a:avLst/>
              <a:gdLst/>
              <a:ahLst/>
              <a:rect l="l" t="t" r="r" b="b"/>
              <a:pathLst>
                <a:path w="135" h="112">
                  <a:moveTo>
                    <a:pt x="0" y="112"/>
                  </a:moveTo>
                  <a:lnTo>
                    <a:pt x="135" y="55"/>
                  </a:lnTo>
                  <a:lnTo>
                    <a:pt x="0" y="0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394240" y="6467400"/>
              <a:ext cx="337320" cy="110160"/>
            </a:xfrm>
            <a:custGeom>
              <a:avLst/>
              <a:gdLst/>
              <a:ahLst/>
              <a:rect l="l" t="t" r="r" b="b"/>
              <a:pathLst>
                <a:path w="366" h="249">
                  <a:moveTo>
                    <a:pt x="175" y="249"/>
                  </a:moveTo>
                  <a:lnTo>
                    <a:pt x="0" y="0"/>
                  </a:lnTo>
                  <a:lnTo>
                    <a:pt x="366" y="0"/>
                  </a:lnTo>
                  <a:lnTo>
                    <a:pt x="175" y="249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411880" y="6615360"/>
              <a:ext cx="290520" cy="10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514120" y="661644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405400" y="6324120"/>
              <a:ext cx="328320" cy="92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419080" y="6139440"/>
              <a:ext cx="325440" cy="96840"/>
            </a:xfrm>
            <a:custGeom>
              <a:avLst/>
              <a:gdLst/>
              <a:ahLst/>
              <a:rect l="l" t="t" r="r" b="b"/>
              <a:pathLst>
                <a:path w="353" h="219">
                  <a:moveTo>
                    <a:pt x="175" y="0"/>
                  </a:moveTo>
                  <a:lnTo>
                    <a:pt x="213" y="2"/>
                  </a:lnTo>
                  <a:lnTo>
                    <a:pt x="246" y="9"/>
                  </a:lnTo>
                  <a:lnTo>
                    <a:pt x="275" y="19"/>
                  </a:lnTo>
                  <a:lnTo>
                    <a:pt x="301" y="31"/>
                  </a:lnTo>
                  <a:lnTo>
                    <a:pt x="322" y="49"/>
                  </a:lnTo>
                  <a:lnTo>
                    <a:pt x="339" y="66"/>
                  </a:lnTo>
                  <a:lnTo>
                    <a:pt x="349" y="86"/>
                  </a:lnTo>
                  <a:lnTo>
                    <a:pt x="353" y="109"/>
                  </a:lnTo>
                  <a:lnTo>
                    <a:pt x="349" y="131"/>
                  </a:lnTo>
                  <a:lnTo>
                    <a:pt x="339" y="152"/>
                  </a:lnTo>
                  <a:lnTo>
                    <a:pt x="322" y="171"/>
                  </a:lnTo>
                  <a:lnTo>
                    <a:pt x="301" y="188"/>
                  </a:lnTo>
                  <a:lnTo>
                    <a:pt x="275" y="200"/>
                  </a:lnTo>
                  <a:lnTo>
                    <a:pt x="246" y="210"/>
                  </a:lnTo>
                  <a:lnTo>
                    <a:pt x="213" y="217"/>
                  </a:lnTo>
                  <a:lnTo>
                    <a:pt x="175" y="219"/>
                  </a:lnTo>
                  <a:lnTo>
                    <a:pt x="0" y="219"/>
                  </a:lnTo>
                  <a:lnTo>
                    <a:pt x="0" y="0"/>
                  </a:lnTo>
                  <a:lnTo>
                    <a:pt x="175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323760" y="5532120"/>
              <a:ext cx="369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Trabaj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137000" y="5532120"/>
              <a:ext cx="584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Desperdici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547680" y="571788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551360" y="595152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551360" y="615312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551360" y="632124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551360" y="647712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551360" y="663228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096240" y="5532120"/>
              <a:ext cx="720" cy="122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096240" y="5532120"/>
              <a:ext cx="14400" cy="122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099920" y="5532120"/>
              <a:ext cx="720" cy="122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99920" y="5532120"/>
              <a:ext cx="14760" cy="122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8102520" y="5532120"/>
              <a:ext cx="720" cy="122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8102520" y="5532120"/>
              <a:ext cx="15480" cy="122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9" name=""/>
          <p:cNvSpPr/>
          <p:nvPr/>
        </p:nvSpPr>
        <p:spPr>
          <a:xfrm flipV="1">
            <a:off x="5106960" y="4723920"/>
            <a:ext cx="65160" cy="801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5092560" y="5202000"/>
            <a:ext cx="1540080" cy="323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318280" y="5029200"/>
            <a:ext cx="439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B778A-1F5F-408D-B123-14A3CEB404ED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611280" y="260280"/>
            <a:ext cx="48862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Rediseñ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58760" y="1371600"/>
            <a:ext cx="2438280" cy="10666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4280" bIns="4428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tablecer dirección de camb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606680" y="2895480"/>
            <a:ext cx="3352680" cy="6098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4280" bIns="4428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Diseñar un nuevo proc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5" name=""/>
          <p:cNvCxnSpPr>
            <a:stCxn id="603" idx="2"/>
            <a:endCxn id="604" idx="1"/>
          </p:cNvCxnSpPr>
          <p:nvPr/>
        </p:nvCxnSpPr>
        <p:spPr>
          <a:xfrm flipH="1" rot="16200000">
            <a:off x="1110240" y="2704680"/>
            <a:ext cx="762840" cy="22932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6" name=""/>
          <p:cNvCxnSpPr>
            <a:stCxn id="604" idx="0"/>
            <a:endCxn id="603" idx="3"/>
          </p:cNvCxnSpPr>
          <p:nvPr/>
        </p:nvCxnSpPr>
        <p:spPr>
          <a:xfrm flipV="1" rot="16200000">
            <a:off x="2444040" y="2056680"/>
            <a:ext cx="991080" cy="68652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7" name=""/>
          <p:cNvSpPr/>
          <p:nvPr/>
        </p:nvSpPr>
        <p:spPr>
          <a:xfrm>
            <a:off x="3740040" y="4038480"/>
            <a:ext cx="3276720" cy="60984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4280" bIns="4428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Modelar y evaluar re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026040" y="5105520"/>
            <a:ext cx="3048120" cy="6094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4280" bIns="4428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Detallar y probar re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9" name=""/>
          <p:cNvCxnSpPr>
            <a:stCxn id="604" idx="2"/>
            <a:endCxn id="607" idx="1"/>
          </p:cNvCxnSpPr>
          <p:nvPr/>
        </p:nvCxnSpPr>
        <p:spPr>
          <a:xfrm flipH="1" rot="16200000">
            <a:off x="3092400" y="3695400"/>
            <a:ext cx="838800" cy="45792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0" name=""/>
          <p:cNvCxnSpPr>
            <a:stCxn id="607" idx="2"/>
            <a:endCxn id="608" idx="1"/>
          </p:cNvCxnSpPr>
          <p:nvPr/>
        </p:nvCxnSpPr>
        <p:spPr>
          <a:xfrm flipH="1" rot="16200000">
            <a:off x="5320440" y="4705200"/>
            <a:ext cx="762480" cy="64836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1" name=""/>
          <p:cNvSpPr/>
          <p:nvPr/>
        </p:nvSpPr>
        <p:spPr>
          <a:xfrm>
            <a:off x="0" y="260280"/>
            <a:ext cx="990720" cy="990720"/>
          </a:xfrm>
          <a:custGeom>
            <a:avLst/>
            <a:gdLst>
              <a:gd name="textAreaLeft" fmla="*/ 154800 w 990720"/>
              <a:gd name="textAreaRight" fmla="*/ 866880 w 99072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C24AA-A30D-400B-8B68-45C29941F85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¿Qué es un proceso?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8534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2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Es una secuencia y encadenamiento de pasos, operaciones o transformaciones relacionadas a un conjunto específico de insumos o actividades que intentan producir un resultado, ya sea un producto o la prestación de un servicio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Esta transformación se define claramente por la arquitectura de proceso, que incorpora 5 elementos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295280" indent="-539640">
              <a:lnSpc>
                <a:spcPct val="120000"/>
              </a:lnSpc>
              <a:spcBef>
                <a:spcPts val="400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66"/>
                </a:solidFill>
                <a:latin typeface="Arial"/>
              </a:rPr>
              <a:t>Entradas y Salidas (inputs o outputs)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2" marL="1295280" indent="-539640">
              <a:lnSpc>
                <a:spcPct val="120000"/>
              </a:lnSpc>
              <a:spcBef>
                <a:spcPts val="400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66"/>
                </a:solidFill>
                <a:latin typeface="Arial"/>
              </a:rPr>
              <a:t>Unidades de flujo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2" marL="1295280" indent="-539640">
              <a:lnSpc>
                <a:spcPct val="120000"/>
              </a:lnSpc>
              <a:spcBef>
                <a:spcPts val="400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66"/>
                </a:solidFill>
                <a:latin typeface="Arial"/>
              </a:rPr>
              <a:t>Una red de actividades y almacenes (buffers)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2" marL="1295280" indent="-539640">
              <a:lnSpc>
                <a:spcPct val="120000"/>
              </a:lnSpc>
              <a:spcBef>
                <a:spcPts val="400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66"/>
                </a:solidFill>
                <a:latin typeface="Arial"/>
              </a:rPr>
              <a:t>Recursos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2" marL="1295280" indent="-539640">
              <a:lnSpc>
                <a:spcPct val="120000"/>
              </a:lnSpc>
              <a:spcBef>
                <a:spcPts val="400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66"/>
                </a:solidFill>
                <a:latin typeface="Arial"/>
              </a:rPr>
              <a:t>Estructura de información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3CBC9-F8C5-400F-826B-438A23F14784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¿Cómo hago el rediseño de los procesos ?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31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9000" indent="-1890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En esto no hay recetas, pero si algunas orientaciones básicas que sirven para conducir el cambio en los proceso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9000" indent="-1890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Cada una de estas posibilidades debe analizarse en función del proceso que se quiere rediseñar..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9000" indent="-1890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Conceptos útiles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5200" indent="-18576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Desperdicio: errores en la ejecución; retrabajos; etc. 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5200" indent="-18576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Actividad que No Agrega Valor: representa las actividades que están demás, que impiden el avance ágil del proceso, sólo agrega costos y tiempo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5200" indent="-18576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Lo central en el rediseño es identificar y eliminar el desperdicio y actividades que no agregan valor en los procesos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18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3E3E1-620A-432D-8BAB-E2DAED571A72}" type="slidenum">
              <a:t>20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4920" y="131400"/>
            <a:ext cx="7999200" cy="11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Direcciones de cambio posible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8040" y="1312560"/>
            <a:ext cx="8066160" cy="46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Eliminar y/o reducir desperdicio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Simplificar, simplificar, simplifica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Combinar pasos de proceso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Crear rutas alterna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Trabajar en paralelo, no en líne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Disminuir la VARIABILIDA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Captar la información en el orige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Mejorar la coordinación y comunicación entre grupos de trabaj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Automatización y utilización de tecnologí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Dejar que los clientes ayuden en el proces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47973-2D82-4776-9E29-E9FA00634428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26560" y="0"/>
            <a:ext cx="721692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"/>
              </a:rPr>
              <a:t>Los procesos no solo generan resultados deseados, también producen desperdicio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390600" y="1341000"/>
            <a:ext cx="8408880" cy="305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Sobreproducció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Tiempos de espera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Escoria o material de desech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Pérdidas por transport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Pérdidas por procesamient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Inventari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Desperdicio de movimiento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Productos defectuoso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Reclamo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250920" y="0"/>
            <a:ext cx="693108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Mejorando la coordinación y comunicación entre grupos de trabajo a través de las 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300720" y="4797360"/>
            <a:ext cx="2590920" cy="16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77840" indent="-177840"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1600" spc="-1" strike="noStrike">
                <a:solidFill>
                  <a:srgbClr val="000066"/>
                </a:solidFill>
                <a:latin typeface="Arial"/>
              </a:rPr>
              <a:t>RELACIONES 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1600" spc="-1" strike="noStrike">
                <a:solidFill>
                  <a:srgbClr val="000066"/>
                </a:solidFill>
                <a:latin typeface="Arial"/>
              </a:rPr>
              <a:t>OTRAS ORGANIZ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90000"/>
              </a:lnSpc>
              <a:buClr>
                <a:srgbClr val="000066"/>
              </a:buClr>
              <a:buSzPct val="70000"/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1600" spc="-1" strike="noStrike">
                <a:solidFill>
                  <a:srgbClr val="000066"/>
                </a:solidFill>
                <a:latin typeface="Arial"/>
              </a:rPr>
              <a:t>Utilizando tecnología: Internet, Call Center, Work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50760" y="3716280"/>
            <a:ext cx="3657600" cy="26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77840" indent="-177840"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1600" spc="-1" strike="noStrike">
                <a:solidFill>
                  <a:srgbClr val="000066"/>
                </a:solidFill>
                <a:latin typeface="Arial"/>
              </a:rPr>
              <a:t>RELACIONES INTERNA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1600" spc="-1" strike="noStrike">
                <a:solidFill>
                  <a:srgbClr val="000066"/>
                </a:solidFill>
                <a:latin typeface="Arial"/>
              </a:rPr>
              <a:t>HORIZONTALES </a:t>
            </a:r>
            <a:r>
              <a:rPr b="0" lang="es-CL" sz="1400" spc="-1" strike="noStrike">
                <a:solidFill>
                  <a:srgbClr val="000066"/>
                </a:solidFill>
                <a:latin typeface="Arial"/>
              </a:rPr>
              <a:t>(en el mismo nivel)</a:t>
            </a:r>
            <a:r>
              <a:rPr b="1" lang="es-CL" sz="1600" spc="-1" strike="noStrike">
                <a:solidFill>
                  <a:srgbClr val="000066"/>
                </a:solidFill>
                <a:latin typeface="Arial"/>
              </a:rPr>
              <a:t> Y VERTICALES </a:t>
            </a:r>
            <a:r>
              <a:rPr b="0" lang="es-CL" sz="1400" spc="-1" strike="noStrike">
                <a:solidFill>
                  <a:srgbClr val="000066"/>
                </a:solidFill>
                <a:latin typeface="Arial"/>
              </a:rPr>
              <a:t>(entre dueños y subordinado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90000"/>
              </a:lnSpc>
              <a:buClr>
                <a:srgbClr val="000066"/>
              </a:buClr>
              <a:buSzPct val="70000"/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1600" spc="-1" strike="noStrike">
                <a:solidFill>
                  <a:srgbClr val="000066"/>
                </a:solidFill>
                <a:latin typeface="Arial"/>
              </a:rPr>
              <a:t>Workflow –Direcciona automáticamente documentos en rutas predefinidas respetando secuencia y prerequisi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90000"/>
              </a:lnSpc>
              <a:buClr>
                <a:srgbClr val="000066"/>
              </a:buClr>
              <a:buSzPct val="70000"/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1600" spc="-1" strike="noStrike">
                <a:solidFill>
                  <a:srgbClr val="000066"/>
                </a:solidFill>
                <a:latin typeface="Arial"/>
              </a:rPr>
              <a:t>Groupware: Apoya grupos de trabajo que deben compartir inform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505480" y="1447920"/>
            <a:ext cx="3352680" cy="20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77840" indent="-177840"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1600" spc="-1" strike="noStrike">
                <a:solidFill>
                  <a:srgbClr val="000066"/>
                </a:solidFill>
                <a:latin typeface="Arial"/>
              </a:rPr>
              <a:t>RELACIONES CON LOS CLIENTES EXTER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90000"/>
              </a:lnSpc>
              <a:buClr>
                <a:srgbClr val="000066"/>
              </a:buClr>
              <a:buSzPct val="70000"/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1600" spc="-1" strike="noStrike">
                <a:solidFill>
                  <a:srgbClr val="000066"/>
                </a:solidFill>
                <a:latin typeface="Arial"/>
              </a:rPr>
              <a:t>Reclamos y suger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90000"/>
              </a:lnSpc>
              <a:buClr>
                <a:srgbClr val="000066"/>
              </a:buClr>
              <a:buSzPct val="70000"/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1600" spc="-1" strike="noStrike">
                <a:solidFill>
                  <a:srgbClr val="000066"/>
                </a:solidFill>
                <a:latin typeface="Arial"/>
              </a:rPr>
              <a:t>Participación activa en el diseño de procesos y produc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90000"/>
              </a:lnSpc>
              <a:buClr>
                <a:srgbClr val="000066"/>
              </a:buClr>
              <a:buSzPct val="70000"/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1600" spc="-1" strike="noStrike">
                <a:solidFill>
                  <a:srgbClr val="000066"/>
                </a:solidFill>
                <a:latin typeface="Arial"/>
              </a:rPr>
              <a:t>Permitir que el cliente tenga acceso a más información para que pueda tomar decision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4267080" y="5486400"/>
            <a:ext cx="1898640" cy="984240"/>
            <a:chOff x="4267080" y="5486400"/>
            <a:chExt cx="1898640" cy="984240"/>
          </a:xfrm>
        </p:grpSpPr>
        <p:sp>
          <p:nvSpPr>
            <p:cNvPr id="625" name=""/>
            <p:cNvSpPr/>
            <p:nvPr/>
          </p:nvSpPr>
          <p:spPr>
            <a:xfrm>
              <a:off x="4267080" y="5486400"/>
              <a:ext cx="1898640" cy="9842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26" name=""/>
            <p:cNvGraphicFramePr/>
            <p:nvPr/>
          </p:nvGraphicFramePr>
          <p:xfrm>
            <a:off x="4426200" y="5679720"/>
            <a:ext cx="599400" cy="520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2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426200" y="5679720"/>
                      <a:ext cx="599400" cy="52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28" name=""/>
            <p:cNvGraphicFramePr/>
            <p:nvPr/>
          </p:nvGraphicFramePr>
          <p:xfrm>
            <a:off x="5080320" y="5679720"/>
            <a:ext cx="871920" cy="561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2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80320" y="5679720"/>
                      <a:ext cx="871920" cy="56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30" name=""/>
          <p:cNvSpPr/>
          <p:nvPr/>
        </p:nvSpPr>
        <p:spPr>
          <a:xfrm>
            <a:off x="2438280" y="2286000"/>
            <a:ext cx="2743200" cy="32004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438280" y="2209680"/>
            <a:ext cx="3124440" cy="1828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609480" y="1447920"/>
            <a:ext cx="1892520" cy="1143000"/>
            <a:chOff x="609480" y="1447920"/>
            <a:chExt cx="1892520" cy="1143000"/>
          </a:xfrm>
        </p:grpSpPr>
        <p:sp>
          <p:nvSpPr>
            <p:cNvPr id="633" name=""/>
            <p:cNvSpPr/>
            <p:nvPr/>
          </p:nvSpPr>
          <p:spPr>
            <a:xfrm flipV="1">
              <a:off x="1476360" y="1687320"/>
              <a:ext cx="117000" cy="66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09480" y="1447920"/>
              <a:ext cx="1892520" cy="11430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435320" y="1571040"/>
              <a:ext cx="323280" cy="1159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15760" y="1940760"/>
              <a:ext cx="199440" cy="1159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270080" y="1940760"/>
              <a:ext cx="199440" cy="1159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724040" y="1940760"/>
              <a:ext cx="199440" cy="1159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137320" y="1940760"/>
              <a:ext cx="199440" cy="1159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V="1">
              <a:off x="898560" y="1686960"/>
              <a:ext cx="570960" cy="29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765440" y="1694160"/>
              <a:ext cx="7560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>
              <a:off x="1427760" y="1694160"/>
              <a:ext cx="171720" cy="28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765440" y="1694160"/>
              <a:ext cx="40572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022400" y="2019240"/>
              <a:ext cx="24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476360" y="2019240"/>
              <a:ext cx="24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930680" y="2019240"/>
              <a:ext cx="19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311480" y="2351160"/>
              <a:ext cx="199440" cy="11628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98560" y="2063880"/>
              <a:ext cx="405720" cy="36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390320" y="2063880"/>
              <a:ext cx="0" cy="28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V="1">
              <a:off x="1476360" y="2057040"/>
              <a:ext cx="323280" cy="37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V="1">
              <a:off x="1559160" y="2056680"/>
              <a:ext cx="694800" cy="33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V="1">
              <a:off x="1476360" y="1687320"/>
              <a:ext cx="199440" cy="66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5334120" y="3892680"/>
            <a:ext cx="1746000" cy="831600"/>
            <a:chOff x="5334120" y="3892680"/>
            <a:chExt cx="1746000" cy="831600"/>
          </a:xfrm>
        </p:grpSpPr>
        <p:sp>
          <p:nvSpPr>
            <p:cNvPr id="654" name=""/>
            <p:cNvSpPr/>
            <p:nvPr/>
          </p:nvSpPr>
          <p:spPr>
            <a:xfrm>
              <a:off x="5334120" y="3892680"/>
              <a:ext cx="1746000" cy="8316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55" name=""/>
            <p:cNvGraphicFramePr/>
            <p:nvPr/>
          </p:nvGraphicFramePr>
          <p:xfrm>
            <a:off x="5712120" y="3931560"/>
            <a:ext cx="917280" cy="723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5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712120" y="3931560"/>
                      <a:ext cx="917280" cy="723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8E0C1-4FC8-4123-ABD7-87133550B1ED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380880" y="5735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819520" y="5735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Automatización y utilización de la tecnología..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660" name=""/>
          <p:cNvGraphicFramePr/>
          <p:nvPr/>
        </p:nvGraphicFramePr>
        <p:xfrm>
          <a:off x="608040" y="2284560"/>
          <a:ext cx="457200" cy="47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040" y="2284560"/>
                    <a:ext cx="457200" cy="47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2" name=""/>
          <p:cNvGraphicFramePr/>
          <p:nvPr/>
        </p:nvGraphicFramePr>
        <p:xfrm>
          <a:off x="760320" y="2513160"/>
          <a:ext cx="457200" cy="47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0320" y="2513160"/>
                    <a:ext cx="457200" cy="47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4" name=""/>
          <p:cNvGraphicFramePr/>
          <p:nvPr/>
        </p:nvGraphicFramePr>
        <p:xfrm>
          <a:off x="912960" y="2741760"/>
          <a:ext cx="457200" cy="479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12960" y="2741760"/>
                    <a:ext cx="457200" cy="47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6" name=""/>
          <p:cNvGraphicFramePr/>
          <p:nvPr/>
        </p:nvGraphicFramePr>
        <p:xfrm>
          <a:off x="3198960" y="2519280"/>
          <a:ext cx="457200" cy="549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6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98960" y="2519280"/>
                    <a:ext cx="45720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8" name=""/>
          <p:cNvGraphicFramePr/>
          <p:nvPr/>
        </p:nvGraphicFramePr>
        <p:xfrm>
          <a:off x="8075520" y="2665440"/>
          <a:ext cx="457200" cy="555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6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075520" y="2665440"/>
                    <a:ext cx="45720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0" name=""/>
          <p:cNvGraphicFramePr/>
          <p:nvPr/>
        </p:nvGraphicFramePr>
        <p:xfrm>
          <a:off x="8151840" y="2513160"/>
          <a:ext cx="457200" cy="555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7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8151840" y="2513160"/>
                    <a:ext cx="45720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2" name=""/>
          <p:cNvGraphicFramePr/>
          <p:nvPr/>
        </p:nvGraphicFramePr>
        <p:xfrm>
          <a:off x="8304120" y="2360520"/>
          <a:ext cx="457200" cy="555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7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304120" y="2360520"/>
                    <a:ext cx="457200" cy="5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4" name=""/>
          <p:cNvSpPr/>
          <p:nvPr/>
        </p:nvSpPr>
        <p:spPr>
          <a:xfrm>
            <a:off x="739800" y="1371600"/>
            <a:ext cx="4594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00160" indent="856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) Proceso conven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816120" y="3627360"/>
            <a:ext cx="4518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00160" indent="856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b) Proceso automatiz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6" name=""/>
          <p:cNvGraphicFramePr/>
          <p:nvPr/>
        </p:nvGraphicFramePr>
        <p:xfrm>
          <a:off x="5332320" y="2595600"/>
          <a:ext cx="457200" cy="549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7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332320" y="2595600"/>
                    <a:ext cx="45720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8" name=""/>
          <p:cNvGraphicFramePr/>
          <p:nvPr/>
        </p:nvGraphicFramePr>
        <p:xfrm>
          <a:off x="760320" y="2436840"/>
          <a:ext cx="457200" cy="479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7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60320" y="2436840"/>
                    <a:ext cx="45720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0" name=""/>
          <p:cNvGraphicFramePr/>
          <p:nvPr/>
        </p:nvGraphicFramePr>
        <p:xfrm>
          <a:off x="912960" y="2665440"/>
          <a:ext cx="457200" cy="4795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8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912960" y="2665440"/>
                    <a:ext cx="45720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2" name=""/>
          <p:cNvGraphicFramePr/>
          <p:nvPr/>
        </p:nvGraphicFramePr>
        <p:xfrm>
          <a:off x="4341960" y="5354640"/>
          <a:ext cx="457200" cy="5335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83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341960" y="5354640"/>
                    <a:ext cx="4572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4" name=""/>
          <p:cNvGraphicFramePr/>
          <p:nvPr/>
        </p:nvGraphicFramePr>
        <p:xfrm>
          <a:off x="4417920" y="5506920"/>
          <a:ext cx="457200" cy="5335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685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417920" y="5506920"/>
                    <a:ext cx="4572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6" name=""/>
          <p:cNvGraphicFramePr/>
          <p:nvPr/>
        </p:nvGraphicFramePr>
        <p:xfrm>
          <a:off x="4570560" y="5659560"/>
          <a:ext cx="457200" cy="5331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687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570560" y="5659560"/>
                    <a:ext cx="45720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8" name=""/>
          <p:cNvSpPr/>
          <p:nvPr/>
        </p:nvSpPr>
        <p:spPr>
          <a:xfrm>
            <a:off x="3586320" y="5735520"/>
            <a:ext cx="672840" cy="0"/>
          </a:xfrm>
          <a:prstGeom prst="line">
            <a:avLst/>
          </a:prstGeom>
          <a:ln w="1260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528920" y="2840040"/>
            <a:ext cx="672840" cy="0"/>
          </a:xfrm>
          <a:prstGeom prst="line">
            <a:avLst/>
          </a:prstGeom>
          <a:ln w="1260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0" name=""/>
          <p:cNvGraphicFramePr/>
          <p:nvPr/>
        </p:nvGraphicFramePr>
        <p:xfrm>
          <a:off x="2057400" y="2022480"/>
          <a:ext cx="1066680" cy="12524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691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057400" y="2022480"/>
                    <a:ext cx="1066680" cy="12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2" name=""/>
          <p:cNvSpPr/>
          <p:nvPr/>
        </p:nvSpPr>
        <p:spPr>
          <a:xfrm>
            <a:off x="2900520" y="3297240"/>
            <a:ext cx="1358640" cy="0"/>
          </a:xfrm>
          <a:prstGeom prst="line">
            <a:avLst/>
          </a:prstGeom>
          <a:ln w="1260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186520" y="3297240"/>
            <a:ext cx="1358640" cy="0"/>
          </a:xfrm>
          <a:prstGeom prst="line">
            <a:avLst/>
          </a:prstGeom>
          <a:ln w="1260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7243920" y="2840040"/>
            <a:ext cx="672840" cy="0"/>
          </a:xfrm>
          <a:prstGeom prst="line">
            <a:avLst/>
          </a:prstGeom>
          <a:ln w="1260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5326200" y="5735520"/>
            <a:ext cx="698400" cy="0"/>
          </a:xfrm>
          <a:prstGeom prst="line">
            <a:avLst/>
          </a:prstGeom>
          <a:ln w="1260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4982760" y="5056200"/>
            <a:ext cx="50760" cy="353880"/>
          </a:xfrm>
          <a:prstGeom prst="line">
            <a:avLst/>
          </a:prstGeom>
          <a:ln w="1260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979520" y="6192720"/>
            <a:ext cx="1655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Base de da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8" name=""/>
          <p:cNvGraphicFramePr/>
          <p:nvPr/>
        </p:nvGraphicFramePr>
        <p:xfrm>
          <a:off x="4038480" y="2001960"/>
          <a:ext cx="1067040" cy="12524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699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4038480" y="2001960"/>
                    <a:ext cx="1067040" cy="12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0" name=""/>
          <p:cNvGraphicFramePr/>
          <p:nvPr/>
        </p:nvGraphicFramePr>
        <p:xfrm>
          <a:off x="6324480" y="2077920"/>
          <a:ext cx="1067040" cy="12528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701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6324480" y="2077920"/>
                    <a:ext cx="106704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2" name=""/>
          <p:cNvGraphicFramePr/>
          <p:nvPr/>
        </p:nvGraphicFramePr>
        <p:xfrm>
          <a:off x="4495680" y="3678120"/>
          <a:ext cx="1067040" cy="125280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703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4495680" y="3678120"/>
                    <a:ext cx="106704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4" name=""/>
          <p:cNvGraphicFramePr/>
          <p:nvPr/>
        </p:nvGraphicFramePr>
        <p:xfrm>
          <a:off x="6019920" y="4821120"/>
          <a:ext cx="1066680" cy="125280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705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6019920" y="4821120"/>
                    <a:ext cx="106668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6" name=""/>
          <p:cNvGraphicFramePr/>
          <p:nvPr/>
        </p:nvGraphicFramePr>
        <p:xfrm>
          <a:off x="2514600" y="4897440"/>
          <a:ext cx="1066680" cy="125244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707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2514600" y="4897440"/>
                    <a:ext cx="1066680" cy="12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96919-AC0C-4198-BAD5-EF253E8ECDE7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Dejar que los clientes ayuden en el proces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773280" y="1268280"/>
            <a:ext cx="7432560" cy="243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00160" indent="85680">
              <a:lnSpc>
                <a:spcPct val="11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Ingreso de información por parte del client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76440">
              <a:lnSpc>
                <a:spcPct val="110000"/>
              </a:lnSpc>
              <a:buClr>
                <a:srgbClr val="000066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Fiscalización basada en Interne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00160" indent="85680">
              <a:lnSpc>
                <a:spcPct val="11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Dejar que el cliente tenga acceso a más información y pueda decidir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00160" indent="85680">
              <a:lnSpc>
                <a:spcPct val="11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Autoservici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00160" indent="85680">
              <a:lnSpc>
                <a:spcPct val="11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Control del proceso por parte del cliente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AF554-43E6-41D2-87B1-8259E30DFC82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900080" y="291960"/>
            <a:ext cx="4962600" cy="7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Implemen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990720" y="1828800"/>
            <a:ext cx="2819160" cy="10666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4280" bIns="4428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Diseñar el plan de Imple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819520" y="3352680"/>
            <a:ext cx="3352680" cy="6858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4280" bIns="4428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Implemen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4" name=""/>
          <p:cNvCxnSpPr>
            <a:stCxn id="712" idx="2"/>
            <a:endCxn id="713" idx="1"/>
          </p:cNvCxnSpPr>
          <p:nvPr/>
        </p:nvCxnSpPr>
        <p:spPr>
          <a:xfrm flipH="1" rot="16200000">
            <a:off x="2209680" y="3085560"/>
            <a:ext cx="801000" cy="41976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5" name=""/>
          <p:cNvCxnSpPr>
            <a:stCxn id="713" idx="0"/>
            <a:endCxn id="712" idx="3"/>
          </p:cNvCxnSpPr>
          <p:nvPr/>
        </p:nvCxnSpPr>
        <p:spPr>
          <a:xfrm flipV="1" rot="16200000">
            <a:off x="3656880" y="2513880"/>
            <a:ext cx="991080" cy="68652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6" name=""/>
          <p:cNvSpPr/>
          <p:nvPr/>
        </p:nvSpPr>
        <p:spPr>
          <a:xfrm>
            <a:off x="4952880" y="4495680"/>
            <a:ext cx="3276720" cy="60984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4280" bIns="4428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Medición y Evalu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7" name=""/>
          <p:cNvCxnSpPr>
            <a:stCxn id="713" idx="2"/>
            <a:endCxn id="716" idx="1"/>
          </p:cNvCxnSpPr>
          <p:nvPr/>
        </p:nvCxnSpPr>
        <p:spPr>
          <a:xfrm flipH="1" rot="16200000">
            <a:off x="4343040" y="4190400"/>
            <a:ext cx="762840" cy="45792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8" name=""/>
          <p:cNvCxnSpPr>
            <a:stCxn id="716" idx="0"/>
            <a:endCxn id="713" idx="3"/>
          </p:cNvCxnSpPr>
          <p:nvPr/>
        </p:nvCxnSpPr>
        <p:spPr>
          <a:xfrm flipV="1" rot="16200000">
            <a:off x="5981400" y="3885480"/>
            <a:ext cx="800640" cy="41976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9" name=""/>
          <p:cNvSpPr/>
          <p:nvPr/>
        </p:nvSpPr>
        <p:spPr>
          <a:xfrm>
            <a:off x="0" y="304920"/>
            <a:ext cx="990720" cy="990360"/>
          </a:xfrm>
          <a:custGeom>
            <a:avLst/>
            <a:gdLst>
              <a:gd name="textAreaLeft" fmla="*/ 154800 w 990720"/>
              <a:gd name="textAreaRight" fmla="*/ 866880 w 990720"/>
              <a:gd name="textAreaTop" fmla="*/ 247680 h 990360"/>
              <a:gd name="textAreaBottom" fmla="*/ 743040 h 99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dddddd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0D06E-8A5E-4AC6-8CCC-081AFD355860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La implementación es clave en el éxito de un rediseño de proceso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151920" y="1142640"/>
            <a:ext cx="63248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No sirve un cuidadoso proceso previo si no se hace una muy buena implementación del rediseño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Consideraciones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Explicar los alcances del rediseño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Capacita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Asegurar los </a:t>
            </a: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medios y tecnologías de apoy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Administración de proyecto y del cambi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Preocupación por los detall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Transició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Apoyo gerencial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562720" y="3962520"/>
            <a:ext cx="3581280" cy="2361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Esquemas de implementa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Pilo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Marcha blan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Paral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Salto al vací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mplantación grad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087F4-65D7-4A47-8ABF-0EAEAB3DE53A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3" name=""/>
          <p:cNvGraphicFramePr/>
          <p:nvPr/>
        </p:nvGraphicFramePr>
        <p:xfrm>
          <a:off x="76320" y="57240"/>
          <a:ext cx="9067680" cy="680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57240"/>
                    <a:ext cx="9067680" cy="68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5" name=""/>
          <p:cNvSpPr/>
          <p:nvPr/>
        </p:nvSpPr>
        <p:spPr>
          <a:xfrm>
            <a:off x="4211640" y="57240"/>
            <a:ext cx="367344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Rediseño de Cobranza en Tesorería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CA50B-53A7-4616-94F7-C831FE793B0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" descr=""/>
          <p:cNvPicPr/>
          <p:nvPr/>
        </p:nvPicPr>
        <p:blipFill>
          <a:blip r:embed="rId1"/>
          <a:stretch/>
        </p:blipFill>
        <p:spPr>
          <a:xfrm>
            <a:off x="181080" y="550800"/>
            <a:ext cx="718920" cy="646200"/>
          </a:xfrm>
          <a:prstGeom prst="rect">
            <a:avLst/>
          </a:prstGeom>
          <a:ln w="0">
            <a:noFill/>
          </a:ln>
        </p:spPr>
      </p:pic>
      <p:sp>
        <p:nvSpPr>
          <p:cNvPr id="727" name=""/>
          <p:cNvSpPr/>
          <p:nvPr/>
        </p:nvSpPr>
        <p:spPr>
          <a:xfrm>
            <a:off x="179280" y="1268280"/>
            <a:ext cx="878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187280" y="0"/>
            <a:ext cx="7201080" cy="15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900000" y="457200"/>
            <a:ext cx="80154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6699"/>
                </a:solidFill>
                <a:latin typeface="Century Gothic"/>
              </a:rPr>
              <a:t>Incremento en la Recaudación Por Acciones de Cobranza (Año 2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690560" y="6629400"/>
            <a:ext cx="610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entury Gothic"/>
              </a:rPr>
              <a:t>* Tipo de cambio Nominal promedio anual del dólar observado. Fuente Banco Central de Chi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1" name="" descr=""/>
          <p:cNvPicPr/>
          <p:nvPr/>
        </p:nvPicPr>
        <p:blipFill>
          <a:blip r:embed="rId2"/>
          <a:stretch/>
        </p:blipFill>
        <p:spPr>
          <a:xfrm>
            <a:off x="2362320" y="4572000"/>
            <a:ext cx="4514760" cy="2039760"/>
          </a:xfrm>
          <a:prstGeom prst="rect">
            <a:avLst/>
          </a:prstGeom>
          <a:ln w="0">
            <a:noFill/>
          </a:ln>
        </p:spPr>
      </p:pic>
      <p:pic>
        <p:nvPicPr>
          <p:cNvPr id="732" name="" descr=""/>
          <p:cNvPicPr/>
          <p:nvPr/>
        </p:nvPicPr>
        <p:blipFill>
          <a:blip r:embed="rId3"/>
          <a:stretch/>
        </p:blipFill>
        <p:spPr>
          <a:xfrm>
            <a:off x="1905120" y="1295280"/>
            <a:ext cx="5486400" cy="3205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95E6A-D8CE-44C8-AB27-F707E301539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00000" y="2602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RGANIGRAMA TRADI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24440" y="1079640"/>
            <a:ext cx="1206360" cy="52056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24040" y="2070000"/>
            <a:ext cx="977760" cy="59688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43000" y="2070000"/>
            <a:ext cx="1206720" cy="59688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14600" y="2070000"/>
            <a:ext cx="978120" cy="59688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33920" y="2070000"/>
            <a:ext cx="1130400" cy="59688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05520" y="2070000"/>
            <a:ext cx="1130400" cy="59688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00800" y="2070000"/>
            <a:ext cx="1054080" cy="59688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57800" y="3213000"/>
            <a:ext cx="74952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00000" y="3213000"/>
            <a:ext cx="74952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90720" y="4203720"/>
            <a:ext cx="74916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024440" y="3213000"/>
            <a:ext cx="74916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33720" y="3213000"/>
            <a:ext cx="74916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14800" y="3213000"/>
            <a:ext cx="74952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148520" y="3213000"/>
            <a:ext cx="74916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81840" y="4660920"/>
            <a:ext cx="74916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48120" y="4660920"/>
            <a:ext cx="74916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14800" y="4660920"/>
            <a:ext cx="74952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81440" y="4203720"/>
            <a:ext cx="74916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90720" y="3213000"/>
            <a:ext cx="74916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00000" y="4203720"/>
            <a:ext cx="74952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13280" y="1144440"/>
            <a:ext cx="1305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e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91720" y="2233440"/>
            <a:ext cx="807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ficial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47280" y="2233440"/>
            <a:ext cx="1146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legac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671000" y="2233440"/>
            <a:ext cx="1127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bdire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08120" y="2233440"/>
            <a:ext cx="818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efatur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335000" y="2081160"/>
            <a:ext cx="94788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ten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iudada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1447920"/>
            <a:ext cx="0" cy="3682800"/>
          </a:xfrm>
          <a:prstGeom prst="line">
            <a:avLst/>
          </a:prstGeom>
          <a:ln w="50760">
            <a:solidFill>
              <a:srgbClr val="3399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610480" y="1371600"/>
            <a:ext cx="0" cy="3759120"/>
          </a:xfrm>
          <a:prstGeom prst="line">
            <a:avLst/>
          </a:prstGeom>
          <a:ln w="507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4080" y="5270400"/>
            <a:ext cx="1802880" cy="5454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La información fluy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hacia arrib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127560" y="5346720"/>
            <a:ext cx="2549880" cy="5454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Las Políticas y Desiciones so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esplegadas hacia abaj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81240" y="1835280"/>
            <a:ext cx="6616440" cy="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04920" y="2978280"/>
            <a:ext cx="2197080" cy="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05320" y="2978280"/>
            <a:ext cx="825480" cy="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539040" y="2978280"/>
            <a:ext cx="977760" cy="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81240" y="3968640"/>
            <a:ext cx="1968480" cy="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253040" y="4425840"/>
            <a:ext cx="2197080" cy="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627440" y="16128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74760" y="1841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904160" y="1841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46360" y="1841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65680" y="1841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60960" y="1841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532560" y="1841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98440" y="2984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08480" y="2984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98840" y="2984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237280" y="2984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532560" y="2984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523280" y="2984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74760" y="397512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55840" y="397512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65480" y="2984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246560" y="443232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456240" y="443232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89560" y="443232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03360" y="2679840"/>
            <a:ext cx="0" cy="29196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237280" y="2679840"/>
            <a:ext cx="0" cy="52056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913440" y="2679840"/>
            <a:ext cx="0" cy="29196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65480" y="3670200"/>
            <a:ext cx="0" cy="29232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65480" y="397512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89560" y="3670200"/>
            <a:ext cx="0" cy="74952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106720" y="2233440"/>
            <a:ext cx="1067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veed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90520" y="927000"/>
            <a:ext cx="8521560" cy="516888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0A5D2-9B46-48D2-8F1B-9D632D48CFC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Mejoramiento de Productividad, Rediseño de Procesos de Servipag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734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458200" cy="4876920"/>
          </a:xfrm>
          <a:prstGeom prst="rect">
            <a:avLst/>
          </a:prstGeom>
          <a:ln w="0">
            <a:noFill/>
          </a:ln>
        </p:spPr>
      </p:pic>
      <p:sp>
        <p:nvSpPr>
          <p:cNvPr id="735" name=""/>
          <p:cNvSpPr/>
          <p:nvPr/>
        </p:nvSpPr>
        <p:spPr>
          <a:xfrm>
            <a:off x="7027920" y="6400800"/>
            <a:ext cx="10281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d9e1d5"/>
                </a:solidFill>
                <a:uFillTx/>
                <a:latin typeface="Times New Roman"/>
                <a:hlinkClick r:id="rId2" action="ppaction://hlinksldjump"/>
              </a:rPr>
              <a:t>Vol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43533-E2EC-49BF-BC89-8BA2EDA0CC6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533520" y="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RGANIGRAMAS FUTUROS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mo trabajan las organizaciones orientadas a los proceso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197240" y="1606680"/>
            <a:ext cx="90180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7560" y="2521080"/>
            <a:ext cx="74916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901960" y="2521080"/>
            <a:ext cx="74916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16360" y="2521080"/>
            <a:ext cx="74916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30760" y="2521080"/>
            <a:ext cx="8254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721480" y="2521080"/>
            <a:ext cx="74916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635880" y="2521080"/>
            <a:ext cx="74916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797440" y="3511440"/>
            <a:ext cx="6732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758960" y="3511440"/>
            <a:ext cx="6732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06680" y="4502160"/>
            <a:ext cx="6728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97240" y="3511440"/>
            <a:ext cx="6732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435480" y="3511440"/>
            <a:ext cx="6728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959360" y="3511440"/>
            <a:ext cx="6732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559560" y="3511440"/>
            <a:ext cx="6732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178680" y="4883040"/>
            <a:ext cx="6728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97240" y="4883040"/>
            <a:ext cx="6732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187960" y="4883040"/>
            <a:ext cx="6732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368440" y="4502160"/>
            <a:ext cx="6732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21080" y="3511440"/>
            <a:ext cx="6728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44560" y="4502160"/>
            <a:ext cx="6732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368440" y="2286000"/>
            <a:ext cx="4635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139840" y="3276720"/>
            <a:ext cx="173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654440" y="327672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25440" y="426708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25840" y="4648320"/>
            <a:ext cx="219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648320" y="20638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362320" y="22924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010280" y="22924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76720" y="22924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191120" y="22924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181480" y="22924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5880" y="22924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133720" y="32828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86200" y="32828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48320" y="32828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6400" y="32828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5880" y="32828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34320" y="32828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19320" y="42735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666880" y="42735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95480" y="32828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19720" y="46544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629400" y="46544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562720" y="46544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981080" y="42735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11040" y="1454040"/>
            <a:ext cx="8521920" cy="4711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62320" y="30542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133720" y="38926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181480" y="30542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562720" y="3892680"/>
            <a:ext cx="0" cy="9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95880" y="30542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102360" y="327672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934320" y="327672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87760" y="4273560"/>
            <a:ext cx="6732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86200" y="38926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28320" y="5423040"/>
            <a:ext cx="304812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Los eventos suceden horizontalment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606840" y="5867280"/>
            <a:ext cx="19303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7360" y="3511440"/>
            <a:ext cx="1206360" cy="596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42800" y="3629160"/>
            <a:ext cx="1146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rimie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570800" y="2444760"/>
            <a:ext cx="1206360" cy="596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756920" y="2562120"/>
            <a:ext cx="850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25760" y="3811680"/>
            <a:ext cx="55872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209680" y="2812680"/>
            <a:ext cx="0" cy="104148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762280" y="2813040"/>
            <a:ext cx="0" cy="162576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752560" y="4398840"/>
            <a:ext cx="154944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287960" y="2803680"/>
            <a:ext cx="0" cy="162540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695920" y="2809800"/>
            <a:ext cx="0" cy="147024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686560" y="4246560"/>
            <a:ext cx="139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7086600" y="2774520"/>
            <a:ext cx="0" cy="149868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059600" y="2752560"/>
            <a:ext cx="53496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0320" y="2838600"/>
            <a:ext cx="6094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260960" y="2809800"/>
            <a:ext cx="1447560" cy="972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679D1-9DF9-46DB-B338-C73E823964C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143000" y="5378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7265880" cy="90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¿Qué es un proceso?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121280" y="2276640"/>
            <a:ext cx="1511280" cy="977760"/>
          </a:xfrm>
          <a:prstGeom prst="rect">
            <a:avLst/>
          </a:prstGeom>
          <a:gradFill rotWithShape="0">
            <a:gsLst>
              <a:gs pos="0">
                <a:srgbClr val="4d71c9"/>
              </a:gs>
              <a:gs pos="50000">
                <a:srgbClr val="618ffd"/>
              </a:gs>
              <a:gs pos="100000">
                <a:srgbClr val="4d71c9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PROC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133720" y="2878200"/>
            <a:ext cx="196200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2651040"/>
            <a:ext cx="1828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700000" y="2249640"/>
            <a:ext cx="13852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Ent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(Insum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5657760" y="2801520"/>
            <a:ext cx="18097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694480" y="2249640"/>
            <a:ext cx="16048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Sa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(Produc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081760" y="1125360"/>
            <a:ext cx="2401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Retroali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52280" y="2192400"/>
            <a:ext cx="1968480" cy="1434960"/>
          </a:xfrm>
          <a:prstGeom prst="ellipse">
            <a:avLst/>
          </a:prstGeom>
          <a:gradFill rotWithShape="0">
            <a:gsLst>
              <a:gs pos="0">
                <a:srgbClr val="ab8449"/>
              </a:gs>
              <a:gs pos="50000">
                <a:srgbClr val="f6bf69"/>
              </a:gs>
              <a:gs pos="100000">
                <a:srgbClr val="ab8449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PROVEE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interno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exte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473960" y="2124000"/>
            <a:ext cx="1587600" cy="1435320"/>
          </a:xfrm>
          <a:prstGeom prst="ellipse">
            <a:avLst/>
          </a:prstGeom>
          <a:gradFill rotWithShape="0">
            <a:gsLst>
              <a:gs pos="0">
                <a:srgbClr val="ab8449"/>
              </a:gs>
              <a:gs pos="50000">
                <a:srgbClr val="f6bf69"/>
              </a:gs>
              <a:gs pos="100000">
                <a:srgbClr val="ab8449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interno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exte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43080" y="1511280"/>
            <a:ext cx="3419640" cy="1222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75" y="0"/>
                </a:moveTo>
                <a:arcTo wR="10800" hR="10800" stAng="-5376206" swAng="5376206"/>
                <a:lnTo>
                  <a:pt x="10800" y="10800"/>
                </a:lnTo>
                <a:close/>
              </a:path>
              <a:path fill="none" w="21600" h="21600">
                <a:moveTo>
                  <a:pt x="10875" y="0"/>
                </a:moveTo>
                <a:arcTo wR="10800" hR="10800" stAng="-5376206" swAng="5376206"/>
              </a:path>
            </a:pathLst>
          </a:custGeom>
          <a:noFill/>
          <a:ln cap="rnd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962600" y="1511280"/>
            <a:ext cx="3120840" cy="1373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4942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494200"/>
              </a:path>
            </a:pathLst>
          </a:custGeom>
          <a:noFill/>
          <a:ln cap="rnd"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027160" y="4325760"/>
            <a:ext cx="547920" cy="5558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032280" y="4311720"/>
            <a:ext cx="549000" cy="63180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55960" y="4325760"/>
            <a:ext cx="547920" cy="55584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86400" y="4325760"/>
            <a:ext cx="549000" cy="55584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18280" y="4311720"/>
            <a:ext cx="549000" cy="63180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32680" y="4311720"/>
            <a:ext cx="549000" cy="631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147080" y="4311720"/>
            <a:ext cx="549000" cy="72216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581280" y="4672080"/>
            <a:ext cx="182520" cy="9216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403880" y="4672080"/>
            <a:ext cx="91800" cy="9216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5135400" y="4672080"/>
            <a:ext cx="92160" cy="9216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5867280" y="4672080"/>
            <a:ext cx="274680" cy="9216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781680" y="4672080"/>
            <a:ext cx="274680" cy="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6507000" y="4951440"/>
            <a:ext cx="0" cy="45720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2300400" y="4951440"/>
            <a:ext cx="0" cy="45720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935000" y="5419800"/>
            <a:ext cx="1036800" cy="49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600" spc="-1" strike="noStrike">
                <a:solidFill>
                  <a:srgbClr val="000066"/>
                </a:solidFill>
                <a:latin typeface="Arial"/>
              </a:rPr>
              <a:t>insum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4495680" y="4951080"/>
            <a:ext cx="1096920" cy="63972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4495680" y="4951080"/>
            <a:ext cx="365400" cy="63972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 flipV="1">
            <a:off x="4129200" y="4951080"/>
            <a:ext cx="366480" cy="63972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581280" y="5607000"/>
            <a:ext cx="21337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600" spc="-1" strike="noStrike">
                <a:solidFill>
                  <a:srgbClr val="000066"/>
                </a:solidFill>
                <a:latin typeface="Arial"/>
              </a:rPr>
              <a:t>actividades de transformación que crean (o no) val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172200" y="5419800"/>
            <a:ext cx="974880" cy="41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600" spc="-1" strike="noStrike">
                <a:solidFill>
                  <a:srgbClr val="000066"/>
                </a:solidFill>
                <a:latin typeface="Arial"/>
              </a:rPr>
              <a:t>produ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329600" y="5046840"/>
            <a:ext cx="12049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600" spc="-1" strike="noStrike">
                <a:solidFill>
                  <a:srgbClr val="000066"/>
                </a:solidFill>
                <a:latin typeface="Arial"/>
              </a:rPr>
              <a:t>Valor cre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620120" y="5530680"/>
            <a:ext cx="0" cy="1005120"/>
          </a:xfrm>
          <a:prstGeom prst="line">
            <a:avLst/>
          </a:prstGeom>
          <a:ln cap="rnd" w="38160">
            <a:solidFill>
              <a:srgbClr val="cc33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1569960" y="4727520"/>
            <a:ext cx="0" cy="1736640"/>
          </a:xfrm>
          <a:prstGeom prst="line">
            <a:avLst/>
          </a:prstGeom>
          <a:ln cap="rnd" w="28440">
            <a:solidFill>
              <a:srgbClr val="cc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569960" y="4727520"/>
            <a:ext cx="273240" cy="0"/>
          </a:xfrm>
          <a:prstGeom prst="line">
            <a:avLst/>
          </a:prstGeom>
          <a:ln cap="rnd" w="38160">
            <a:solidFill>
              <a:srgbClr val="cc33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600200" y="6521400"/>
            <a:ext cx="6019920" cy="0"/>
          </a:xfrm>
          <a:prstGeom prst="line">
            <a:avLst/>
          </a:prstGeom>
          <a:ln cap="rnd" w="38160">
            <a:solidFill>
              <a:srgbClr val="cc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590920" y="4692600"/>
            <a:ext cx="30456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 flipV="1">
            <a:off x="3276720" y="4920840"/>
            <a:ext cx="1218960" cy="6858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rot="5400000">
            <a:off x="4381200" y="1315440"/>
            <a:ext cx="609480" cy="4953240"/>
          </a:xfrm>
          <a:custGeom>
            <a:avLst/>
            <a:gdLst>
              <a:gd name="textAreaLeft" fmla="*/ 389520 w 609480"/>
              <a:gd name="textAreaRight" fmla="*/ 609840 w 609480"/>
              <a:gd name="textAreaTop" fmla="*/ 128880 h 4953240"/>
              <a:gd name="textAreaBottom" fmla="*/ 4824360 h 4953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rcRect l="0" t="0" r="0" b="24749"/>
          <a:stretch/>
        </p:blipFill>
        <p:spPr>
          <a:xfrm>
            <a:off x="7272360" y="189000"/>
            <a:ext cx="1547640" cy="477720"/>
          </a:xfrm>
          <a:prstGeom prst="rect">
            <a:avLst/>
          </a:prstGeom>
          <a:ln w="0">
            <a:noFill/>
          </a:ln>
        </p:spPr>
      </p:pic>
      <p:grpSp>
        <p:nvGrpSpPr>
          <p:cNvPr id="272" name=""/>
          <p:cNvGrpSpPr/>
          <p:nvPr/>
        </p:nvGrpSpPr>
        <p:grpSpPr>
          <a:xfrm>
            <a:off x="324000" y="981000"/>
            <a:ext cx="8424360" cy="72720"/>
            <a:chOff x="324000" y="981000"/>
            <a:chExt cx="8424360" cy="72720"/>
          </a:xfrm>
        </p:grpSpPr>
        <p:sp>
          <p:nvSpPr>
            <p:cNvPr id="273" name=""/>
            <p:cNvSpPr/>
            <p:nvPr/>
          </p:nvSpPr>
          <p:spPr>
            <a:xfrm>
              <a:off x="324000" y="1053720"/>
              <a:ext cx="842436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24000" y="981000"/>
              <a:ext cx="842436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Atributos de un Proces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4560" y="1267920"/>
            <a:ext cx="41878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Costo del Proceso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Costo total incurrido en producir y entregar salidas (output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Tiempo del Proceso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Tiempo total que se necesita para transformar una unidad de entrada (input) a una unidad de salida (output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409640" y="1267920"/>
            <a:ext cx="4429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Flexibilidad del Proceso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La capacidad del proceso de producir y entregar una variedad de producto/servicio deseada. Relacionado con la flexibilidad de sus recursos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Calidad del Proceso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La capacidad del proceso de producir y entregar productos de calidad. Se incluye la exactitud, fiabilidad y mantenimiento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32931-460D-4F17-A838-2AD04332771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2400" spc="-1" strike="noStrike">
                <a:solidFill>
                  <a:srgbClr val="000066"/>
                </a:solidFill>
                <a:latin typeface="Arial"/>
              </a:rPr>
              <a:t>Mapeo de Proceso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3120" cy="50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4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000" spc="-1" strike="noStrike">
                <a:solidFill>
                  <a:srgbClr val="000066"/>
                </a:solidFill>
                <a:latin typeface="Arial"/>
              </a:rPr>
              <a:t>Es de gran utilidad identificar las fronteras de los procesos a través de un MAPA, por ejemplo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534960">
              <a:lnSpc>
                <a:spcPct val="14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800" spc="-1" strike="noStrike">
                <a:solidFill>
                  <a:srgbClr val="000066"/>
                </a:solidFill>
                <a:latin typeface="Arial"/>
              </a:rPr>
              <a:t>El proceso A se inicia con.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534960">
              <a:lnSpc>
                <a:spcPct val="14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800" spc="-1" strike="noStrike">
                <a:solidFill>
                  <a:srgbClr val="000066"/>
                </a:solidFill>
                <a:latin typeface="Arial"/>
              </a:rPr>
              <a:t>El proceso A termina con…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534960">
              <a:lnSpc>
                <a:spcPct val="14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800" spc="-1" strike="noStrike">
                <a:solidFill>
                  <a:srgbClr val="000066"/>
                </a:solidFill>
                <a:latin typeface="Arial"/>
              </a:rPr>
              <a:t>El proceso A incluye…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534960">
              <a:lnSpc>
                <a:spcPct val="14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800" spc="-1" strike="noStrike">
                <a:solidFill>
                  <a:srgbClr val="000066"/>
                </a:solidFill>
                <a:latin typeface="Arial"/>
              </a:rPr>
              <a:t>El proceso A excluye (en referencia a procesos adjunto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Para rediseñar los procesos es importante el poder representarlos a través de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534960">
              <a:lnSpc>
                <a:spcPct val="14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Arial"/>
              </a:rPr>
              <a:t>Flujogram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534960">
              <a:lnSpc>
                <a:spcPct val="14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Arial"/>
              </a:rPr>
              <a:t>Diagrama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534960">
              <a:lnSpc>
                <a:spcPct val="14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Arial"/>
              </a:rPr>
              <a:t>Mapas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534960">
              <a:lnSpc>
                <a:spcPct val="14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Arial"/>
              </a:rPr>
              <a:t>Descripcione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0">
              <a:lnSpc>
                <a:spcPct val="14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258B6-B619-4D5D-96AE-5F162194CC4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55280" y="333360"/>
            <a:ext cx="7489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Ejemplo: Solicitud Crédito Hipotecari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4000" y="1773360"/>
            <a:ext cx="81356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76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66"/>
                </a:solidFill>
                <a:latin typeface="Arial"/>
              </a:rPr>
              <a:t>Una persona requiere financiar la compra de su vivienda, para lo cual se acerca al Banco y solicita su crédito hipotecario.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476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66"/>
                </a:solidFill>
                <a:latin typeface="Arial"/>
              </a:rPr>
              <a:t>El ejecutivo solicita una serie de antecedentes de renta y de la vivienda a comprar.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476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66"/>
                </a:solidFill>
                <a:latin typeface="Arial"/>
              </a:rPr>
              <a:t>Se realiza la Tasación, Estudio de Títulos e Historia Crediticia, para en ese momento hacer la solicitud de crédito.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476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66"/>
                </a:solidFill>
                <a:latin typeface="Arial"/>
              </a:rPr>
              <a:t>El ejecutivo presenta la solicitud al Comité, el cual aprueba o no dicha solicitud, estableciendo las condiciones de otorgamiento.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476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66"/>
                </a:solidFill>
                <a:latin typeface="Arial"/>
              </a:rPr>
              <a:t>El Banco procede a generar la escritura (en conjunto con quien vende la vivienda) y realiza la inscripción en el Conservador de Bienes Raíces.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476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66"/>
                </a:solidFill>
                <a:latin typeface="Arial"/>
              </a:rPr>
              <a:t>Luego, se comunica al comprador que se acerque al Banco para cerrar la operación, entregando el dinero al vendedor y la escritura al comprador. 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05647-E91A-456C-9C4F-23CD88BB12D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1452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Pregunta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14160" y="1458720"/>
            <a:ext cx="733572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¿Cliente?,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¿Producto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¿Ejecutor (es)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¿Qué se hace en cada etapa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¿Hay medidas de tiempos involucrados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4E358-27B0-4207-9C43-4E2811947A5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2T19:34:48Z</dcterms:created>
  <dc:creator>Analía Medrano</dc:creator>
  <dc:description/>
  <dc:language>en-US</dc:language>
  <cp:lastModifiedBy> </cp:lastModifiedBy>
  <cp:lastPrinted>2002-12-20T00:24:57Z</cp:lastPrinted>
  <dcterms:modified xsi:type="dcterms:W3CDTF">2008-07-26T21:09:59Z</dcterms:modified>
  <cp:revision>1033</cp:revision>
  <dc:subject>versión 9 de Abril de 2004</dc:subject>
  <dc:title>Material BID OACO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63657102</vt:r8>
  </property>
  <property fmtid="{D5CDD505-2E9C-101B-9397-08002B2CF9AE}" pid="3" name="_AuthorEmail">
    <vt:lpwstr>mariow@dii.uchile.cl</vt:lpwstr>
  </property>
  <property fmtid="{D5CDD505-2E9C-101B-9397-08002B2CF9AE}" pid="4" name="_AuthorEmailDisplayName">
    <vt:lpwstr>Mario Waissbluth</vt:lpwstr>
  </property>
  <property fmtid="{D5CDD505-2E9C-101B-9397-08002B2CF9AE}" pid="5" name="_EmailEntryID">
    <vt:lpwstr>000000007F2EF3D47D697843BE6559C4891B7D1344543500</vt:lpwstr>
  </property>
  <property fmtid="{D5CDD505-2E9C-101B-9397-08002B2CF9AE}" pid="6" name="_EmailStoreID">
    <vt:lpwstr>0000000038A1BB1005E5101AA1BB08002B2A56C20000454D534D44422E444C4C00000000000000001B55FA20AA6611CD9BC800AA002FC45A0C0000004D41494C002F6F3D496E766572746563204947542F6F753D494E5645525445435F4947542F636E3D526563697069656E74732F636E3D656865726E616E64657A00</vt:lpwstr>
  </property>
  <property fmtid="{D5CDD505-2E9C-101B-9397-08002B2CF9AE}" pid="7" name="_EmailSubject">
    <vt:lpwstr>Rediseño de Procesos MGPP.ppt</vt:lpwstr>
  </property>
  <property fmtid="{D5CDD505-2E9C-101B-9397-08002B2CF9AE}" pid="8" name="_PreviousAdHocReviewCycleID">
    <vt:r8>1320568217</vt:r8>
  </property>
  <property fmtid="{D5CDD505-2E9C-101B-9397-08002B2CF9AE}" pid="9" name="_ReviewCycleID">
    <vt:r8>2143798465</vt:r8>
  </property>
  <property fmtid="{D5CDD505-2E9C-101B-9397-08002B2CF9AE}" pid="10" name="_ReviewingToolsShownOnce">
    <vt:lpwstr/>
  </property>
</Properties>
</file>