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9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7740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5840" y="7740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578592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FEB7-1056-481D-A9F9-2B986011C050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3E49-98D8-463B-813C-D49AD2D05D12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6170400"/>
            <a:ext cx="54864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F397-32D2-4392-B8A9-39A82CE1D841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6041880"/>
            <a:ext cx="50292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59A8-7DE4-4271-9D16-FAB78EE88D8D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6170400"/>
            <a:ext cx="54864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AFBC-5458-4C1F-8940-183E1672BC66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6C9C-B84B-42FE-9FBB-EF88890BF82B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4CC8-A0BB-48C6-A86E-F73715290941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EB54-9FC3-48F8-BC80-A52EC36AFE73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6170400"/>
            <a:ext cx="54864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5A50-E65F-4E3D-8506-5FF369AD2D8F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1365-B227-4827-AD57-5868409214FF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0284-4D85-4B5C-BADE-98BAE44D36B2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6170400"/>
            <a:ext cx="54864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9663-5DC0-49BB-8EC5-6AC9527ABA59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6170400"/>
            <a:ext cx="54864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81DF-019C-450B-B6DC-F50968A9F0C3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6170400"/>
            <a:ext cx="54864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36BD-EDF9-432C-8049-CBE971A0032B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6170400"/>
            <a:ext cx="54864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C812-7CF9-4F0E-90C5-974C2C7E33F6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6170400"/>
            <a:ext cx="54864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1E51-1380-4653-AB72-AC9C2E4B8AF3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6170400"/>
            <a:ext cx="54864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3C8F8-1F54-4690-AC5C-051952F0F2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386388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971BC-74CE-43A5-B6F2-C778EDB0A7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6C415-9B9E-4AA4-9971-7637078E1E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0FC8A-3C47-43AA-922C-0A1DD35B63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F8F7C-CF23-499B-98BD-933AAB2A94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C6123-EF4F-4D2B-AAF5-197E66C6A5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CBC97-4189-4EBD-BA8F-6178B49627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8C462-E91F-4B62-BF87-B52DB35895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1EE8E-D89A-4A09-AE74-8AB27F917F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4000" y="226800"/>
            <a:ext cx="6912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9F4D6-191D-4092-A79A-87E5BD42BC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932C8-5015-477B-B1C2-ACB7567FCC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C50D6-24F2-4DFD-9FD1-C29A881B0C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84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BFF18-B40D-42FB-89BC-3074480839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15D92-F1D5-469C-BE3A-2765A3E5F6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386388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5F1D0-F638-4E8B-8D15-1D4E1963BD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84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3EBE7-B708-44ED-AC9A-C79DB3C9F8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068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08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068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08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9281D-5F23-4DD0-AA5F-AAD988541E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E9EF7-7E47-4CC7-A771-302055B7B3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EBB4D-565C-4EA0-BB46-E1C1C832AA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69F40-345A-4650-8051-9FBE7FCCA5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4000" y="226800"/>
            <a:ext cx="6912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1CDF1-EE57-4AB2-B8E1-758AC421E6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CCF56-84AF-4414-8041-54B70B650C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C5203-8038-421C-B8C8-287834C3B5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1E455-45F6-4CBE-9889-2A07F87359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46160" indent="-29052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324000" y="981000"/>
            <a:ext cx="8424360" cy="72720"/>
            <a:chOff x="324000" y="981000"/>
            <a:chExt cx="8424360" cy="72720"/>
          </a:xfrm>
        </p:grpSpPr>
        <p:sp>
          <p:nvSpPr>
            <p:cNvPr id="3" name=""/>
            <p:cNvSpPr/>
            <p:nvPr/>
          </p:nvSpPr>
          <p:spPr>
            <a:xfrm>
              <a:off x="324000" y="1053720"/>
              <a:ext cx="842436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24000" y="981000"/>
              <a:ext cx="842436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162560" y="6381360"/>
            <a:ext cx="190476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71BC-0DD6-49BB-BF31-C01A1241C858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491160"/>
            <a:ext cx="1212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www.igt.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2781000"/>
            <a:ext cx="71625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7162560" y="6453360"/>
            <a:ext cx="19047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3BE8-A66F-4FD2-9EF1-2A8B8DDC8C3F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9044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755640" algn="ctr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6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6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6.wmf"/><Relationship Id="rId39" Type="http://schemas.openxmlformats.org/officeDocument/2006/relationships/slideLayout" Target="../slideLayouts/slideLayout5.xml"/><Relationship Id="rId40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slide50.xml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9480" y="2971800"/>
            <a:ext cx="820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Arial"/>
              </a:rPr>
              <a:t>Introducción al Rediseño de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Arial"/>
              </a:rPr>
              <a:t>MG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Arial"/>
              </a:rPr>
              <a:t>IN75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Agosto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Mario Waissblu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(en base a materiales de Ivan Brag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AB4C3-A98F-49FA-BC10-4208FB14BB1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073160" y="1682640"/>
            <a:ext cx="7912080" cy="48643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488400" y="1914480"/>
            <a:ext cx="3275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MACROPRO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35280" y="2978280"/>
            <a:ext cx="1739880" cy="90144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92480" y="4121280"/>
            <a:ext cx="1739880" cy="143496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16360" y="2444760"/>
            <a:ext cx="1663560" cy="82548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8480" y="3587760"/>
            <a:ext cx="3187440" cy="219708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628160" y="3789360"/>
            <a:ext cx="1949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CESO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730760" y="4197240"/>
            <a:ext cx="1739880" cy="596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ctivida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30760" y="4883040"/>
            <a:ext cx="1739880" cy="596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ctivida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559560" y="3664080"/>
            <a:ext cx="1054080" cy="20444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11840" y="4273560"/>
            <a:ext cx="825480" cy="29196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42aa1"/>
              </a:gs>
              <a:gs pos="50000">
                <a:srgbClr val="063de8"/>
              </a:gs>
              <a:gs pos="100000">
                <a:srgbClr val="042aa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s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711840" y="4807080"/>
            <a:ext cx="825480" cy="29196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42aa1"/>
              </a:gs>
              <a:gs pos="50000">
                <a:srgbClr val="063de8"/>
              </a:gs>
              <a:gs pos="100000">
                <a:srgbClr val="042aa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s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92880" y="2743200"/>
            <a:ext cx="74916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248520" y="2749680"/>
            <a:ext cx="0" cy="8254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2971800" y="2508120"/>
            <a:ext cx="0" cy="4701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2965320" y="2514600"/>
            <a:ext cx="85104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200400" y="3879360"/>
            <a:ext cx="0" cy="2415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044960" y="4648320"/>
            <a:ext cx="5205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3270240"/>
            <a:ext cx="0" cy="85104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15000" y="4724280"/>
            <a:ext cx="0" cy="2984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67280" y="5492880"/>
            <a:ext cx="0" cy="1396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873760" y="5638680"/>
            <a:ext cx="9018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7162920" y="4571640"/>
            <a:ext cx="0" cy="2350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65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Para analizar los procesos es fundamental descomponerlos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A9472-4379-4A77-BF3D-C4327B06F3B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Metodología de estructuración y descomposición jerárquica de los proces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8400" y="1770120"/>
            <a:ext cx="4871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Macro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ub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25320" y="2665440"/>
            <a:ext cx="0" cy="4572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5320" y="312264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387440" y="3579840"/>
            <a:ext cx="0" cy="4572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387440" y="403704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01840" y="4570560"/>
            <a:ext cx="0" cy="4572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01840" y="502776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805920" y="1770120"/>
            <a:ext cx="5112360" cy="4480920"/>
            <a:chOff x="3805920" y="1770120"/>
            <a:chExt cx="5112360" cy="4480920"/>
          </a:xfrm>
        </p:grpSpPr>
        <p:sp>
          <p:nvSpPr>
            <p:cNvPr id="317" name=""/>
            <p:cNvSpPr/>
            <p:nvPr/>
          </p:nvSpPr>
          <p:spPr>
            <a:xfrm>
              <a:off x="3805920" y="1770120"/>
              <a:ext cx="5112360" cy="44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Gestión de client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Facturació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Gestión de Lectur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Ingreso d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informació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81480" y="25894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81480" y="3046680"/>
              <a:ext cx="304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043600" y="35038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43600" y="3961080"/>
              <a:ext cx="304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958000" y="449424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58000" y="4951440"/>
              <a:ext cx="304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2971800" y="192240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6EE4D-7F4E-4821-A0AC-FA2DB1EACE92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598320" y="158760"/>
            <a:ext cx="77724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INCO GRUPOS DE PROCESOS CON DOCE SUBPROC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97040" y="1682640"/>
            <a:ext cx="5778360" cy="478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11640" y="5264280"/>
            <a:ext cx="3035160" cy="105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202360" y="2444760"/>
            <a:ext cx="2044440" cy="158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25640" y="2368440"/>
            <a:ext cx="166356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54440" y="1835280"/>
            <a:ext cx="1282680" cy="113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11640" y="4197240"/>
            <a:ext cx="234936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36160" y="2355840"/>
            <a:ext cx="13046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ceso A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ocesamien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e orde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788280" y="1822320"/>
            <a:ext cx="11674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ceso B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ntratació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72240" y="2584440"/>
            <a:ext cx="10472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ceso C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ntreg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58560" y="4184640"/>
            <a:ext cx="11415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ceso 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acturació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68800" y="5327640"/>
            <a:ext cx="16002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ceso 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rvicio al Clien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675200" y="3956040"/>
            <a:ext cx="86112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ient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xtern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36320" y="3803760"/>
            <a:ext cx="11736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oveedore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xtern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573960" y="32068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964120" y="32068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54640" y="32068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26240" y="36640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11640" y="25210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077920" y="32068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68640" y="32068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63720" y="36640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16560" y="45784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888160" y="473076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5520" y="5797440"/>
            <a:ext cx="36828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497640" y="5797440"/>
            <a:ext cx="36828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113920" y="31939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104640" y="31939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799720" y="36511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247640" y="25081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90640" y="31939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00120" y="31939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762240" y="36511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609600" y="31939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552200" y="45655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47480" y="4718160"/>
            <a:ext cx="37332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95200" y="5784840"/>
            <a:ext cx="37332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457320" y="5784840"/>
            <a:ext cx="37332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39920" y="1523880"/>
            <a:ext cx="6573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309680" y="1554120"/>
            <a:ext cx="0" cy="177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39920" y="3352680"/>
            <a:ext cx="706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82920" y="3352680"/>
            <a:ext cx="554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330280" y="3535200"/>
            <a:ext cx="401760" cy="17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338120" y="3483000"/>
            <a:ext cx="782640" cy="426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492200" y="4221000"/>
            <a:ext cx="2992320" cy="554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092400" y="3992400"/>
            <a:ext cx="1392120" cy="63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3471840" y="2644920"/>
            <a:ext cx="706320" cy="73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16280" y="2697120"/>
            <a:ext cx="706680" cy="554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87680" y="2849400"/>
            <a:ext cx="173160" cy="169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759280" y="3352680"/>
            <a:ext cx="17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369120" y="3352680"/>
            <a:ext cx="172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902280" y="3535200"/>
            <a:ext cx="20880" cy="96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216480" y="3535200"/>
            <a:ext cx="478080" cy="17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130880" y="3916440"/>
            <a:ext cx="478080" cy="172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921200" y="4800600"/>
            <a:ext cx="93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6291360" y="4321080"/>
            <a:ext cx="1239840" cy="579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6013080" y="4525920"/>
            <a:ext cx="1646280" cy="123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140520" y="5943600"/>
            <a:ext cx="325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6900840" y="4626000"/>
            <a:ext cx="858960" cy="134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939080" y="1554120"/>
            <a:ext cx="0" cy="2382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A9592-E515-42CE-BFBE-8D51F69ABA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39116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Herramientas de modelamiento – flujos de proces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457200" y="1600200"/>
            <a:ext cx="8229600" cy="4572000"/>
            <a:chOff x="457200" y="1600200"/>
            <a:chExt cx="8229600" cy="4572000"/>
          </a:xfrm>
        </p:grpSpPr>
        <p:sp>
          <p:nvSpPr>
            <p:cNvPr id="387" name=""/>
            <p:cNvSpPr/>
            <p:nvPr/>
          </p:nvSpPr>
          <p:spPr>
            <a:xfrm>
              <a:off x="469800" y="1611360"/>
              <a:ext cx="8207640" cy="430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69800" y="2038320"/>
              <a:ext cx="8207640" cy="41259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621080" y="1622520"/>
              <a:ext cx="576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Arial"/>
                </a:rPr>
                <a:t>Pas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58680" y="1622520"/>
              <a:ext cx="951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100560" y="1622520"/>
              <a:ext cx="13813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Arial"/>
                </a:rPr>
                <a:t>Descripció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67440" y="2322360"/>
              <a:ext cx="1113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76280" y="2049480"/>
              <a:ext cx="303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Cualquier paso que agrega valor al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73040" y="2289240"/>
              <a:ext cx="352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proceso. Hacer avanzar en forma directa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980240" y="2529000"/>
              <a:ext cx="939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al proceso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6720" y="3162240"/>
              <a:ext cx="1168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977360" y="2922480"/>
              <a:ext cx="2676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Cualquier acción que desplaza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975920" y="3162240"/>
              <a:ext cx="290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información u objetos, incluyendo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980600" y="3402000"/>
              <a:ext cx="843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personas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8520" y="3778200"/>
              <a:ext cx="18662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Demor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(no programada)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83120" y="3778200"/>
              <a:ext cx="3679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Cualquier tiempo de espera no programado relacionado con personas.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1480" y="4606920"/>
              <a:ext cx="1152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Inspecció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983120" y="4427640"/>
              <a:ext cx="3679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Incluye inspecciones/controles de calidad  y cantidad, revisiones y autorizaciones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67800" y="5110200"/>
              <a:ext cx="1259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Almacenaj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975920" y="5025960"/>
              <a:ext cx="3068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Retraso programado de materiales,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977360" y="5265720"/>
              <a:ext cx="1643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partes o productos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67440" y="5686560"/>
              <a:ext cx="1046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Retrabaj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983120" y="5591160"/>
              <a:ext cx="3679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Cualquier paso operacional innecesario y repetido. Corrige algún problema o error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57200" y="1600200"/>
              <a:ext cx="1440" cy="4572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57200" y="1600200"/>
              <a:ext cx="23760" cy="457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338640" y="1622520"/>
              <a:ext cx="1440" cy="4549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338640" y="1622520"/>
              <a:ext cx="23760" cy="4549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29120" y="1622520"/>
              <a:ext cx="1800" cy="4549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929120" y="1622520"/>
              <a:ext cx="23760" cy="4549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663040" y="1622520"/>
              <a:ext cx="1440" cy="4549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663040" y="1622520"/>
              <a:ext cx="23760" cy="4549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0960" y="1600200"/>
              <a:ext cx="820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0960" y="1600200"/>
              <a:ext cx="82058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0960" y="2027160"/>
              <a:ext cx="820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80960" y="2027160"/>
              <a:ext cx="82058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80960" y="2898720"/>
              <a:ext cx="820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0960" y="2898720"/>
              <a:ext cx="820584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0960" y="3754440"/>
              <a:ext cx="820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0960" y="3754440"/>
              <a:ext cx="820584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0960" y="4403880"/>
              <a:ext cx="820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0960" y="4403880"/>
              <a:ext cx="820584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0960" y="5003640"/>
              <a:ext cx="820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0960" y="5003640"/>
              <a:ext cx="82058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80960" y="5567400"/>
              <a:ext cx="820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80960" y="5567400"/>
              <a:ext cx="820584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80960" y="6149880"/>
              <a:ext cx="820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0960" y="6149880"/>
              <a:ext cx="82058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776760" y="2232000"/>
              <a:ext cx="460440" cy="3794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3695760" y="3244680"/>
              <a:ext cx="695160" cy="183960"/>
              <a:chOff x="3695760" y="3244680"/>
              <a:chExt cx="695160" cy="183960"/>
            </a:xfrm>
          </p:grpSpPr>
          <p:sp>
            <p:nvSpPr>
              <p:cNvPr id="435" name=""/>
              <p:cNvSpPr/>
              <p:nvPr/>
            </p:nvSpPr>
            <p:spPr>
              <a:xfrm>
                <a:off x="3695760" y="3335040"/>
                <a:ext cx="50472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194000" y="3244680"/>
                <a:ext cx="196920" cy="183960"/>
              </a:xfrm>
              <a:custGeom>
                <a:avLst/>
                <a:gdLst/>
                <a:ahLst/>
                <a:rect l="l" t="t" r="r" b="b"/>
                <a:pathLst>
                  <a:path w="124" h="116">
                    <a:moveTo>
                      <a:pt x="0" y="116"/>
                    </a:moveTo>
                    <a:lnTo>
                      <a:pt x="124" y="57"/>
                    </a:lnTo>
                    <a:lnTo>
                      <a:pt x="0" y="0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3816360" y="5108400"/>
              <a:ext cx="534960" cy="385920"/>
            </a:xfrm>
            <a:custGeom>
              <a:avLst/>
              <a:gdLst/>
              <a:ahLst/>
              <a:rect l="l" t="t" r="r" b="b"/>
              <a:pathLst>
                <a:path w="337" h="257">
                  <a:moveTo>
                    <a:pt x="162" y="257"/>
                  </a:moveTo>
                  <a:lnTo>
                    <a:pt x="0" y="0"/>
                  </a:lnTo>
                  <a:lnTo>
                    <a:pt x="337" y="0"/>
                  </a:lnTo>
                  <a:lnTo>
                    <a:pt x="162" y="257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51280" y="5643720"/>
              <a:ext cx="460440" cy="377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006800" y="56466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833640" y="4524480"/>
              <a:ext cx="520920" cy="3445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55960" y="3860640"/>
              <a:ext cx="515880" cy="358920"/>
            </a:xfrm>
            <a:custGeom>
              <a:avLst/>
              <a:gdLst/>
              <a:ahLst/>
              <a:rect l="l" t="t" r="r" b="b"/>
              <a:pathLst>
                <a:path w="325" h="226">
                  <a:moveTo>
                    <a:pt x="162" y="0"/>
                  </a:moveTo>
                  <a:lnTo>
                    <a:pt x="196" y="2"/>
                  </a:lnTo>
                  <a:lnTo>
                    <a:pt x="226" y="9"/>
                  </a:lnTo>
                  <a:lnTo>
                    <a:pt x="253" y="20"/>
                  </a:lnTo>
                  <a:lnTo>
                    <a:pt x="278" y="32"/>
                  </a:lnTo>
                  <a:lnTo>
                    <a:pt x="297" y="50"/>
                  </a:lnTo>
                  <a:lnTo>
                    <a:pt x="312" y="68"/>
                  </a:lnTo>
                  <a:lnTo>
                    <a:pt x="321" y="89"/>
                  </a:lnTo>
                  <a:lnTo>
                    <a:pt x="325" y="112"/>
                  </a:lnTo>
                  <a:lnTo>
                    <a:pt x="321" y="135"/>
                  </a:lnTo>
                  <a:lnTo>
                    <a:pt x="312" y="156"/>
                  </a:lnTo>
                  <a:lnTo>
                    <a:pt x="297" y="176"/>
                  </a:lnTo>
                  <a:lnTo>
                    <a:pt x="278" y="194"/>
                  </a:lnTo>
                  <a:lnTo>
                    <a:pt x="253" y="206"/>
                  </a:lnTo>
                  <a:lnTo>
                    <a:pt x="226" y="217"/>
                  </a:lnTo>
                  <a:lnTo>
                    <a:pt x="196" y="224"/>
                  </a:lnTo>
                  <a:lnTo>
                    <a:pt x="162" y="226"/>
                  </a:lnTo>
                  <a:lnTo>
                    <a:pt x="0" y="226"/>
                  </a:lnTo>
                  <a:lnTo>
                    <a:pt x="0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DEB6A-4FE4-4726-9387-499CDF2E9C1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3911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Sólo los pasos de operación agregan valor… el resto es pérdida de tiempo y recurs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143000" y="1600200"/>
            <a:ext cx="6934320" cy="4419720"/>
            <a:chOff x="1143000" y="1600200"/>
            <a:chExt cx="6934320" cy="4419720"/>
          </a:xfrm>
        </p:grpSpPr>
        <p:sp>
          <p:nvSpPr>
            <p:cNvPr id="444" name=""/>
            <p:cNvSpPr/>
            <p:nvPr/>
          </p:nvSpPr>
          <p:spPr>
            <a:xfrm>
              <a:off x="1155600" y="1611360"/>
              <a:ext cx="6912000" cy="414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155600" y="2023920"/>
              <a:ext cx="6912000" cy="3988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704960" y="1622520"/>
              <a:ext cx="54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a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216600" y="1622520"/>
              <a:ext cx="904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208880" y="2033640"/>
              <a:ext cx="1052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208520" y="2878200"/>
              <a:ext cx="110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208880" y="3705120"/>
              <a:ext cx="1268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Demora (n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209240" y="3986280"/>
              <a:ext cx="1305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rogramad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208880" y="4332240"/>
              <a:ext cx="1090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nspe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209600" y="4911840"/>
              <a:ext cx="1190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lmacenaj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209240" y="5457960"/>
              <a:ext cx="988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traba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143000" y="1600200"/>
              <a:ext cx="1440" cy="441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143000" y="1600200"/>
              <a:ext cx="27000" cy="441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70280" y="1622520"/>
              <a:ext cx="1440" cy="4397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870280" y="1622520"/>
              <a:ext cx="25200" cy="439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70000" y="160020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70000" y="1600200"/>
              <a:ext cx="69073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70000" y="201312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70000" y="2013120"/>
              <a:ext cx="69073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70000" y="2855880"/>
              <a:ext cx="6907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170000" y="2855880"/>
              <a:ext cx="69073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170000" y="368316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170000" y="3683160"/>
              <a:ext cx="69073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170000" y="431172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170000" y="4311720"/>
              <a:ext cx="69073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170000" y="488952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170000" y="4889520"/>
              <a:ext cx="69073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170000" y="543564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170000" y="5435640"/>
              <a:ext cx="69073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170000" y="599760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170000" y="5997600"/>
              <a:ext cx="69073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473280" y="2200320"/>
              <a:ext cx="500400" cy="365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257640" y="3211560"/>
              <a:ext cx="547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98720" y="3106800"/>
              <a:ext cx="214560" cy="177840"/>
            </a:xfrm>
            <a:custGeom>
              <a:avLst/>
              <a:gdLst/>
              <a:ahLst/>
              <a:rect l="l" t="t" r="r" b="b"/>
              <a:pathLst>
                <a:path w="135" h="112">
                  <a:moveTo>
                    <a:pt x="0" y="112"/>
                  </a:moveTo>
                  <a:lnTo>
                    <a:pt x="135" y="55"/>
                  </a:lnTo>
                  <a:lnTo>
                    <a:pt x="0" y="0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389400" y="4978440"/>
              <a:ext cx="581040" cy="395280"/>
            </a:xfrm>
            <a:custGeom>
              <a:avLst/>
              <a:gdLst/>
              <a:ahLst/>
              <a:rect l="l" t="t" r="r" b="b"/>
              <a:pathLst>
                <a:path w="366" h="249">
                  <a:moveTo>
                    <a:pt x="175" y="249"/>
                  </a:moveTo>
                  <a:lnTo>
                    <a:pt x="0" y="0"/>
                  </a:lnTo>
                  <a:lnTo>
                    <a:pt x="366" y="0"/>
                  </a:lnTo>
                  <a:lnTo>
                    <a:pt x="175" y="249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419640" y="5510160"/>
              <a:ext cx="500040" cy="3668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595680" y="55119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408480" y="4464000"/>
              <a:ext cx="565200" cy="333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432240" y="3801960"/>
              <a:ext cx="560160" cy="347760"/>
            </a:xfrm>
            <a:custGeom>
              <a:avLst/>
              <a:gdLst/>
              <a:ahLst/>
              <a:rect l="l" t="t" r="r" b="b"/>
              <a:pathLst>
                <a:path w="353" h="219">
                  <a:moveTo>
                    <a:pt x="175" y="0"/>
                  </a:moveTo>
                  <a:lnTo>
                    <a:pt x="213" y="2"/>
                  </a:lnTo>
                  <a:lnTo>
                    <a:pt x="246" y="9"/>
                  </a:lnTo>
                  <a:lnTo>
                    <a:pt x="275" y="19"/>
                  </a:lnTo>
                  <a:lnTo>
                    <a:pt x="301" y="31"/>
                  </a:lnTo>
                  <a:lnTo>
                    <a:pt x="322" y="49"/>
                  </a:lnTo>
                  <a:lnTo>
                    <a:pt x="339" y="66"/>
                  </a:lnTo>
                  <a:lnTo>
                    <a:pt x="349" y="86"/>
                  </a:lnTo>
                  <a:lnTo>
                    <a:pt x="353" y="109"/>
                  </a:lnTo>
                  <a:lnTo>
                    <a:pt x="349" y="131"/>
                  </a:lnTo>
                  <a:lnTo>
                    <a:pt x="339" y="152"/>
                  </a:lnTo>
                  <a:lnTo>
                    <a:pt x="322" y="171"/>
                  </a:lnTo>
                  <a:lnTo>
                    <a:pt x="301" y="188"/>
                  </a:lnTo>
                  <a:lnTo>
                    <a:pt x="275" y="200"/>
                  </a:lnTo>
                  <a:lnTo>
                    <a:pt x="246" y="210"/>
                  </a:lnTo>
                  <a:lnTo>
                    <a:pt x="213" y="217"/>
                  </a:lnTo>
                  <a:lnTo>
                    <a:pt x="175" y="219"/>
                  </a:lnTo>
                  <a:lnTo>
                    <a:pt x="0" y="219"/>
                  </a:lnTo>
                  <a:lnTo>
                    <a:pt x="0" y="0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990680" y="1622520"/>
              <a:ext cx="826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Traba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389640" y="1622520"/>
              <a:ext cx="1308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esperdic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374800" y="228744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102080" y="312408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02080" y="384984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02080" y="445284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102080" y="501480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2080" y="556884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597560" y="1622520"/>
              <a:ext cx="1440" cy="4397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597560" y="1622520"/>
              <a:ext cx="25200" cy="439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324480" y="1622520"/>
              <a:ext cx="1800" cy="4397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324480" y="1622520"/>
              <a:ext cx="25560" cy="439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050320" y="1622520"/>
              <a:ext cx="1440" cy="4397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050320" y="1622520"/>
              <a:ext cx="27000" cy="439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105C5-E59E-480C-B2BC-C2E4E26B0BB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1267920"/>
            <a:ext cx="7772400" cy="4753080"/>
          </a:xfrm>
          <a:prstGeom prst="rect">
            <a:avLst/>
          </a:prstGeom>
          <a:solidFill>
            <a:srgbClr val="f9d29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Arial"/>
              </a:rPr>
              <a:t>ENSAMBLAJE DE MUÑECO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. Caminar al estante de partes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2. Buscar piernas (1 minuto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3. Llevar las piernas al lugar de trabajo ( 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4. Colocar las piernas (5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5. Caminar al estante de partes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6. Buscar brazos (1 minuto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7. Llevar los brazos al lugar de trabajo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8. Colocar los brazos (1 minuto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9. Caminar al estante de partes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0. Buscar cabezas (1 minuto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1. Llevar las cabezas al lugar de trabajo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2. Colocar las cabezas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3. Inspeccionar la calidad del muñeco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4. Llevar el muñeco al estante de almacenaje (3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title"/>
          </p:nvPr>
        </p:nvSpPr>
        <p:spPr>
          <a:xfrm>
            <a:off x="323640" y="260280"/>
            <a:ext cx="73911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¿Qué sobra aquí…..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38E45-C422-4B05-8E4E-2B2A9F1B77C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380880" y="1197000"/>
            <a:ext cx="8458200" cy="51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3300"/>
                </a:solidFill>
                <a:latin typeface="Arial"/>
              </a:rPr>
              <a:t>Señales de alarma para mejorar proces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mplejidad, excepciones, casos espe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lto intercambio de información, captura (recaptura) de datos y redundancia de da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allas de coordinación o costos de coordin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consistencia hacia el exter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Baja utilización de recur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troles cerrados y ca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ersonal con alta carga de trabajo y pocos result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00A61-66CA-4F98-ADB6-DEAAC40E79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Fases de un proyecto de rediseñ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52280" y="1476360"/>
            <a:ext cx="2764080" cy="4924440"/>
          </a:xfrm>
          <a:prstGeom prst="rightArrowCallout">
            <a:avLst>
              <a:gd name="adj1" fmla="val 44544"/>
              <a:gd name="adj2" fmla="val 44540"/>
              <a:gd name="adj3" fmla="val 16667"/>
              <a:gd name="adj4" fmla="val 7870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000000"/>
                </a:solidFill>
                <a:uFillTx/>
                <a:latin typeface="Tahoma"/>
              </a:rPr>
              <a:t>1. DIAGNOST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a) Levantami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e detalle 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Proceso, tal cu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hoy oper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b) Definición de 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Métrica del Proce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(Tablero de Monitoreo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c) Medición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Indicadores del Tabl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e Monitor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(situación inici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) Identificación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Quick Win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971800" y="1447920"/>
            <a:ext cx="3324240" cy="4968720"/>
          </a:xfrm>
          <a:prstGeom prst="rightArrowCallout">
            <a:avLst>
              <a:gd name="adj1" fmla="val 32845"/>
              <a:gd name="adj2" fmla="val 36225"/>
              <a:gd name="adj3" fmla="val 15903"/>
              <a:gd name="adj4" fmla="val 7889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000000"/>
                </a:solidFill>
                <a:uFillTx/>
                <a:latin typeface="Tahoma"/>
              </a:rPr>
              <a:t>2. DISEÑO</a:t>
            </a: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a) Rediseño del proc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(Procedimiento; Sistema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Roles; Estánda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b) Especif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e resultados verificables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Metas para cada indicad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el Tablero de Monitoreo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incluyendo la definición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Quick Wins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c) Implementar Quick Wi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) Seguimiento a Quick W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200640" y="1371600"/>
            <a:ext cx="2791080" cy="5056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000000"/>
                </a:solidFill>
                <a:uFillTx/>
                <a:latin typeface="Tahoma"/>
              </a:rPr>
              <a:t>3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ahoma"/>
              </a:rPr>
              <a:t>. IMPLANT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a) Elaboración de Guía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Rediseño Focalizado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Proc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b) Formación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equipo de impla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) </a:t>
            </a: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Trabajo de impla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d)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apacitación en el nuev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roc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e) Medición periódica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resultados en Tablero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Monitore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f)Reporte mensual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avances mediante Tablero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Monitor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AC2A6-CD38-4144-AB69-B30F31EC520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638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ntender Situación Actu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971800" y="1295280"/>
            <a:ext cx="1752480" cy="914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dentific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Quick W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6" name=""/>
          <p:cNvCxnSpPr>
            <a:stCxn id="507" idx="0"/>
            <a:endCxn id="505" idx="1"/>
          </p:cNvCxnSpPr>
          <p:nvPr/>
        </p:nvCxnSpPr>
        <p:spPr>
          <a:xfrm flipH="1" flipV="1" rot="5400000">
            <a:off x="1904760" y="1370880"/>
            <a:ext cx="686520" cy="144864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8" name=""/>
          <p:cNvSpPr/>
          <p:nvPr/>
        </p:nvSpPr>
        <p:spPr>
          <a:xfrm>
            <a:off x="-2133720" y="7467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04920" y="7467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6320" y="2438280"/>
            <a:ext cx="2895480" cy="6858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odelar la Situación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905120" y="4724280"/>
            <a:ext cx="2590560" cy="6098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Validar y M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1" name=""/>
          <p:cNvCxnSpPr>
            <a:stCxn id="507" idx="2"/>
            <a:endCxn id="510" idx="1"/>
          </p:cNvCxnSpPr>
          <p:nvPr/>
        </p:nvCxnSpPr>
        <p:spPr>
          <a:xfrm flipH="1" rot="16200000">
            <a:off x="761040" y="3885840"/>
            <a:ext cx="1905840" cy="3819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510" idx="0"/>
            <a:endCxn id="507" idx="3"/>
          </p:cNvCxnSpPr>
          <p:nvPr/>
        </p:nvCxnSpPr>
        <p:spPr>
          <a:xfrm flipV="1" rot="16200000">
            <a:off x="2113920" y="3637800"/>
            <a:ext cx="19436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13" name=""/>
          <p:cNvGrpSpPr/>
          <p:nvPr/>
        </p:nvGrpSpPr>
        <p:grpSpPr>
          <a:xfrm>
            <a:off x="4876920" y="1447920"/>
            <a:ext cx="4266720" cy="4674600"/>
            <a:chOff x="4876920" y="1447920"/>
            <a:chExt cx="4266720" cy="4674600"/>
          </a:xfrm>
        </p:grpSpPr>
        <p:sp>
          <p:nvSpPr>
            <p:cNvPr id="514" name=""/>
            <p:cNvSpPr/>
            <p:nvPr/>
          </p:nvSpPr>
          <p:spPr>
            <a:xfrm>
              <a:off x="6989400" y="1721160"/>
              <a:ext cx="1053720" cy="440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68360" y="1721160"/>
              <a:ext cx="1116000" cy="440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876920" y="1721160"/>
              <a:ext cx="991440" cy="440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923360" y="1447920"/>
              <a:ext cx="98244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rebuchet MS"/>
                </a:rPr>
                <a:t>Responsable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016600" y="2095920"/>
              <a:ext cx="587160" cy="3434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03800" y="2395800"/>
              <a:ext cx="687600" cy="326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147440" y="2920680"/>
              <a:ext cx="697680" cy="329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891840" y="3550320"/>
              <a:ext cx="348840" cy="20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rebuchet MS"/>
                </a:rPr>
                <a:t>N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56800" y="3723480"/>
              <a:ext cx="348480" cy="20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rebuchet MS"/>
                </a:rPr>
                <a:t>SÍ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247800" y="3431520"/>
              <a:ext cx="278640" cy="19800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999400" y="3881520"/>
              <a:ext cx="697320" cy="329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186680" y="3881520"/>
              <a:ext cx="767520" cy="329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505720" y="5566680"/>
              <a:ext cx="209160" cy="2026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7" name=""/>
            <p:cNvCxnSpPr>
              <a:stCxn id="518" idx="3"/>
              <a:endCxn id="519" idx="0"/>
            </p:cNvCxnSpPr>
            <p:nvPr/>
          </p:nvCxnSpPr>
          <p:spPr>
            <a:xfrm>
              <a:off x="5603760" y="2267640"/>
              <a:ext cx="845280" cy="128880"/>
            </a:xfrm>
            <a:prstGeom prst="bentConnector2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8" name=""/>
            <p:cNvCxnSpPr>
              <a:stCxn id="519" idx="3"/>
              <a:endCxn id="520" idx="0"/>
            </p:cNvCxnSpPr>
            <p:nvPr/>
          </p:nvCxnSpPr>
          <p:spPr>
            <a:xfrm>
              <a:off x="6791400" y="2559960"/>
              <a:ext cx="705240" cy="361440"/>
            </a:xfrm>
            <a:prstGeom prst="bentConnector2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9" name=""/>
            <p:cNvCxnSpPr>
              <a:stCxn id="523" idx="3"/>
              <a:endCxn id="525" idx="0"/>
            </p:cNvCxnSpPr>
            <p:nvPr/>
          </p:nvCxnSpPr>
          <p:spPr>
            <a:xfrm>
              <a:off x="6526800" y="3531600"/>
              <a:ext cx="1044720" cy="350640"/>
            </a:xfrm>
            <a:prstGeom prst="bentConnector2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0" name=""/>
            <p:cNvCxnSpPr>
              <a:stCxn id="531" idx="2"/>
              <a:endCxn id="526" idx="0"/>
            </p:cNvCxnSpPr>
            <p:nvPr/>
          </p:nvCxnSpPr>
          <p:spPr>
            <a:xfrm flipH="1">
              <a:off x="8610120" y="5202000"/>
              <a:ext cx="15840" cy="364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2" name=""/>
            <p:cNvCxnSpPr>
              <a:stCxn id="523" idx="1"/>
              <a:endCxn id="524" idx="1"/>
            </p:cNvCxnSpPr>
            <p:nvPr/>
          </p:nvCxnSpPr>
          <p:spPr>
            <a:xfrm flipV="1" rot="10800000">
              <a:off x="5998680" y="3530520"/>
              <a:ext cx="249120" cy="515880"/>
            </a:xfrm>
            <a:prstGeom prst="bentConnector3">
              <a:avLst>
                <a:gd name="adj1" fmla="val 184081"/>
              </a:avLst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33" name=""/>
            <p:cNvSpPr/>
            <p:nvPr/>
          </p:nvSpPr>
          <p:spPr>
            <a:xfrm>
              <a:off x="8043480" y="1721160"/>
              <a:ext cx="1100160" cy="440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4" name=""/>
            <p:cNvCxnSpPr>
              <a:stCxn id="520" idx="1"/>
              <a:endCxn id="523" idx="0"/>
            </p:cNvCxnSpPr>
            <p:nvPr/>
          </p:nvCxnSpPr>
          <p:spPr>
            <a:xfrm flipV="1" rot="10800000">
              <a:off x="6386760" y="3085200"/>
              <a:ext cx="760680" cy="3459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35" name=""/>
            <p:cNvSpPr/>
            <p:nvPr/>
          </p:nvSpPr>
          <p:spPr>
            <a:xfrm>
              <a:off x="5911920" y="1447920"/>
              <a:ext cx="98244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rebuchet MS"/>
                </a:rPr>
                <a:t>Responsable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999400" y="4493520"/>
              <a:ext cx="729360" cy="399600"/>
            </a:xfrm>
            <a:prstGeom prst="flowChart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rebuchet MS"/>
                </a:rPr>
                <a:t>Documento 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7" name=""/>
            <p:cNvCxnSpPr>
              <a:stCxn id="525" idx="3"/>
              <a:endCxn id="531" idx="0"/>
            </p:cNvCxnSpPr>
            <p:nvPr/>
          </p:nvCxnSpPr>
          <p:spPr>
            <a:xfrm>
              <a:off x="7954200" y="4046400"/>
              <a:ext cx="672120" cy="826920"/>
            </a:xfrm>
            <a:prstGeom prst="bentConnector2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31" name=""/>
            <p:cNvSpPr/>
            <p:nvPr/>
          </p:nvSpPr>
          <p:spPr>
            <a:xfrm>
              <a:off x="8242560" y="4872960"/>
              <a:ext cx="767160" cy="329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28640" y="1447920"/>
              <a:ext cx="98100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rebuchet MS"/>
                </a:rPr>
                <a:t>Responsable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329160" y="4210920"/>
              <a:ext cx="1080" cy="282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0" name=""/>
            <p:cNvCxnSpPr>
              <a:endCxn id="531" idx="1"/>
            </p:cNvCxnSpPr>
            <p:nvPr/>
          </p:nvCxnSpPr>
          <p:spPr>
            <a:xfrm>
              <a:off x="6724800" y="4640040"/>
              <a:ext cx="1518480" cy="398520"/>
            </a:xfrm>
            <a:prstGeom prst="bentConnector3">
              <a:avLst>
                <a:gd name="adj1" fmla="val 49988"/>
              </a:avLst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1" name=""/>
            <p:cNvSpPr/>
            <p:nvPr/>
          </p:nvSpPr>
          <p:spPr>
            <a:xfrm>
              <a:off x="8088120" y="1447920"/>
              <a:ext cx="98244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rebuchet MS"/>
                </a:rPr>
                <a:t>Responsable 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319000" y="1872720"/>
              <a:ext cx="0" cy="212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172120" y="1721160"/>
              <a:ext cx="278640" cy="198000"/>
            </a:xfrm>
            <a:prstGeom prst="flowChartConnector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0" y="304920"/>
            <a:ext cx="990720" cy="990360"/>
          </a:xfrm>
          <a:custGeom>
            <a:avLst/>
            <a:gdLst>
              <a:gd name="textAreaLeft" fmla="*/ 154800 w 990720"/>
              <a:gd name="textAreaRight" fmla="*/ 866880 w 99072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4089240" y="5526000"/>
            <a:ext cx="4028760" cy="1258920"/>
            <a:chOff x="4089240" y="5526000"/>
            <a:chExt cx="4028760" cy="1258920"/>
          </a:xfrm>
        </p:grpSpPr>
        <p:sp>
          <p:nvSpPr>
            <p:cNvPr id="546" name=""/>
            <p:cNvSpPr/>
            <p:nvPr/>
          </p:nvSpPr>
          <p:spPr>
            <a:xfrm>
              <a:off x="4096440" y="5528880"/>
              <a:ext cx="4016160" cy="115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096440" y="5644080"/>
              <a:ext cx="4016160" cy="1111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416480" y="5532120"/>
              <a:ext cx="24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Pas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292000" y="5532120"/>
              <a:ext cx="406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27400" y="564660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27760" y="5881680"/>
              <a:ext cx="492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127400" y="6113520"/>
              <a:ext cx="566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Demora (n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128480" y="6191280"/>
              <a:ext cx="581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programad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126320" y="6288120"/>
              <a:ext cx="489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Inspec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127040" y="6448320"/>
              <a:ext cx="534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Almacenaj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127760" y="6600960"/>
              <a:ext cx="441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Retra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089240" y="5526000"/>
              <a:ext cx="720" cy="123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89240" y="5526000"/>
              <a:ext cx="15480" cy="123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92560" y="5532120"/>
              <a:ext cx="720" cy="122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092560" y="5532120"/>
              <a:ext cx="14400" cy="12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104720" y="552600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104720" y="552600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104720" y="564084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104720" y="5640840"/>
              <a:ext cx="40132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104720" y="587592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104720" y="587592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104720" y="610632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104720" y="610632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104720" y="628164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04720" y="6281640"/>
              <a:ext cx="40132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104720" y="644256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104720" y="644256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04720" y="659484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04720" y="659484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104720" y="675144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104720" y="675144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443200" y="5693040"/>
              <a:ext cx="290520" cy="101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17920" y="5974920"/>
              <a:ext cx="31788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632200" y="5945760"/>
              <a:ext cx="124560" cy="49320"/>
            </a:xfrm>
            <a:custGeom>
              <a:avLst/>
              <a:gdLst/>
              <a:ahLst/>
              <a:rect l="l" t="t" r="r" b="b"/>
              <a:pathLst>
                <a:path w="135" h="112">
                  <a:moveTo>
                    <a:pt x="0" y="112"/>
                  </a:moveTo>
                  <a:lnTo>
                    <a:pt x="135" y="55"/>
                  </a:lnTo>
                  <a:lnTo>
                    <a:pt x="0" y="0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394240" y="6467400"/>
              <a:ext cx="337320" cy="110160"/>
            </a:xfrm>
            <a:custGeom>
              <a:avLst/>
              <a:gdLst/>
              <a:ahLst/>
              <a:rect l="l" t="t" r="r" b="b"/>
              <a:pathLst>
                <a:path w="366" h="249">
                  <a:moveTo>
                    <a:pt x="175" y="249"/>
                  </a:moveTo>
                  <a:lnTo>
                    <a:pt x="0" y="0"/>
                  </a:lnTo>
                  <a:lnTo>
                    <a:pt x="366" y="0"/>
                  </a:lnTo>
                  <a:lnTo>
                    <a:pt x="175" y="249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411880" y="6615360"/>
              <a:ext cx="290520" cy="10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514120" y="66164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405400" y="6324120"/>
              <a:ext cx="328320" cy="92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19080" y="6139440"/>
              <a:ext cx="325440" cy="96840"/>
            </a:xfrm>
            <a:custGeom>
              <a:avLst/>
              <a:gdLst/>
              <a:ahLst/>
              <a:rect l="l" t="t" r="r" b="b"/>
              <a:pathLst>
                <a:path w="353" h="219">
                  <a:moveTo>
                    <a:pt x="175" y="0"/>
                  </a:moveTo>
                  <a:lnTo>
                    <a:pt x="213" y="2"/>
                  </a:lnTo>
                  <a:lnTo>
                    <a:pt x="246" y="9"/>
                  </a:lnTo>
                  <a:lnTo>
                    <a:pt x="275" y="19"/>
                  </a:lnTo>
                  <a:lnTo>
                    <a:pt x="301" y="31"/>
                  </a:lnTo>
                  <a:lnTo>
                    <a:pt x="322" y="49"/>
                  </a:lnTo>
                  <a:lnTo>
                    <a:pt x="339" y="66"/>
                  </a:lnTo>
                  <a:lnTo>
                    <a:pt x="349" y="86"/>
                  </a:lnTo>
                  <a:lnTo>
                    <a:pt x="353" y="109"/>
                  </a:lnTo>
                  <a:lnTo>
                    <a:pt x="349" y="131"/>
                  </a:lnTo>
                  <a:lnTo>
                    <a:pt x="339" y="152"/>
                  </a:lnTo>
                  <a:lnTo>
                    <a:pt x="322" y="171"/>
                  </a:lnTo>
                  <a:lnTo>
                    <a:pt x="301" y="188"/>
                  </a:lnTo>
                  <a:lnTo>
                    <a:pt x="275" y="200"/>
                  </a:lnTo>
                  <a:lnTo>
                    <a:pt x="246" y="210"/>
                  </a:lnTo>
                  <a:lnTo>
                    <a:pt x="213" y="217"/>
                  </a:lnTo>
                  <a:lnTo>
                    <a:pt x="175" y="219"/>
                  </a:lnTo>
                  <a:lnTo>
                    <a:pt x="0" y="219"/>
                  </a:lnTo>
                  <a:lnTo>
                    <a:pt x="0" y="0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23760" y="5532120"/>
              <a:ext cx="369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Tra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137000" y="5532120"/>
              <a:ext cx="584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Desperdici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547680" y="57178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551360" y="59515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551360" y="61531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551360" y="63212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551360" y="64771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551360" y="66322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096240" y="5532120"/>
              <a:ext cx="720" cy="122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096240" y="5532120"/>
              <a:ext cx="14400" cy="12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99920" y="5532120"/>
              <a:ext cx="720" cy="122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99920" y="5532120"/>
              <a:ext cx="14760" cy="12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102520" y="5532120"/>
              <a:ext cx="720" cy="122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102520" y="5532120"/>
              <a:ext cx="15480" cy="12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 flipV="1">
            <a:off x="5106960" y="4723920"/>
            <a:ext cx="65160" cy="801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5092560" y="5202000"/>
            <a:ext cx="1540080" cy="323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318280" y="5029200"/>
            <a:ext cx="439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7087C-589C-4523-9028-AAF20EAE1A0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611280" y="260280"/>
            <a:ext cx="48862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Rediseñ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58760" y="1371600"/>
            <a:ext cx="2438280" cy="1066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tablecer dirección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606680" y="2895480"/>
            <a:ext cx="3352680" cy="6098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Diseñar un nuevo pro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5" name=""/>
          <p:cNvCxnSpPr>
            <a:stCxn id="603" idx="2"/>
            <a:endCxn id="604" idx="1"/>
          </p:cNvCxnSpPr>
          <p:nvPr/>
        </p:nvCxnSpPr>
        <p:spPr>
          <a:xfrm flipH="1" rot="16200000">
            <a:off x="1110240" y="2704680"/>
            <a:ext cx="7628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6" name=""/>
          <p:cNvCxnSpPr>
            <a:stCxn id="604" idx="0"/>
            <a:endCxn id="603" idx="3"/>
          </p:cNvCxnSpPr>
          <p:nvPr/>
        </p:nvCxnSpPr>
        <p:spPr>
          <a:xfrm flipV="1" rot="16200000">
            <a:off x="2444040" y="2056680"/>
            <a:ext cx="991080" cy="6865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7" name=""/>
          <p:cNvSpPr/>
          <p:nvPr/>
        </p:nvSpPr>
        <p:spPr>
          <a:xfrm>
            <a:off x="3740040" y="4038480"/>
            <a:ext cx="3276720" cy="60984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Modelar y evaluar re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026040" y="5105520"/>
            <a:ext cx="3048120" cy="6094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Detallar y probar re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9" name=""/>
          <p:cNvCxnSpPr>
            <a:stCxn id="604" idx="2"/>
            <a:endCxn id="607" idx="1"/>
          </p:cNvCxnSpPr>
          <p:nvPr/>
        </p:nvCxnSpPr>
        <p:spPr>
          <a:xfrm flipH="1" rot="16200000">
            <a:off x="3092400" y="3695400"/>
            <a:ext cx="838800" cy="4579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0" name=""/>
          <p:cNvCxnSpPr>
            <a:stCxn id="607" idx="2"/>
            <a:endCxn id="608" idx="1"/>
          </p:cNvCxnSpPr>
          <p:nvPr/>
        </p:nvCxnSpPr>
        <p:spPr>
          <a:xfrm flipH="1" rot="16200000">
            <a:off x="5320440" y="4705200"/>
            <a:ext cx="762480" cy="6483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1" name=""/>
          <p:cNvSpPr/>
          <p:nvPr/>
        </p:nvSpPr>
        <p:spPr>
          <a:xfrm>
            <a:off x="0" y="260280"/>
            <a:ext cx="990720" cy="990720"/>
          </a:xfrm>
          <a:custGeom>
            <a:avLst/>
            <a:gdLst>
              <a:gd name="textAreaLeft" fmla="*/ 154800 w 990720"/>
              <a:gd name="textAreaRight" fmla="*/ 866880 w 99072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25C19-D00A-4768-82D8-7F19205EDD6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¿Qué es un proceso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Es una secuencia y encadenamiento de pasos, operaciones o transformaciones relacionadas a un conjunto específico de insumos o actividades que intentan producir un resultado, ya sea un producto o la prestación de un servicio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Esta transformación se define claramente por la arquitectura de proceso, que incorpora 5 elemento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295280" indent="-539640">
              <a:lnSpc>
                <a:spcPct val="12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Entradas y Salidas (inputs o outputs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295280" indent="-539640">
              <a:lnSpc>
                <a:spcPct val="12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Unidades de flujo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295280" indent="-539640">
              <a:lnSpc>
                <a:spcPct val="12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Una red de actividades y almacenes (buffers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295280" indent="-539640">
              <a:lnSpc>
                <a:spcPct val="12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Recursos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295280" indent="-539640">
              <a:lnSpc>
                <a:spcPct val="12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Estructura de informació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3BAFB-169A-4BA3-A690-7A6A9F47FAB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¿Cómo hago el rediseño de los procesos 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31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n esto no hay recetas, pero si algunas orientaciones básicas que sirven para conducir el cambio en los proceso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9000" indent="-1890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Cada una de estas posibilidades debe analizarse en función del proceso que se quiere rediseñar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9000" indent="-1890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Conceptos útile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Desperdicio: errores en la ejecución; retrabajos; etc. 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Actividad que No Agrega Valor: representa las actividades que están demás, que impiden el avance ágil del proceso, sólo agrega costos y tiempo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Lo central en el rediseño es identificar y eliminar el desperdicio y actividades que no agregan valor en los proceso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E132E-56E1-4650-BBC4-3E55E23A870D}" type="slidenum">
              <a:t>20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4920" y="131400"/>
            <a:ext cx="79992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Direcciones de cambio posibl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8040" y="1312560"/>
            <a:ext cx="806616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liminar y/o reducir desperdici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Simplificar, simplificar, simplifica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Combinar pasos de proces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Crear rutas alterna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Trabajar en paralelo, no en líne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Disminuir la VARIABILIDA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Captar la información en el orig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Mejorar la coordinación y comunicación entre grupos de trabaj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Automatización y utilización de tecnologí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Dejar que los clientes ayuden en el proces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37E7C-36B9-42F7-A487-8F2D8C2F7B5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721692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Los procesos no solo generan resultados deseados, también producen desperdici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90600" y="1341000"/>
            <a:ext cx="8408880" cy="30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Sobreproducció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Tiempos de espera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Escoria o material de desech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Pérdidas por transpor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Pérdidas por procesamient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Inventari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Desperdicio de movimient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Productos defectuos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Reclam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250920" y="0"/>
            <a:ext cx="69310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Mejorando la coordinación y comunicación entre grupos de trabajo a través de las 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00720" y="4797360"/>
            <a:ext cx="259092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RELACIONES 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OTRAS ORGANIZ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Utilizando tecnología: Internet, Call Center, Work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0760" y="3716280"/>
            <a:ext cx="365760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RELACIONES INTERN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HORIZONTALES </a:t>
            </a:r>
            <a:r>
              <a:rPr b="0" lang="es-CL" sz="1400" spc="-1" strike="noStrike">
                <a:solidFill>
                  <a:srgbClr val="000066"/>
                </a:solidFill>
                <a:latin typeface="Arial"/>
              </a:rPr>
              <a:t>(en el mismo nivel)</a:t>
            </a: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 Y VERTICALES </a:t>
            </a:r>
            <a:r>
              <a:rPr b="0" lang="es-CL" sz="1400" spc="-1" strike="noStrike">
                <a:solidFill>
                  <a:srgbClr val="000066"/>
                </a:solidFill>
                <a:latin typeface="Arial"/>
              </a:rPr>
              <a:t>(entre dueños y subordinad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Workflow –Direcciona automáticamente documentos en rutas predefinidas respetando secuencia y prerequis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Groupware: Apoya grupos de trabajo que deben compartir in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505480" y="1447920"/>
            <a:ext cx="3352680" cy="20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RELACIONES CON LOS CLIENTES EXTER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Reclamos y suger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Participación activa en el diseño de procesos y produc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Permitir que el cliente tenga acceso a más información para que pueda tomar decisio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267080" y="5486400"/>
            <a:ext cx="1898640" cy="984240"/>
            <a:chOff x="4267080" y="5486400"/>
            <a:chExt cx="1898640" cy="984240"/>
          </a:xfrm>
        </p:grpSpPr>
        <p:sp>
          <p:nvSpPr>
            <p:cNvPr id="625" name=""/>
            <p:cNvSpPr/>
            <p:nvPr/>
          </p:nvSpPr>
          <p:spPr>
            <a:xfrm>
              <a:off x="4267080" y="5486400"/>
              <a:ext cx="1898640" cy="9842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26" name=""/>
            <p:cNvGraphicFramePr/>
            <p:nvPr/>
          </p:nvGraphicFramePr>
          <p:xfrm>
            <a:off x="4426200" y="5679720"/>
            <a:ext cx="599400" cy="52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26200" y="5679720"/>
                      <a:ext cx="599400" cy="5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8" name=""/>
            <p:cNvGraphicFramePr/>
            <p:nvPr/>
          </p:nvGraphicFramePr>
          <p:xfrm>
            <a:off x="5080320" y="5679720"/>
            <a:ext cx="871920" cy="561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2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80320" y="5679720"/>
                      <a:ext cx="871920" cy="56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30" name=""/>
          <p:cNvSpPr/>
          <p:nvPr/>
        </p:nvSpPr>
        <p:spPr>
          <a:xfrm>
            <a:off x="2438280" y="2286000"/>
            <a:ext cx="2743200" cy="3200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438280" y="2209680"/>
            <a:ext cx="3124440" cy="1828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609480" y="1447920"/>
            <a:ext cx="1892520" cy="1143000"/>
            <a:chOff x="609480" y="1447920"/>
            <a:chExt cx="1892520" cy="1143000"/>
          </a:xfrm>
        </p:grpSpPr>
        <p:sp>
          <p:nvSpPr>
            <p:cNvPr id="633" name=""/>
            <p:cNvSpPr/>
            <p:nvPr/>
          </p:nvSpPr>
          <p:spPr>
            <a:xfrm flipV="1">
              <a:off x="1476360" y="1687320"/>
              <a:ext cx="117000" cy="6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09480" y="1447920"/>
              <a:ext cx="1892520" cy="11430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35320" y="1571040"/>
              <a:ext cx="323280" cy="115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15760" y="1940760"/>
              <a:ext cx="199440" cy="115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270080" y="1940760"/>
              <a:ext cx="199440" cy="115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724040" y="1940760"/>
              <a:ext cx="199440" cy="115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137320" y="1940760"/>
              <a:ext cx="199440" cy="115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898560" y="1686960"/>
              <a:ext cx="570960" cy="29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765440" y="1694160"/>
              <a:ext cx="7560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1427760" y="1694160"/>
              <a:ext cx="171720" cy="28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765440" y="1694160"/>
              <a:ext cx="40572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022400" y="2019240"/>
              <a:ext cx="24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476360" y="2019240"/>
              <a:ext cx="24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30680" y="2019240"/>
              <a:ext cx="19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311480" y="2351160"/>
              <a:ext cx="199440" cy="1162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98560" y="2063880"/>
              <a:ext cx="405720" cy="36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390320" y="2063880"/>
              <a:ext cx="0" cy="28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1476360" y="2057040"/>
              <a:ext cx="323280" cy="37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1559160" y="2056680"/>
              <a:ext cx="694800" cy="3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1476360" y="1687320"/>
              <a:ext cx="199440" cy="6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5334120" y="3892680"/>
            <a:ext cx="1746000" cy="831600"/>
            <a:chOff x="5334120" y="3892680"/>
            <a:chExt cx="1746000" cy="831600"/>
          </a:xfrm>
        </p:grpSpPr>
        <p:sp>
          <p:nvSpPr>
            <p:cNvPr id="654" name=""/>
            <p:cNvSpPr/>
            <p:nvPr/>
          </p:nvSpPr>
          <p:spPr>
            <a:xfrm>
              <a:off x="5334120" y="3892680"/>
              <a:ext cx="1746000" cy="831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55" name=""/>
            <p:cNvGraphicFramePr/>
            <p:nvPr/>
          </p:nvGraphicFramePr>
          <p:xfrm>
            <a:off x="5712120" y="3931560"/>
            <a:ext cx="917280" cy="723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12120" y="3931560"/>
                      <a:ext cx="917280" cy="72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7A3F5-7A76-4098-A5C5-E066AF391C5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380880" y="5735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5735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Automatización y utilización de la tecnología..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60" name=""/>
          <p:cNvGraphicFramePr/>
          <p:nvPr/>
        </p:nvGraphicFramePr>
        <p:xfrm>
          <a:off x="608040" y="2284560"/>
          <a:ext cx="457200" cy="47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2284560"/>
                    <a:ext cx="45720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2" name=""/>
          <p:cNvGraphicFramePr/>
          <p:nvPr/>
        </p:nvGraphicFramePr>
        <p:xfrm>
          <a:off x="760320" y="2513160"/>
          <a:ext cx="457200" cy="47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0320" y="2513160"/>
                    <a:ext cx="45720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912960" y="2741760"/>
          <a:ext cx="457200" cy="47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2960" y="2741760"/>
                    <a:ext cx="45720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3198960" y="2519280"/>
          <a:ext cx="457200" cy="54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8960" y="2519280"/>
                    <a:ext cx="4572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8075520" y="2665440"/>
          <a:ext cx="457200" cy="555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075520" y="2665440"/>
                    <a:ext cx="45720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8151840" y="2513160"/>
          <a:ext cx="457200" cy="555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151840" y="2513160"/>
                    <a:ext cx="45720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2" name=""/>
          <p:cNvGraphicFramePr/>
          <p:nvPr/>
        </p:nvGraphicFramePr>
        <p:xfrm>
          <a:off x="8304120" y="2360520"/>
          <a:ext cx="457200" cy="555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7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04120" y="2360520"/>
                    <a:ext cx="45720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4" name=""/>
          <p:cNvSpPr/>
          <p:nvPr/>
        </p:nvSpPr>
        <p:spPr>
          <a:xfrm>
            <a:off x="739800" y="1371600"/>
            <a:ext cx="459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00160" indent="85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) Proceso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16120" y="3627360"/>
            <a:ext cx="4518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00160" indent="85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) Proceso automat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5332320" y="2595600"/>
          <a:ext cx="457200" cy="549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32320" y="2595600"/>
                    <a:ext cx="4572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8" name=""/>
          <p:cNvGraphicFramePr/>
          <p:nvPr/>
        </p:nvGraphicFramePr>
        <p:xfrm>
          <a:off x="760320" y="2436840"/>
          <a:ext cx="457200" cy="479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60320" y="2436840"/>
                    <a:ext cx="45720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0" name=""/>
          <p:cNvGraphicFramePr/>
          <p:nvPr/>
        </p:nvGraphicFramePr>
        <p:xfrm>
          <a:off x="912960" y="2665440"/>
          <a:ext cx="457200" cy="479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8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12960" y="2665440"/>
                    <a:ext cx="45720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4341960" y="5354640"/>
          <a:ext cx="457200" cy="533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8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341960" y="5354640"/>
                    <a:ext cx="457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4" name=""/>
          <p:cNvGraphicFramePr/>
          <p:nvPr/>
        </p:nvGraphicFramePr>
        <p:xfrm>
          <a:off x="4417920" y="5506920"/>
          <a:ext cx="45720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417920" y="5506920"/>
                    <a:ext cx="457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6" name=""/>
          <p:cNvGraphicFramePr/>
          <p:nvPr/>
        </p:nvGraphicFramePr>
        <p:xfrm>
          <a:off x="4570560" y="5659560"/>
          <a:ext cx="457200" cy="533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8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570560" y="5659560"/>
                    <a:ext cx="45720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8" name=""/>
          <p:cNvSpPr/>
          <p:nvPr/>
        </p:nvSpPr>
        <p:spPr>
          <a:xfrm>
            <a:off x="3586320" y="5735520"/>
            <a:ext cx="67284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528920" y="2840040"/>
            <a:ext cx="67284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2057400" y="2022480"/>
          <a:ext cx="1066680" cy="12524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91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057400" y="2022480"/>
                    <a:ext cx="1066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2" name=""/>
          <p:cNvSpPr/>
          <p:nvPr/>
        </p:nvSpPr>
        <p:spPr>
          <a:xfrm>
            <a:off x="2900520" y="3297240"/>
            <a:ext cx="135864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186520" y="3297240"/>
            <a:ext cx="135864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243920" y="2840040"/>
            <a:ext cx="67284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5326200" y="5735520"/>
            <a:ext cx="69840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4982760" y="5056200"/>
            <a:ext cx="50760" cy="35388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979520" y="6192720"/>
            <a:ext cx="1655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Base de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4038480" y="2001960"/>
          <a:ext cx="1067040" cy="12524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038480" y="2001960"/>
                    <a:ext cx="106704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0" name=""/>
          <p:cNvGraphicFramePr/>
          <p:nvPr/>
        </p:nvGraphicFramePr>
        <p:xfrm>
          <a:off x="6324480" y="2077920"/>
          <a:ext cx="1067040" cy="12528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701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324480" y="2077920"/>
                    <a:ext cx="106704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2" name=""/>
          <p:cNvGraphicFramePr/>
          <p:nvPr/>
        </p:nvGraphicFramePr>
        <p:xfrm>
          <a:off x="4495680" y="3678120"/>
          <a:ext cx="1067040" cy="12528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703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495680" y="3678120"/>
                    <a:ext cx="106704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6019920" y="4821120"/>
          <a:ext cx="1066680" cy="12528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05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019920" y="4821120"/>
                    <a:ext cx="106668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6" name=""/>
          <p:cNvGraphicFramePr/>
          <p:nvPr/>
        </p:nvGraphicFramePr>
        <p:xfrm>
          <a:off x="2514600" y="4897440"/>
          <a:ext cx="1066680" cy="12524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514600" y="4897440"/>
                    <a:ext cx="1066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4D73B-C1EB-44AD-90D6-51F1183B294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Dejar que los clientes ayuden en el proces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773280" y="1268280"/>
            <a:ext cx="7432560" cy="243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00160" indent="85680">
              <a:lnSpc>
                <a:spcPct val="11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Ingreso de información por parte del clien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76440">
              <a:lnSpc>
                <a:spcPct val="110000"/>
              </a:lnSpc>
              <a:buClr>
                <a:srgbClr val="000066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Fiscalización basada en Interne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00160" indent="85680">
              <a:lnSpc>
                <a:spcPct val="11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Dejar que el cliente tenga acceso a más información y pueda decidir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00160" indent="85680">
              <a:lnSpc>
                <a:spcPct val="11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Autoservici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00160" indent="85680">
              <a:lnSpc>
                <a:spcPct val="11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Control del proceso por parte del client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88C3B-1FB5-4F9B-A569-D9A1C847D2A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900080" y="291960"/>
            <a:ext cx="4962600" cy="7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Impleme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990720" y="1828800"/>
            <a:ext cx="2819160" cy="1066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iseñar el plan de Imple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819520" y="3352680"/>
            <a:ext cx="3352680" cy="6858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mpleme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4" name=""/>
          <p:cNvCxnSpPr>
            <a:stCxn id="712" idx="2"/>
            <a:endCxn id="713" idx="1"/>
          </p:cNvCxnSpPr>
          <p:nvPr/>
        </p:nvCxnSpPr>
        <p:spPr>
          <a:xfrm flipH="1" rot="16200000">
            <a:off x="2209680" y="3085560"/>
            <a:ext cx="801000" cy="4197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713" idx="0"/>
            <a:endCxn id="712" idx="3"/>
          </p:cNvCxnSpPr>
          <p:nvPr/>
        </p:nvCxnSpPr>
        <p:spPr>
          <a:xfrm flipV="1" rot="16200000">
            <a:off x="3656880" y="2513880"/>
            <a:ext cx="991080" cy="6865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6" name=""/>
          <p:cNvSpPr/>
          <p:nvPr/>
        </p:nvSpPr>
        <p:spPr>
          <a:xfrm>
            <a:off x="4952880" y="4495680"/>
            <a:ext cx="3276720" cy="60984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edición y E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7" name=""/>
          <p:cNvCxnSpPr>
            <a:stCxn id="713" idx="2"/>
            <a:endCxn id="716" idx="1"/>
          </p:cNvCxnSpPr>
          <p:nvPr/>
        </p:nvCxnSpPr>
        <p:spPr>
          <a:xfrm flipH="1" rot="16200000">
            <a:off x="4343040" y="4190400"/>
            <a:ext cx="762840" cy="4579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716" idx="0"/>
            <a:endCxn id="713" idx="3"/>
          </p:cNvCxnSpPr>
          <p:nvPr/>
        </p:nvCxnSpPr>
        <p:spPr>
          <a:xfrm flipV="1" rot="16200000">
            <a:off x="5981400" y="3885480"/>
            <a:ext cx="800640" cy="4197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9" name=""/>
          <p:cNvSpPr/>
          <p:nvPr/>
        </p:nvSpPr>
        <p:spPr>
          <a:xfrm>
            <a:off x="0" y="304920"/>
            <a:ext cx="990720" cy="990360"/>
          </a:xfrm>
          <a:custGeom>
            <a:avLst/>
            <a:gdLst>
              <a:gd name="textAreaLeft" fmla="*/ 154800 w 990720"/>
              <a:gd name="textAreaRight" fmla="*/ 866880 w 99072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ddddd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251C9-B028-499F-9F4A-6150BADB455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La implementación es clave en el éxito de un rediseño de proces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63248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No sirve un cuidadoso proceso previo si no se hace una muy buena implementación del rediseño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Consideracione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Explicar los alcances del rediseño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Capacita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Asegurar los </a:t>
            </a: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medios y tecnologías de apoy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Administración de proyecto y del cambi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Preocupación por los detall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Transició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Apoyo gerencial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562720" y="3962520"/>
            <a:ext cx="3581280" cy="2361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squemas de implement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ilo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Marcha blan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aral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alto al vací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mplantación gra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8926B-F190-4757-8B08-7407BE2278C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3" name=""/>
          <p:cNvGraphicFramePr/>
          <p:nvPr/>
        </p:nvGraphicFramePr>
        <p:xfrm>
          <a:off x="76320" y="57240"/>
          <a:ext cx="9067680" cy="68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57240"/>
                    <a:ext cx="9067680" cy="68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5" name=""/>
          <p:cNvSpPr/>
          <p:nvPr/>
        </p:nvSpPr>
        <p:spPr>
          <a:xfrm>
            <a:off x="4211640" y="57240"/>
            <a:ext cx="36734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Rediseño de Cobranza en Tesorería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30F56-9E23-4EB5-A896-FA51AADFB23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" descr=""/>
          <p:cNvPicPr/>
          <p:nvPr/>
        </p:nvPicPr>
        <p:blipFill>
          <a:blip r:embed="rId1"/>
          <a:stretch/>
        </p:blipFill>
        <p:spPr>
          <a:xfrm>
            <a:off x="181080" y="550800"/>
            <a:ext cx="718920" cy="646200"/>
          </a:xfrm>
          <a:prstGeom prst="rect">
            <a:avLst/>
          </a:prstGeom>
          <a:ln w="0">
            <a:noFill/>
          </a:ln>
        </p:spPr>
      </p:pic>
      <p:sp>
        <p:nvSpPr>
          <p:cNvPr id="727" name=""/>
          <p:cNvSpPr/>
          <p:nvPr/>
        </p:nvSpPr>
        <p:spPr>
          <a:xfrm>
            <a:off x="179280" y="126828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87280" y="0"/>
            <a:ext cx="7201080" cy="15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900000" y="457200"/>
            <a:ext cx="80154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6699"/>
                </a:solidFill>
                <a:latin typeface="Century Gothic"/>
              </a:rPr>
              <a:t>Incremento en la Recaudación Por Acciones de Cobranza (Año 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690560" y="6629400"/>
            <a:ext cx="610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</a:rPr>
              <a:t>* Tipo de cambio Nominal promedio anual del dólar observado. Fuente Banco Central de Ch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2362320" y="4572000"/>
            <a:ext cx="4514760" cy="203976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3"/>
          <a:stretch/>
        </p:blipFill>
        <p:spPr>
          <a:xfrm>
            <a:off x="1905120" y="1295280"/>
            <a:ext cx="5486400" cy="320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CC9B0-D752-41AD-B966-7ACF49A934A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000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RGANIGRAMA TRA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24440" y="1079640"/>
            <a:ext cx="1206360" cy="52056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24040" y="2070000"/>
            <a:ext cx="97776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43000" y="2070000"/>
            <a:ext cx="120672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14600" y="2070000"/>
            <a:ext cx="97812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33920" y="2070000"/>
            <a:ext cx="113040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05520" y="2070000"/>
            <a:ext cx="113040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00800" y="2070000"/>
            <a:ext cx="105408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57800" y="3213000"/>
            <a:ext cx="74952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3213000"/>
            <a:ext cx="74952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90720" y="420372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24440" y="321300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33720" y="321300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14800" y="3213000"/>
            <a:ext cx="74952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48520" y="321300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1840" y="466092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48120" y="466092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14800" y="4660920"/>
            <a:ext cx="74952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81440" y="420372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90720" y="321300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00000" y="4203720"/>
            <a:ext cx="74952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13280" y="1144440"/>
            <a:ext cx="1305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91720" y="2233440"/>
            <a:ext cx="807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icial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47280" y="2233440"/>
            <a:ext cx="1146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eg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71000" y="2233440"/>
            <a:ext cx="1127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dire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08120" y="2233440"/>
            <a:ext cx="81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efatu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35000" y="2081160"/>
            <a:ext cx="9478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en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iudada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1447920"/>
            <a:ext cx="0" cy="3682800"/>
          </a:xfrm>
          <a:prstGeom prst="line">
            <a:avLst/>
          </a:prstGeom>
          <a:ln w="5076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610480" y="1371600"/>
            <a:ext cx="0" cy="375912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4080" y="5270400"/>
            <a:ext cx="1802880" cy="5454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La información fluy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cia arrib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27560" y="5346720"/>
            <a:ext cx="2549880" cy="5454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Las Políticas y Desiciones so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esplegadas hacia abaj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81240" y="1835280"/>
            <a:ext cx="661644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04920" y="2978280"/>
            <a:ext cx="21970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05320" y="2978280"/>
            <a:ext cx="8254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39040" y="2978280"/>
            <a:ext cx="97776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81240" y="3968640"/>
            <a:ext cx="19684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53040" y="4425840"/>
            <a:ext cx="21970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27440" y="16128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7476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90416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4636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6568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6096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3256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9844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0848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9884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3728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3256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2328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74760" y="39751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55840" y="39751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6548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46560" y="44323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56240" y="44323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89560" y="44323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03360" y="2679840"/>
            <a:ext cx="0" cy="2919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37280" y="2679840"/>
            <a:ext cx="0" cy="5205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13440" y="2679840"/>
            <a:ext cx="0" cy="2919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65480" y="3670200"/>
            <a:ext cx="0" cy="29232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65480" y="39751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89560" y="3670200"/>
            <a:ext cx="0" cy="74952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06720" y="2233440"/>
            <a:ext cx="1067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0520" y="927000"/>
            <a:ext cx="8521560" cy="5168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43042-89A8-4AFB-85B8-FB9F09CE43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Mejoramiento de Productividad, Rediseño de Procesos de Servipa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458200" cy="487692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/>
          <p:nvPr/>
        </p:nvSpPr>
        <p:spPr>
          <a:xfrm>
            <a:off x="7027920" y="6400800"/>
            <a:ext cx="1028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d9e1d5"/>
                </a:solidFill>
                <a:uFillTx/>
                <a:latin typeface="Times New Roman"/>
                <a:hlinkClick r:id="rId2" action="ppaction://hlinksldjump"/>
              </a:rPr>
              <a:t>V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24184-413B-412E-BD6F-E35ACB5EFCE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33520" y="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RGANIGRAMAS FUTURO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mo trabajan las organizaciones orientadas a los proceso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7240" y="1606680"/>
            <a:ext cx="90180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7560" y="2521080"/>
            <a:ext cx="749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01960" y="2521080"/>
            <a:ext cx="749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16360" y="2521080"/>
            <a:ext cx="749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30760" y="2521080"/>
            <a:ext cx="8254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21480" y="2521080"/>
            <a:ext cx="749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35880" y="2521080"/>
            <a:ext cx="749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97440" y="35114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58960" y="35114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06680" y="4502160"/>
            <a:ext cx="6728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7240" y="35114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35480" y="3511440"/>
            <a:ext cx="6728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59360" y="35114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9560" y="35114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78680" y="4883040"/>
            <a:ext cx="6728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7240" y="48830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87960" y="48830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68440" y="450216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21080" y="3511440"/>
            <a:ext cx="6728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44560" y="450216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68440" y="2286000"/>
            <a:ext cx="4635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9840" y="327672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54440" y="32767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25440" y="426708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25840" y="4648320"/>
            <a:ext cx="219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48320" y="20638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6232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9112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8148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588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3372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832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3432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19320" y="4273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66880" y="4273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9548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4654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29400" y="4654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62720" y="4654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81080" y="4273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1040" y="1454040"/>
            <a:ext cx="8521920" cy="4711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62320" y="3054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33720" y="38926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3054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62720" y="3892680"/>
            <a:ext cx="0" cy="9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5880" y="3054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02360" y="32767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34320" y="327672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87760" y="427356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86200" y="38926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28320" y="5423040"/>
            <a:ext cx="304812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Los eventos suceden horizontalmen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06840" y="5867280"/>
            <a:ext cx="19303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7360" y="3511440"/>
            <a:ext cx="1206360" cy="596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2800" y="3629160"/>
            <a:ext cx="114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ri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570800" y="2444760"/>
            <a:ext cx="1206360" cy="596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756920" y="2562120"/>
            <a:ext cx="850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25760" y="3811680"/>
            <a:ext cx="55872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209680" y="2812680"/>
            <a:ext cx="0" cy="104148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62280" y="2813040"/>
            <a:ext cx="0" cy="162576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752560" y="4398840"/>
            <a:ext cx="154944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87960" y="2803680"/>
            <a:ext cx="0" cy="162540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95920" y="2809800"/>
            <a:ext cx="0" cy="147024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86560" y="4246560"/>
            <a:ext cx="139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7086600" y="2774520"/>
            <a:ext cx="0" cy="149868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59600" y="2752560"/>
            <a:ext cx="534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0320" y="2838600"/>
            <a:ext cx="6094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60960" y="2809800"/>
            <a:ext cx="1447560" cy="97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BCBF1-8151-4D03-8CF3-39410F81BF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5378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265880" cy="9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¿Qué es un proceso?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21280" y="2276640"/>
            <a:ext cx="1511280" cy="977760"/>
          </a:xfrm>
          <a:prstGeom prst="rect">
            <a:avLst/>
          </a:prstGeom>
          <a:gradFill rotWithShape="0">
            <a:gsLst>
              <a:gs pos="0">
                <a:srgbClr val="4d71c9"/>
              </a:gs>
              <a:gs pos="50000">
                <a:srgbClr val="618ffd"/>
              </a:gs>
              <a:gs pos="100000">
                <a:srgbClr val="4d71c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PRO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33720" y="2878200"/>
            <a:ext cx="19620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2651040"/>
            <a:ext cx="1828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00000" y="2249640"/>
            <a:ext cx="13852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(Insu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657760" y="2801520"/>
            <a:ext cx="18097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694480" y="2249640"/>
            <a:ext cx="1604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(Produc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081760" y="1125360"/>
            <a:ext cx="2401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Retroali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2280" y="2192400"/>
            <a:ext cx="1968480" cy="1434960"/>
          </a:xfrm>
          <a:prstGeom prst="ellipse">
            <a:avLst/>
          </a:prstGeom>
          <a:gradFill rotWithShape="0">
            <a:gsLst>
              <a:gs pos="0">
                <a:srgbClr val="ab8449"/>
              </a:gs>
              <a:gs pos="50000">
                <a:srgbClr val="f6bf69"/>
              </a:gs>
              <a:gs pos="100000">
                <a:srgbClr val="ab844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PROVEE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interno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ex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473960" y="2124000"/>
            <a:ext cx="1587600" cy="1435320"/>
          </a:xfrm>
          <a:prstGeom prst="ellipse">
            <a:avLst/>
          </a:prstGeom>
          <a:gradFill rotWithShape="0">
            <a:gsLst>
              <a:gs pos="0">
                <a:srgbClr val="ab8449"/>
              </a:gs>
              <a:gs pos="50000">
                <a:srgbClr val="f6bf69"/>
              </a:gs>
              <a:gs pos="100000">
                <a:srgbClr val="ab844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interno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ex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43080" y="1511280"/>
            <a:ext cx="3419640" cy="122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75" y="0"/>
                </a:moveTo>
                <a:arcTo wR="10800" hR="10800" stAng="-5376206" swAng="5376206"/>
                <a:lnTo>
                  <a:pt x="10800" y="10800"/>
                </a:lnTo>
                <a:close/>
              </a:path>
              <a:path fill="none" w="21600" h="21600">
                <a:moveTo>
                  <a:pt x="10875" y="0"/>
                </a:moveTo>
                <a:arcTo wR="10800" hR="10800" stAng="-5376206" swAng="5376206"/>
              </a:path>
            </a:pathLst>
          </a:custGeom>
          <a:noFill/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62600" y="1511280"/>
            <a:ext cx="3120840" cy="137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942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94200"/>
              </a:path>
            </a:pathLst>
          </a:custGeom>
          <a:noFill/>
          <a:ln cap="rnd"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27160" y="4325760"/>
            <a:ext cx="547920" cy="555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32280" y="4311720"/>
            <a:ext cx="549000" cy="63180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55960" y="4325760"/>
            <a:ext cx="547920" cy="55584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86400" y="4325760"/>
            <a:ext cx="549000" cy="55584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18280" y="4311720"/>
            <a:ext cx="549000" cy="63180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32680" y="4311720"/>
            <a:ext cx="549000" cy="631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147080" y="4311720"/>
            <a:ext cx="549000" cy="72216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581280" y="4672080"/>
            <a:ext cx="182520" cy="9216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403880" y="4672080"/>
            <a:ext cx="91800" cy="9216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135400" y="4672080"/>
            <a:ext cx="92160" cy="9216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867280" y="4672080"/>
            <a:ext cx="274680" cy="9216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81680" y="4672080"/>
            <a:ext cx="27468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6507000" y="4951440"/>
            <a:ext cx="0" cy="457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2300400" y="4951440"/>
            <a:ext cx="0" cy="457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35000" y="5419800"/>
            <a:ext cx="1036800" cy="49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600" spc="-1" strike="noStrike">
                <a:solidFill>
                  <a:srgbClr val="000066"/>
                </a:solidFill>
                <a:latin typeface="Arial"/>
              </a:rPr>
              <a:t>insum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495680" y="4951080"/>
            <a:ext cx="1096920" cy="63972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495680" y="4951080"/>
            <a:ext cx="365400" cy="63972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4129200" y="4951080"/>
            <a:ext cx="366480" cy="63972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81280" y="5607000"/>
            <a:ext cx="21337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600" spc="-1" strike="noStrike">
                <a:solidFill>
                  <a:srgbClr val="000066"/>
                </a:solidFill>
                <a:latin typeface="Arial"/>
              </a:rPr>
              <a:t>actividades de transformación que crean (o no) va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72200" y="5419800"/>
            <a:ext cx="974880" cy="41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600" spc="-1" strike="noStrike">
                <a:solidFill>
                  <a:srgbClr val="000066"/>
                </a:solidFill>
                <a:latin typeface="Arial"/>
              </a:rPr>
              <a:t>produ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29600" y="5046840"/>
            <a:ext cx="12049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600" spc="-1" strike="noStrike">
                <a:solidFill>
                  <a:srgbClr val="000066"/>
                </a:solidFill>
                <a:latin typeface="Arial"/>
              </a:rPr>
              <a:t>Valor cre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0120" y="5530680"/>
            <a:ext cx="0" cy="1005120"/>
          </a:xfrm>
          <a:prstGeom prst="line">
            <a:avLst/>
          </a:prstGeom>
          <a:ln cap="rnd" w="38160">
            <a:solidFill>
              <a:srgbClr val="cc33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1569960" y="4727520"/>
            <a:ext cx="0" cy="1736640"/>
          </a:xfrm>
          <a:prstGeom prst="line">
            <a:avLst/>
          </a:prstGeom>
          <a:ln cap="rnd" w="28440">
            <a:solidFill>
              <a:srgbClr val="cc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69960" y="4727520"/>
            <a:ext cx="273240" cy="0"/>
          </a:xfrm>
          <a:prstGeom prst="line">
            <a:avLst/>
          </a:prstGeom>
          <a:ln cap="rnd" w="38160">
            <a:solidFill>
              <a:srgbClr val="cc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00200" y="6521400"/>
            <a:ext cx="6019920" cy="0"/>
          </a:xfrm>
          <a:prstGeom prst="line">
            <a:avLst/>
          </a:prstGeom>
          <a:ln cap="rnd" w="38160">
            <a:solidFill>
              <a:srgbClr val="cc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90920" y="4692600"/>
            <a:ext cx="30456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3276720" y="4920840"/>
            <a:ext cx="1218960" cy="685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5400000">
            <a:off x="4381200" y="1315440"/>
            <a:ext cx="609480" cy="4953240"/>
          </a:xfrm>
          <a:custGeom>
            <a:avLst/>
            <a:gdLst>
              <a:gd name="textAreaLeft" fmla="*/ 389520 w 609480"/>
              <a:gd name="textAreaRight" fmla="*/ 609840 w 609480"/>
              <a:gd name="textAreaTop" fmla="*/ 128880 h 4953240"/>
              <a:gd name="textAreaBottom" fmla="*/ 4824360 h 4953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rcRect l="0" t="0" r="0" b="24749"/>
          <a:stretch/>
        </p:blipFill>
        <p:spPr>
          <a:xfrm>
            <a:off x="7272360" y="189000"/>
            <a:ext cx="1547640" cy="477720"/>
          </a:xfrm>
          <a:prstGeom prst="rect">
            <a:avLst/>
          </a:prstGeom>
          <a:ln w="0">
            <a:noFill/>
          </a:ln>
        </p:spPr>
      </p:pic>
      <p:grpSp>
        <p:nvGrpSpPr>
          <p:cNvPr id="272" name=""/>
          <p:cNvGrpSpPr/>
          <p:nvPr/>
        </p:nvGrpSpPr>
        <p:grpSpPr>
          <a:xfrm>
            <a:off x="324000" y="981000"/>
            <a:ext cx="8424360" cy="72720"/>
            <a:chOff x="324000" y="981000"/>
            <a:chExt cx="8424360" cy="72720"/>
          </a:xfrm>
        </p:grpSpPr>
        <p:sp>
          <p:nvSpPr>
            <p:cNvPr id="273" name=""/>
            <p:cNvSpPr/>
            <p:nvPr/>
          </p:nvSpPr>
          <p:spPr>
            <a:xfrm>
              <a:off x="324000" y="1053720"/>
              <a:ext cx="842436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4000" y="981000"/>
              <a:ext cx="842436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Atributos de un Proces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41878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Costo del Proces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Costo total incurrido en producir y entregar salidas (output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Tiempo del Proces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Tiempo total que se necesita para transformar una unidad de entrada (input) a una unidad de salida (output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409640" y="1267920"/>
            <a:ext cx="4429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Flexibilidad del Proces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La capacidad del proceso de producir y entregar una variedad de producto/servicio deseada. Relacionado con la flexibilidad de sus recurso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Calidad del Proces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La capacidad del proceso de producir y entregar productos de calidad. Se incluye la exactitud, fiabilidad y mantenimiento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2C57D-0EF8-4122-91BA-2D3BB14C7E2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400" spc="-1" strike="noStrike">
                <a:solidFill>
                  <a:srgbClr val="000066"/>
                </a:solidFill>
                <a:latin typeface="Arial"/>
              </a:rPr>
              <a:t>Mapeo de Proces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312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000066"/>
                </a:solidFill>
                <a:latin typeface="Arial"/>
              </a:rPr>
              <a:t>Es de gran utilidad identificar las fronteras de los procesos a través de un MAPA, por ejemplo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66"/>
                </a:solidFill>
                <a:latin typeface="Arial"/>
              </a:rPr>
              <a:t>El proceso A se inicia con.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66"/>
                </a:solidFill>
                <a:latin typeface="Arial"/>
              </a:rPr>
              <a:t>El proceso A termina con…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66"/>
                </a:solidFill>
                <a:latin typeface="Arial"/>
              </a:rPr>
              <a:t>El proceso A incluye…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66"/>
                </a:solidFill>
                <a:latin typeface="Arial"/>
              </a:rPr>
              <a:t>El proceso A excluye (en referencia a procesos adjun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Para rediseñar los procesos es importante el poder representarlos a través d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Flujogram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Diagrama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Mapas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Descripcion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0">
              <a:lnSpc>
                <a:spcPct val="14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49AEB-DE82-4833-BC6B-F70EFB8CB67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489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Ejemplo: Solicitud Crédito Hipotecari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81356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Una persona requiere financiar la compra de su vivienda, para lo cual se acerca al Banco y solicita su crédito hipotecario.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El ejecutivo solicita una serie de antecedentes de renta y de la vivienda a comprar.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Se realiza la Tasación, Estudio de Títulos e Historia Crediticia, para en ese momento hacer la solicitud de crédito.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El ejecutivo presenta la solicitud al Comité, el cual aprueba o no dicha solicitud, estableciendo las condiciones de otorgamiento.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El Banco procede a generar la escritura (en conjunto con quien vende la vivienda) y realiza la inscripción en el Conservador de Bienes Raíces.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Luego, se comunica al comprador que se acerque al Banco para cerrar la operación, entregando el dinero al vendedor y la escritura al comprador. 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F69DE-70C7-4F4B-B799-F091191335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1452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Pregunt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4160" y="1458720"/>
            <a:ext cx="733572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¿Cliente?,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¿Producto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¿Ejecutor (es)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¿Qué se hace en cada etapa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¿Hay medidas de tiempos involucrados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5A60B-0B6F-4A33-8173-448F1DF0C1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2T19:34:48Z</dcterms:created>
  <dc:creator>Analía Medrano</dc:creator>
  <dc:description/>
  <dc:language>en-US</dc:language>
  <cp:lastModifiedBy> </cp:lastModifiedBy>
  <cp:lastPrinted>2002-12-20T00:24:57Z</cp:lastPrinted>
  <dcterms:modified xsi:type="dcterms:W3CDTF">2008-07-26T21:09:59Z</dcterms:modified>
  <cp:revision>1033</cp:revision>
  <dc:subject>versión 9 de Abril de 2004</dc:subject>
  <dc:title>Material BID OAC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63657102</vt:r8>
  </property>
  <property fmtid="{D5CDD505-2E9C-101B-9397-08002B2CF9AE}" pid="3" name="_AuthorEmail">
    <vt:lpwstr>mariow@dii.uchile.cl</vt:lpwstr>
  </property>
  <property fmtid="{D5CDD505-2E9C-101B-9397-08002B2CF9AE}" pid="4" name="_AuthorEmailDisplayName">
    <vt:lpwstr>Mario Waissbluth</vt:lpwstr>
  </property>
  <property fmtid="{D5CDD505-2E9C-101B-9397-08002B2CF9AE}" pid="5" name="_EmailEntryID">
    <vt:lpwstr>000000007F2EF3D47D697843BE6559C4891B7D1344543500</vt:lpwstr>
  </property>
  <property fmtid="{D5CDD505-2E9C-101B-9397-08002B2CF9AE}" pid="6" name="_EmailStoreID">
    <vt:lpwstr>0000000038A1BB1005E5101AA1BB08002B2A56C20000454D534D44422E444C4C00000000000000001B55FA20AA6611CD9BC800AA002FC45A0C0000004D41494C002F6F3D496E766572746563204947542F6F753D494E5645525445435F4947542F636E3D526563697069656E74732F636E3D656865726E616E64657A00</vt:lpwstr>
  </property>
  <property fmtid="{D5CDD505-2E9C-101B-9397-08002B2CF9AE}" pid="7" name="_EmailSubject">
    <vt:lpwstr>Rediseño de Procesos MGPP.ppt</vt:lpwstr>
  </property>
  <property fmtid="{D5CDD505-2E9C-101B-9397-08002B2CF9AE}" pid="8" name="_PreviousAdHocReviewCycleID">
    <vt:r8>1320568217</vt:r8>
  </property>
  <property fmtid="{D5CDD505-2E9C-101B-9397-08002B2CF9AE}" pid="9" name="_ReviewCycleID">
    <vt:r8>2143798465</vt:r8>
  </property>
  <property fmtid="{D5CDD505-2E9C-101B-9397-08002B2CF9AE}" pid="10" name="_ReviewingToolsShownOnce">
    <vt:lpwstr/>
  </property>
</Properties>
</file>