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BDA2-D93F-47C3-99AB-A8F7443AD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C30A-0480-4895-88FC-4BCB1E11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80A3-AA7F-4D6F-A4B8-B159A661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E34-FD10-4595-B8E4-6DB69E48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6D77-4C47-4319-9266-031FBC75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19B4-3EB1-4050-9BEF-CFD66EA1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F135-E7E9-4532-84D3-2FFDEBAA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4CCD-B268-4180-84C1-27FF404B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AA84-2932-48B5-A1EC-7824CD83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B1C1-4D39-4014-B235-E8375E95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F178-A620-4A89-904B-A8710197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06C9-091F-4AA3-9330-368F4957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1F7-2D85-4666-A4E2-13D54536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9293-82DC-43CC-BB03-938659C8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E5B2-0868-471D-8BD8-9DB68CB2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5874-9078-4A99-BB58-5AC4C70F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0AF5-41FD-469D-A247-767E4BDB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7D29-8E56-4B64-967F-78E2B624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EEF-8C86-4841-A939-26335B01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6CAF-1882-47E4-9B8B-125C3816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570D-6BA2-42E9-9071-68B8A7E8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676-796D-43B9-ACC4-17238498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8DE9-E760-4E95-86C1-7B95A33F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9D8C-C164-4A1A-8603-6D74793B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B005-4CDC-45E3-B562-7B16B2E3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5004-B2E5-41F8-B7EB-CCE7F0C13CB0}" type="slidenum"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BF13-098E-42E7-A55A-4845382A50C1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IR%20carreras%20t&#233;cnicas.pdf" TargetMode="External"/><Relationship Id="rId2" Type="http://schemas.openxmlformats.org/officeDocument/2006/relationships/hyperlink" Target="file:///../../Pablo%20Gonz&apos;/My%20Documents/dii/clases/resp%20pendrive%2007%2006/clases/TIR%20carreras%20t&#233;cnicas.pdf" TargetMode="External"/><Relationship Id="rId3" Type="http://schemas.openxmlformats.org/officeDocument/2006/relationships/hyperlink" Target="http://futurolaboral.cl/" TargetMode="External"/><Relationship Id="rId4" Type="http://schemas.openxmlformats.org/officeDocument/2006/relationships/hyperlink" Target="file:///Derecho.jpg" TargetMode="External"/><Relationship Id="rId5" Type="http://schemas.openxmlformats.org/officeDocument/2006/relationships/hyperlink" Target="file:///Ingenier&#237;a%20industrial.jpg" TargetMode="External"/><Relationship Id="rId6" Type="http://schemas.openxmlformats.org/officeDocument/2006/relationships/hyperlink" Target="file:///Educaci&#243;n%20B&#225;sica.jpg" TargetMode="External"/><Relationship Id="rId7" Type="http://schemas.openxmlformats.org/officeDocument/2006/relationships/hyperlink" Target="file:///Periodismo.jpg" TargetMode="External"/><Relationship Id="rId8" Type="http://schemas.openxmlformats.org/officeDocument/2006/relationships/hyperlink" Target="file:///Psicolog&#237;a.jpg" TargetMode="External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DE LA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septiembre 2008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09480" y="62485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440" y="781200"/>
          <a:ext cx="9258480" cy="57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781200"/>
                    <a:ext cx="92584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Baja reten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egún OECD (2001) 28% de los que ingresaban se titulaban, contra 42% en OEC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La mayor parte de la deserción se produciría los dos primeros añ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372600" cy="5410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632448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sarrollo humano sustentable 10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o sólo requieren apoyo los más vulnerables, sin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aja eficiencia intern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o importa cuánto me esfuerce, en el liceo donde estoy nadie ha sacado nunca más de 500 puntos”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deudamiento vs. “Derecho”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ELEMENTOS CONCEPTU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TEMAS CLAV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ESTUDIANTI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grad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ntabilidad, masividad, equidad ex ante y ex post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OVERNANCE” Y FINANCI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La demanda social a la educación superior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figuración del sistema de incentivos y poder de los actore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Justificación de los aportes estat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de investig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region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nomía o impunidad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ecesidad de mejores regulacion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OBJETIVOS DE LOS SISTEMAS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2165040"/>
            <a:ext cx="7723080" cy="3794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Robbins (196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Calificaciones de la fuerza de trabaj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ombres y mujeres cultos, no meros especialist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umentar el conoci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ransmisión de una cultura común y estándares de ciudadaní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ANÁLISIS ECONÓMICO DE LOS SISTEMAS DE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4840" y="2165400"/>
            <a:ext cx="7724520" cy="38656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quema analítico: </a:t>
            </a:r>
            <a:r>
              <a:rPr b="0" i="1" lang="es-ES_tradnl" sz="2800" spc="-1" strike="noStrike">
                <a:solidFill>
                  <a:srgbClr val="cc6600"/>
                </a:solidFill>
                <a:latin typeface="Verdana"/>
              </a:rPr>
              <a:t>Empresa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 “multi- producto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pital humano o goce consum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Economía se centra en análisis como invers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Aumento stock de conocimientos humanidad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Otros? Extensión (actividades culturales, de difusión, servicio a la comunidad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2971800"/>
            <a:ext cx="3276720" cy="1219320"/>
          </a:xfrm>
          <a:prstGeom prst="ellipse">
            <a:avLst/>
          </a:prstGeom>
          <a:noFill/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RIVADOS RESPECTO A LA DOCENCI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ción para los demandantes es en parte un bien de consumo y en parte un bien de invers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sonas toman decisión de educarse sobre la base de: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eferenci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apacidad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disponi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Beneficios: mayores ingresos, etc.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ostos directos, indirectos y de oportunidad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rse si el VPN&gt;0 o equivalentemente TIR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LA DECISIÓN DE SEGUIR ESTUDIOS SUPERIORES</a:t>
            </a:r>
            <a:r>
              <a:rPr b="0" lang="es-ES_tradnl" sz="3200" spc="-1" strike="noStrike">
                <a:solidFill>
                  <a:srgbClr val="fbfff7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60020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TASAS DE RETORNO DE EDUCACIÓN SUPERIOR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Varios estudios para países latinoamericanos encuentran TIR &gt; 20% anual, excepto Uruguay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an crecido desde los novent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Chile Beyer (2001), Sapelli y Torche (2002), Mizala y Romaguera (2002), Arellano y Braun (1999), Carnoy et al. (200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Estimaciones por carrera utilizando información tributari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Mayoría de l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carrer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técnicas 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se ubica por encima del 20%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Alguna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http://www.futurolaboral.cl/FuturoLaboral/carreras/index.htm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Derech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Ingeniería industr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Pedagogía en educación bás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Periodismo y comunicación soc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Psicolog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DUCACIÓN SUPERIOR ES UNA INVERSIÓN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rivadamente rentabl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IR ha ido creciendo en el tiemp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6600"/>
                </a:solidFill>
                <a:latin typeface="Verdana"/>
              </a:rPr>
              <a:t>Esto de hecho es una causa de que la distribución del ingreso no ha mejorado en los noventa, pese al aumento de la escolaridad de la población sin estudios universitari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Masiva: 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inanciar la educación superior con recursos públicos siempre ha sido inequitativ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o cuando era un sistema de elite era via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¿Entonces por qué el Estado apoya la docencia de pregrado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Beneficios docencia educación superio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Mayor parte de beneficios son apropiados por el graduado vía mayores ingresos y bienestar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xternalidades” posi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oca evidencia empírica</a:t>
            </a:r>
            <a:r>
              <a:rPr b="0" lang="es-CL" sz="1200" spc="-1" strike="noStrike">
                <a:solidFill>
                  <a:srgbClr val="cc6600"/>
                </a:solidFill>
                <a:latin typeface="Tahoma"/>
              </a:rPr>
              <a:t> (pero ver McMahon, 2004)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2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¿Concentradas en niveles más tempranos? </a:t>
            </a:r>
            <a:r>
              <a:rPr b="0" lang="es-ES_tradnl" sz="1000" spc="-1" strike="noStrike">
                <a:solidFill>
                  <a:srgbClr val="cc6600"/>
                </a:solidFill>
                <a:latin typeface="Verdana"/>
              </a:rPr>
              <a:t>(Poterba, 1996, Hanushek, 2003)</a:t>
            </a:r>
            <a:endParaRPr b="0" lang="en-US" sz="1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xcepto por concentración de capital humano avanzado en ámbitos muy específic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ero es una inversión que tiene riesg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¿Aversión al riesgo privada </a:t>
            </a:r>
            <a:r>
              <a:rPr b="0" lang="es-ES_tradnl" sz="18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 social?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Imperfecciones mercado de capitales?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¿Restricciones de liquidez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Capacidad de presión grupos organizad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as soluciones desde la economí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…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Herramientas para resolver las fallas de mercado y hacer más eficiente el sistem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 enfrentar el problema de liquidez mediante créditos contingentes a ingresos o impuesto a los graduados se cree solucionar el problema de equidad </a:t>
            </a: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(Barr, Salmi)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bsidiar educación superior significaría apoyo a grupos de mayores ingresos (ex-ante y ex-post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Más sobre la solución vía mecanismos de crédit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demás, resuelve el ajuste de la oferta de graduados a necesidades del mercado labor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Esto se produce a través de la transmisión de señales del mercado laboral al sistema de educación superio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Lo que requiere resolver los problemas de información, que también tienen aspectos relacionados con equidad (los más informados son los que tienen más acceso a redes, etc.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¿Dónde falla el argumento?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parcial: costo de oportunidad y gasto para mantenimiento durante el período de estudi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ducación superior: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1" action="ppaction://hlinksldjump"/>
              </a:rPr>
              <a:t>bien de confianza/ bien de uso </a:t>
            </a: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ependiendo de capacidad de procesamiento del estudiante y su famil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Hay un rol del estado respecto a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2" action="ppaction://hlinksldjump"/>
              </a:rPr>
              <a:t>informar adecuadamente a los postulant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OTROS ELEMENTOS IMPORTANT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Tipos de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inspec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puede ser evaluada antes de compr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Sandía calada, estampilla, postal, revist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confianz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sumidor tarda mucho y a veces no comprueba nunca la calidad del bien que adquirió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sistencia a terremotos de una vivienda, oportunidad de una intervención quirúrgica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us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se determina al emple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s, electrodomésticos, etc. 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¿Evaluación compleja y compra poco frecuente? (rentas vitalicias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5880" y="6248520"/>
            <a:ext cx="30481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ORTANCIA DE INFORMAC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58160" cy="4110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tudios muestran que consumidores utilizan un pequeño set de 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educación consumidores utilizan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sus redes soci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oxis de calidad (apariencia físic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acceso al sistema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distribución calidad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Compensar desigualdades de origen: + recursos en los más pobres </a:t>
            </a: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(ej. Sudáfrica; subvención diferenciada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Horarios que no favorecen trabajo part-time,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ej. Brasi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¿Cuán largo me lo fiáis?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Acción afirmativa: ejemplo, premiar a los mejores alumnos de cada curs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280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DEL FINANCIAMIENTO A LA DOCENCIA DE PREGRADO EN CHILE (</a:t>
            </a:r>
            <a:r>
              <a:rPr b="0" lang="es-CL" sz="3600" spc="-1" strike="noStrike" u="sng">
                <a:solidFill>
                  <a:srgbClr val="996633"/>
                </a:solidFill>
                <a:uFillTx/>
                <a:latin typeface="Arial Black"/>
                <a:hlinkClick r:id="rId1" action="ppaction://hlinksldjump"/>
              </a:rPr>
              <a:t>Saltar</a:t>
            </a: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FINANCIAMIEN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Recuperación de costos: recursos privad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os sistemas de apoyo estudiantil según fecha creación de univers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ecas y crédito subsidiado CRecto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Crédito para programas acreditados en privada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SISTEMA DE CRÉDITO UNIVERSITARIO </a:t>
            </a:r>
            <a:r>
              <a:rPr b="1" lang="es-ES_tradnl" sz="1800" spc="-1" strike="noStrike">
                <a:solidFill>
                  <a:srgbClr val="cc9900"/>
                </a:solidFill>
                <a:latin typeface="Verdana"/>
              </a:rPr>
              <a:t>CONSEJO RECTORES 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rédito contingente a ingresos es equitativo y eficiente (Barr, 199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La ayuda estudiantil está relativamente bien focalizada comparada a otros países de LA pero mal r.a. otros niveles del sistema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onto total: limitaciones surgen principalmente de la morosidad y del subsidio de tasa de interés (2% fijo). Es cuestionable también el límite de 5% de los ingres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o cubre costos de oportunidad: manten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yo a CFT, IP y universidades privadas post 1981 largo tiempo restringido a becas Pdte Rep., hasta nueva ley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TEMAS NUEVO SISTEMA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Garantía universitaria y estándares de aprobación más lax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certidumbre respecto a recursos que el estado tendrá que aport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Trade-off entre garantía estatal y tasa de interés que se cobre a los alumn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Diferencias por mérito, socioeconómicas, carreras y universidades. ¿Subsidios cruzado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formación disponible para postulant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APORT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FI: no se justifica, subsidio a la demanda mal concebido 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(ver libro Caminos para la inclusión en educación superior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porte fiscal directo y fondos institucion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Necesidad de aclarar que se está “comprando” con estos aport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¿Son adecuadas las fórmula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OMPARACIÓN CRÉDITO CON ALTERNATIVAS DE FINANCIAMIENT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otras Ue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Problemas sistemas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¿Reticencia grupos de menores ingresos a endeudarse? (para mayor consumo futuro)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ecesidad de seguro para abaratar costo crédit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TEMA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TODOS LOS ACTORES DEBEN TENER INCENTIVOS CORRECTO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be haber incentivos para proveer esos objetivos eficientem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regulación y financiamient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Regulación respecto al lucro solo incentiva elusión tributaria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OTROS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es estatal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portes institucionales, universidades regionales, financiamiento investigación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ESUME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Resumen ¿Qué debe hacer el estado respecto a la docencia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Asegurar que los estudiantes meritorios tengan acceso: crédito contingente a ingresos futuros o con seguro estat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Necesidad de medidas para mejorar equidad Sistema escolar/ ¿Acción afirmativa? ¿Mantención? ¿Horario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¿Carreras saturadas? Importancia de la información en decisiones, problemas de otros instrumentos (ej. Informática en EEUU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Importancia de instituciones públicas y de decisiones privadas alineadas con el interés público: también en la oferta hay 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09" name="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Auditorio</cp:lastModifiedBy>
  <dcterms:modified xsi:type="dcterms:W3CDTF">2008-09-22T17:29:47Z</dcterms:modified>
  <cp:revision>52</cp:revision>
  <dc:subject/>
  <dc:title>ANÁLISIS ECONÓMICO DE LA EDUCACIÓN SUPERIOR</dc:title>
</cp:coreProperties>
</file>