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0FB3-13FB-4193-B653-0AF79FDCFD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36BE-BF79-4773-A9DE-B3C55CEFC3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EB25-E5CC-4FF0-9132-CA06853ACF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D645-3BAF-4AE9-93DA-D06917D4FE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B44C-964D-4F19-8437-6DDE81F1E4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E5A7-031E-4C4A-862E-E67096139E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BC6F-78C1-4152-A3C2-4B112CEB87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1E44-3461-4FC0-A256-66579F74D9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A3AD-D540-4E03-8113-AB23F9FAB1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3CCB-70FF-472A-A5CA-7E9A030F80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EDAA1-8896-459A-943A-BD4A830E0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2F7F-8F71-4686-B17A-E4FE8C61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1921B-0C53-452A-B7EC-ADF6A937B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A8569-135B-428C-9513-6745E78AB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11E7-E2AB-4329-B08F-B4C214DDE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039C-7962-49AB-A332-CABDC871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FCEF-3F6A-435F-A458-21CF0D3CE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72F61-15DA-4717-AFBB-229192F8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C1D8C-07F7-411E-A0BE-D34D6142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6F20-5A73-4D47-9B48-A541F6E5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8C11-3835-47E1-A9E1-AEADE2A1C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F74E-DFF2-4743-82F8-63BDD2304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14B6-EABF-411E-9A41-DD264AC02C5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3"/>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Object 2"/>
          <p:cNvGraphicFramePr/>
          <p:nvPr/>
        </p:nvGraphicFramePr>
        <p:xfrm>
          <a:off x="762120" y="2743200"/>
          <a:ext cx="7619760" cy="3589200"/>
        </p:xfrm>
        <a:graphic>
          <a:graphicData uri="http://schemas.openxmlformats.org/presentationml/2006/ole">
            <p:oleObj progId="Word.Document.12" r:id="rId2" spid="">
              <p:embed/>
              <p:pic>
                <p:nvPicPr>
                  <p:cNvPr id="352" name="Object 2"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Maria Jose Perez</cp:lastModifiedBy>
  <dcterms:modified xsi:type="dcterms:W3CDTF">2008-08-18T22:07:30Z</dcterms:modified>
  <cp:revision>94</cp:revision>
  <dc:subject/>
  <dc:title>Fundacao Luís Eduardo Magalhaes Salvador, 23 de Julio de 2002</dc:title>
</cp:coreProperties>
</file>