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85ED-47D6-4947-B1E2-8CB9492606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D56B-E0C6-448D-8104-BE2B010955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C8A1-32C5-4332-B036-7B949507BC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D2DD-69D2-4313-B6B7-82E93DFE09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208F-8926-4AC7-9CF4-5422147373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8D84-6C10-455A-A3FF-E327B8CE0B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176D-F53E-4753-ACAA-EFFA11151ED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A438-D99D-40BB-B6DF-BC6F972CDF8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0C06-1097-46F7-BD50-AC74C18589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34CA-3AFB-4E4A-9A4D-AAE49C5953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CD83A-89F8-4981-849A-E3FE13FE9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0D87-B6C1-4E26-B6D7-E2C783B67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B2507-CD03-423E-BF4D-099655CFA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CE1FB-3670-43CE-A1B6-E3568F321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2CB7-2845-4177-AE6F-AE4422220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5693-B8CF-4A50-90E5-6C2826C34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365E4-32BF-47AC-9053-269908DCA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DC82-4E1E-4324-A98F-41F908EE7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967B-D2FF-44A0-9393-DE43EA331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4E16-73A4-438B-AB59-E9B2A0AB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C6870-5E9C-46D0-A4D5-F17054B0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2590-0A6D-41DC-8E6A-E2AF7D0F5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2132-E54C-4B7F-806F-D924B2473A7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3"/>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Object 2"/>
          <p:cNvGraphicFramePr/>
          <p:nvPr/>
        </p:nvGraphicFramePr>
        <p:xfrm>
          <a:off x="762120" y="2743200"/>
          <a:ext cx="7619760" cy="3589200"/>
        </p:xfrm>
        <a:graphic>
          <a:graphicData uri="http://schemas.openxmlformats.org/presentationml/2006/ole">
            <p:oleObj progId="Word.Document.12" r:id="rId2" spid="">
              <p:embed/>
              <p:pic>
                <p:nvPicPr>
                  <p:cNvPr id="352" name="Object 2"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Maria Jose Perez</cp:lastModifiedBy>
  <dcterms:modified xsi:type="dcterms:W3CDTF">2008-08-18T22:07:30Z</dcterms:modified>
  <cp:revision>94</cp:revision>
  <dc:subject/>
  <dc:title>Fundacao Luís Eduardo Magalhaes Salvador, 23 de Julio de 2002</dc:title>
</cp:coreProperties>
</file>