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2286-B6E6-4DE4-A2CC-D211521AD7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0CC8-C8B2-4849-A727-FC2C55A4EF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DD15-F74C-41A1-BED7-420AE36689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4386-0C72-4A2E-A746-845B071677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76F4-FE1B-48FF-B7FC-239FD63F71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75F0-BE3D-4773-990D-D8F9BB61FF5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9859-A982-4489-95AC-2788885738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F909-7E7A-40BB-A6B9-75B9CD0DF2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0A95-3E8B-4E77-AF90-D46EA03F33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A10A-CE8C-4144-9236-EC12FC5940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487C-35C6-480C-899C-F791F3AE9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E7B6C-1DC7-4527-A847-1204B7059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6DF60-CC6A-44A5-8AC2-0082DC044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04D55-A36E-4721-AD8D-79585F2FE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4C90-15D0-4F6E-AC4D-E3551F01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B1E0-0341-457F-B2FB-50B8F171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4078-A3B6-4831-AEC2-E030CDC16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CF12A-798C-47E3-BAB5-59EB95DBF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631C-74E3-4DD9-ABF0-7618944DC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FE1D-9224-472C-A5E8-9A19D21E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3990-40C1-48DF-95EC-B79E2E9E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A342-3A79-42B2-9DEF-03B1C7B26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E8FA-6606-4F66-9D83-2C8C9E9227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3"/>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Object 2"/>
          <p:cNvGraphicFramePr/>
          <p:nvPr/>
        </p:nvGraphicFramePr>
        <p:xfrm>
          <a:off x="762120" y="2743200"/>
          <a:ext cx="7619760" cy="3589200"/>
        </p:xfrm>
        <a:graphic>
          <a:graphicData uri="http://schemas.openxmlformats.org/presentationml/2006/ole">
            <p:oleObj progId="Word.Document.12" r:id="rId2" spid="">
              <p:embed/>
              <p:pic>
                <p:nvPicPr>
                  <p:cNvPr id="352" name="Object 2"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Maria Jose Perez</cp:lastModifiedBy>
  <dcterms:modified xsi:type="dcterms:W3CDTF">2008-08-18T22:07:30Z</dcterms:modified>
  <cp:revision>94</cp:revision>
  <dc:subject/>
  <dc:title>Fundacao Luís Eduardo Magalhaes Salvador, 23 de Julio de 2002</dc:title>
</cp:coreProperties>
</file>