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86E6-E1B7-49D0-A2AC-E121DFEB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1098-F3EE-4C25-90EA-A53540F0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63D9-E17A-4C94-AA79-E9D06C43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7BD1-0DE4-45CC-BD4C-343AFC3F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D9A3-D3E4-4089-8C27-72C1498B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69EA-3A40-4EDB-AD1F-B1F955E1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B34-3BDE-4120-818E-A2BAB817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C98-BE68-419C-B528-D6C0FCD6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9AF9-8766-4446-862C-BFC6B4E9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8E5-0C04-4092-B640-D56A87A5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582-51C6-4219-ACE8-EBE13C00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6E1-A64D-4B92-9149-B0ED8081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48D7-14F4-436E-945E-1EA0EA418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2920" y="2624040"/>
            <a:ext cx="88567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TRABAJO Y EQUIDAD EN UN MUNDO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8360" y="5186520"/>
            <a:ext cx="4897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2004840"/>
          <a:ext cx="8229600" cy="371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04840"/>
                    <a:ext cx="82296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1EA-BA66-4E51-B2E4-61169D9F7E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973160"/>
          <a:ext cx="8229600" cy="37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3160"/>
                    <a:ext cx="822960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9A6-ED5A-4B93-9FC9-48197AD600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equ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↓ como probl. si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mparación EEUU vs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tuación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tudios Académicos: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oca (nula)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6AE-8742-4C3F-9C15-F6462B6230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139840"/>
          <a:ext cx="8229600" cy="344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139840"/>
                    <a:ext cx="822960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FB2-3697-4F31-95DA-8668D94818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9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6000" y="1739880"/>
          <a:ext cx="8750160" cy="3668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739880"/>
                    <a:ext cx="875016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AF37-AB84-4887-9D1E-B510F900A1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rcado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ómo funciona 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AL? =&gt; - Rígido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ígidos o 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ve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media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–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Cómo tener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- q’ genere good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ción Management –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Sustituir relación conflictivas por relac. cooper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ómo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operat. y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fli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idencia Enc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55%) valoran rol empresa – lugar aprendizaje e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0%) tiene buena relac. con jef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Tj (80%) les gustaría q’ hubiera sindi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5%) les gustaría q’ hubiera Neg. 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CC4-D5D2-4870-9B7A-CA2058CF4D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71680" y="1600200"/>
          <a:ext cx="799920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1600200"/>
                    <a:ext cx="7999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B94-4D02-449D-8E33-5A4443A5D6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84280" y="1600200"/>
          <a:ext cx="797544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280" y="1600200"/>
                    <a:ext cx="7975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FDB-36C9-45EA-AF69-3D7CD891C1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71F9-D3C3-4C63-8D7A-31B1DC9F06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8D0B-34D9-4FDF-B714-43F74D549D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696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6920" y="696600"/>
            <a:ext cx="8605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CIMIENTO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S SOCIALES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74B-BDC6-4BCA-8397-CAE948FC55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B1F1-5704-40A4-9847-21B25C34D9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584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533-BA0C-47EE-8CB4-9824A5AF79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8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862280"/>
          <a:ext cx="8229600" cy="400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62280"/>
                    <a:ext cx="822960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D15-B5B4-4703-93D0-37402ACE35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12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971720"/>
          <a:ext cx="8229600" cy="378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1720"/>
                    <a:ext cx="822960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flipV="1">
            <a:off x="5543640" y="216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9640" y="21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4C79-48A8-4115-AE89-BED689F122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456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: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9B7-DFE4-4B40-95AD-D3CEC1A3EE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606600"/>
            <a:ext cx="8928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. Empresa Moderna Alta-Productiv. GL con alt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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Fordista Jerárquico v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Toyotista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ord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ndo Vertical – toda IF/toma decis. – cent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úpula – Gerent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rdenes / IF – fluye hacia 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oyotis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–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 decis. descentralizada y particip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yotismo =&gt; Flujo IF – both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Adaptabil.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manente pa’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ante shocks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hocks competitividad de  empresas 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329-44F8-4448-9126-B8745C8D10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4 Reglas básicas pa’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Y</a:t>
            </a:r>
            <a:r>
              <a:rPr b="1" lang="es-E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intra-empre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National Association of Manufacturer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mpowering worker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&gt; empoderar Tj pa’ toma decis. en funciones q’ desempeñan – pa’ así mejorar Ql y eficiencia – proceso prod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unicac. y generar trus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agement y Tj – pa’ asegurar apoyo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valores/objetivos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vertir empresa en organiz. aprendizaje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ermane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q’ capacitac./Ed. T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proceso continuo I =&gt;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Tj tendrán conocim. y h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’ contribuir mejor desempeño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AF0-1BDC-4C82-A786-7528CEE595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 Reglas Básicas pa’ Y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oderar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fianza Tj –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pacitac.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un mundo competitivo GL con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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ermanente – las empresas q’ van a sobrevivir son aquellas q’ aprovechan intensivamente todo el KH q’ poseen ejecutivos y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ª Reg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’ alinear motivación/objetivos Tj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los del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l. Agencia =&gt; Soluc. =&gt; Pagar con Ac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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presa Moderna USA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st 193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mplicancia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’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empresa =&gt; No buscar excusas fuer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mos toro – No están afuera - están adentro </a:t>
            </a: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8AB-B36D-4BFF-8FDC-53A35082EC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0820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D. Rol Sindicatos &amp; Neg. Cole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854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Neoclásic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idéntico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esgo Anti-sin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¿Pq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a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ndicatos en un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nivel de confli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Moderna sobre Rol Sind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yp. Hirschman: Exit/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dos. Imperfectos con IF Asimé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ol Sindica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up. Bás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cluir Sindicatos co’ tool de partidos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acer fluida IF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stos trans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porcionan horizonte L.P. – preservac. acuerdos alcanz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Bottom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alta + diálogo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valece paradigma Economía Cerrada: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hora estamos en mundo GL =&gt;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gt; 0  o 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l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¿Co’ alinear intereses Tj con objetivos empresa?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bl Agencia =&gt; Soluc.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Pago 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CA0-FC8F-4D8E-9656-023DB1A0B0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84358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todología Resoluc. Discrepancias Consejo Temáticas Pendientes entre Management y T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egociac. por tema – genera posic. maximalistas de Management y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luc. =&gt; Transacción Combin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&gt; Q’ cede Tj contra q’ ceden empre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 Issue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gislación Laboral ajustable GL 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l Institucionalidad + importante: Direcc. Tr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0BE-CFB6-40C6-B95E-ADE30A9B83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mdo =&gt; Todo se mu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 – únic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Estrat. Desarrollo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t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Toyo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j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lex.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Ford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Institucionalidad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6D66-AA4F-42B3-B3DC-080A9AE2F2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906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será Chile en el 2020?, en el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querríamos que fuera Chile en 2020?, en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Qué piensan nuestros parlamentarios al respecto –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efectivo q’ el L.P. pa’ ellos es la próxima elecc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entral entre PD y PED =&gt;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ssue: ¿Cómo construir horizonte LP en P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ol central 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reación instancias de di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jo Econ. –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álogo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trust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K – social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blecimiento de Metas L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librios Macro: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F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Equidad: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i ,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hare Qi men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Tj: Capacit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mbio mentalidad – Foco jóvenes/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AEC1-D308-474C-BFE2-FB62F5C847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tra-Empresa – Gerencia RRHH – no es sustituto  diálogo directo Management – Sind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rsos Training g Nuevos Dirigentes Sind. / Empr. – 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– Intra-Empresa =&gt; Tj vean q’ están I en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General – fuer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d- OK. L.P. =&gt; 2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pac. – C.P. =&gt; Ahora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Pa’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Competit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3056-400E-4F2D-B1C4-223864672E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CIMIENTO - EQ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odelo actu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- factor cent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no olvidar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ólo g importa – Resto viene por añadi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e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resuelve todos los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ss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q. Todos los Gob. no adoptan g – co’ único objetivo?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mplicancias modelo centrado e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s los otros objetivos son sub-productos/dependiente de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yp “trickle down” – “rebalse” – “chorre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za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-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yp Conve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elos teóricos: g, comercio (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idencia empí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ergencia 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vergencia (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806-A4D4-4C37-A5E1-37EE709CAE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iteratura Mod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=F(Equidad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canismos con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o 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imperfecto =&gt; Excluye pob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on. polít. instituc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&gt; mantención status q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 Genera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iolencia/delitos presente =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nerac. Expectat. &lt;0 /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nseguridad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videncia Empírica – W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 = F(Equidad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Gini / Share 50%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ecs. Con efectos dinám. =&gt; g = F(Equidad); Equidad = F(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 sólo afecta a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fecta nivel actos delictivos =&gt; Ql vida =&gt; I/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hequeo g post 1997 – Asia /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te Shock* =&gt; Cuando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&gt; ineq. – instituc. responsables pa’ distribuir de manera similar costos ajustes a través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grupos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funcionan pe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licancia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Equidad =&gt; Expectat. &gt;0 futuro =&gt;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g =&gt; facilita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írculo virtuo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PD =&gt;   &gt; 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 G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06F-1D01-4DB8-A233-1429AB5F77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ITIC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radigma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 Equidad =&gt;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sión/Exclusión, Ig. Oportun., Movil. Soc., Vulnerab. =&gt;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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o =&gt; Foco: Pob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 Go se agota en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digm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 Patern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istenc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oque Aritmético – Contar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Paradigma =&gt;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Pobres = 40%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lt; U$ 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no es válido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  &lt; 15%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gt; U$ 13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Asistencialismo =&gt; Go Emple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&gt; Mejor Go es tener job &lt;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Qt   =&gt; Go Ql (Salud, Educación, Viv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C36-2746-4113-AD35-6F353B7A55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861840"/>
          <a:ext cx="8229600" cy="5851440"/>
        </p:xfrm>
        <a:graphic>
          <a:graphicData uri="http://schemas.openxmlformats.org/drawingml/2006/table">
            <a:tbl>
              <a:tblPr/>
              <a:tblGrid>
                <a:gridCol w="2656080"/>
                <a:gridCol w="1076760"/>
                <a:gridCol w="1873800"/>
                <a:gridCol w="216000"/>
                <a:gridCol w="2406960"/>
              </a:tblGrid>
              <a:tr h="426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ERSPECTIVA DE POLÍTICAS SOCIALES Y LABOR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ación Necesidades Bás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sust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Gasto Social Sec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vi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as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ilidad labo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amov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ividad y Remuner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ción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cción asimetrí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er de negoc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scolares y Jóv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colar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nom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99B-8339-4957-9E19-0721E22D36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Sociedad con estruct. distr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y plana =&gt; 9 Deciles =&gt; Gini: 0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continuidad 10º Decil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o (Equidad)=&gt; Foco en 9 deciles inf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Excluir Decil 10 =&gt;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Colegios Particulares Pa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ssue: Rol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ol pa’ redistribu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jas de Go sobr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Tax =&gt; Recaudar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tuación distrib.       - pre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post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316-68CC-4334-9E61-2FE5C8889C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les de Desigual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2257560"/>
            <a:ext cx="7777080" cy="37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4C9-06CF-46E3-B65A-D57261A2A5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1:27:01Z</dcterms:created>
  <dc:creator>Oscar Landerretche</dc:creator>
  <dc:description/>
  <dc:language>en-US</dc:language>
  <cp:lastModifiedBy>pmeller</cp:lastModifiedBy>
  <dcterms:modified xsi:type="dcterms:W3CDTF">2008-08-09T16:06:55Z</dcterms:modified>
  <cp:revision>169</cp:revision>
  <dc:subject/>
  <dc:title>Diapositiva 1</dc:title>
</cp:coreProperties>
</file>