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BD9-1BCD-4D5C-BA7A-340B8C08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010-EB62-48E4-8C9B-CCDB58E7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4EC-4525-420B-97DB-37CC0CFE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EA2-6D21-49B2-BCDE-3A1B3C6C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A7E-84C8-4AE3-8F03-E3ABAAE7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BF7-8F4D-401A-B5A8-45F0F03E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6E4-66BD-4FC7-A0F3-886D7D55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EF1-4AE7-49E2-9ECB-80C43DFD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4DA-5091-4028-827D-52A7F9CA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C28-3044-45A8-A78E-5736EC80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52B-E413-496E-B735-9A4DED0A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C9C-C662-4F31-9CCE-CF770AFA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0003-176C-4D72-B229-BED299E91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920" y="2624040"/>
            <a:ext cx="88567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RABAJO Y EQUIDAD EN UN MUNDO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5186520"/>
            <a:ext cx="4897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004840"/>
          <a:ext cx="8229600" cy="37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04840"/>
                    <a:ext cx="82296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C36-6B61-4262-9671-C6FCE08FD7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973160"/>
          <a:ext cx="8229600" cy="37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3160"/>
                    <a:ext cx="8229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B63-6CD8-4990-A85C-10512B76A7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equ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↓ como probl. si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mparación EEUU vs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tudios Académicos: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ca (nula)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B59-9A33-4748-A16B-1FCDBFDE3D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139840"/>
          <a:ext cx="8229600" cy="344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9840"/>
                    <a:ext cx="822960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4B9-1D14-4B45-95F7-F5573E6FC2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6000" y="1739880"/>
          <a:ext cx="8750160" cy="36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739880"/>
                    <a:ext cx="875016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C3A-2F74-4134-AE79-288D7FD480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rcado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ómo funciona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AL? =&gt; - Rígid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ígidos o 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ve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edi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–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Cómo tener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q’ genere good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ción Management –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Sustituir relación conflictivas por relac. coope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operat. y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fli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dencia Enc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55%) valoran rol empresa – lugar aprendizaje e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0%) tiene buena relac. con je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Tj (80%) les gustaría q’ hubiera sin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5%) les gustaría q’ hubiera Neg. 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804-F9B8-4CA0-8E53-10EFEDC439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71680" y="1600200"/>
          <a:ext cx="79992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1600200"/>
                    <a:ext cx="7999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69E-62E7-409C-871C-99BD4FC63E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84280" y="1600200"/>
          <a:ext cx="797544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600200"/>
                    <a:ext cx="7975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5B8-E025-467C-A4BD-3AE4501D70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B3D-9DF1-4535-B5BB-33376914EE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798-5993-4B3F-AF55-9547A81FF0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6920" y="696600"/>
            <a:ext cx="8605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CIMIENTO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S SOCIALES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0B3-ACB7-420E-9B75-23065116A7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B8B-9819-4141-AA16-C042789B7C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58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CF1-29E2-46FE-AB66-3D941354E7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862280"/>
          <a:ext cx="8229600" cy="400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62280"/>
                    <a:ext cx="8229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402-08E2-4619-9E0C-43BFD1011B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1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71720"/>
          <a:ext cx="8229600" cy="37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1720"/>
                    <a:ext cx="82296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V="1">
            <a:off x="5543640" y="216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9640" y="21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D86-DCFE-4149-BF9F-782513FC70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45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: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923-F14F-4964-9272-9886AE446A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606600"/>
            <a:ext cx="8928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Empresa Moderna Alta-Productiv. GL con alt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Fordista Jerárquico 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Toyotist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ndo Vertical – toda IF/toma decis. –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úpula – Gerent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denes / IF – fluye hacia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oyot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cis. descentralizada y parti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yotismo =&gt; Flujo IF – both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Adaptabil.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manente pa’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ante shock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ocks competitividad de  empresas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B40-9B8F-4F3E-B4F3-2506878D93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4 Reglas básicas pa’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1" lang="es-E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intra-empre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National Association of Manufacturer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powering worke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&gt; empoderar Tj pa’ toma decis. en funciones q’ desempeñan – pa’ así mejorar Ql y eficiencia – proces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unicac. y generar trus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agement y Tj – pa’ asegurar apoyo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valores/objetivos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ertir empresa en organiz. aprendizaje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erman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q’ capacitac./Ed. T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roceso continuo I =&gt;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Tj tendrán conocim. y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’ contribuir mejor desempeño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5E4-FADC-4D01-9D1C-4D09776A02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 Reglas Básicas pa’ 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oderar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ianza Tj –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pacitac.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 mundo competitivo GL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ermanente – las empresas q’ van a sobrevivir son aquellas q’ aprovechan intensivamente todo el KH q’ poseen ejecutivos y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ª Reg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’ alinear motivación/objetivos Tj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los del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. Agencia =&gt; Soluc. =&gt; Pagar con 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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 Moderna USA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st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licancia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’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mpresa =&gt; No buscar excusas fuer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mos toro – No están afuera - están adentro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5A6-7906-4B9C-AD39-82E55E7771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082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. Rol Sindicatos &amp; Neg. Col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854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Neoclásic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idéntico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esgo Anti-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Pq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a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dicatos en un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nivel de confli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Moderna sobre Rol 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yp. Hirschman: Exit/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dos. Imperfectos con IF Asimé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ol Sindica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up. Bás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luir Sindicatos co’ tool de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er fluida IF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stos trans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porcionan horizonte L.P. – preservac. acuerdos alcan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Bottom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lta + diálogo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valece paradigma Economía Cerrada: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hora estamos en mundo GL =&gt;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gt; 0  o 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l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Co’ alinear intereses Tj con objetivos empresa?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bl Agencia =&gt; Soluc.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Pago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BD5-D3B6-497F-B1FF-455B0234A3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todología Resoluc. Discrepancias Consejo Temáticas Pendientes entre Management y 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gociac. por tema – genera posic. maximalistas de Management y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uc. =&gt; Transacción Combi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&gt; Q’ cede Tj contra q’ ceden empr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 Issue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gislación Laboral ajustable GL 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l Institucionalidad + importante: Direcc. Tr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0D3-C7E8-48B3-8D9A-3148C6B519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mdo =&gt; Todo se m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 – úni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Estrat. Desarrollo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Toyo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j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lex.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Ford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Institucionalidad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95F-81B0-40D4-89CF-24D82837A5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será Chile en el 2020?, en el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querríamos que fuera Chile en 2020?, en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Qué piensan nuestros parlamentarios al respecto –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efectivo q’ el L.P. pa’ ellos es la próxima elecc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entral entre PD y PED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ssue: ¿Cómo construir horizonte LP en P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ol central 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eación instancia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jo Econ. –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álogo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trust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K – social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blecimiento de Metas L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librios Macr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F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Equidad: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i ,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hare Qi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Tj: Capacit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bio mentalidad – Foco jóvenes/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66C-8DB0-41A9-B61F-45523B3F49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a-Empresa – Gerencia RRHH – no es sustituto  diálogo directo Management – Sind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sos Training g Nuevos Dirigentes Sind. / Empr. –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– Intra-Empresa =&gt; Tj vean q’ están I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General – fuer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d- OK. L.P. =&gt; 2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ac. – C.P. =&gt; Ahora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’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Competi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61F-C15C-474E-9F96-607456D1CD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CIMIENTO - EQ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odelo act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- factor cent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 olvida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g importa – Resto viene por añadi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resuelve todos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q. Todos los Gob. no adoptan g – co’ único objetivo?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mplicancias modelo centrado 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los otros objetivos son sub-productos/dependiente de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yp “trickle down” – “rebalse” – “chorre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za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-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yp 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elos teóricos: g, comercio (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denc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gencia 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vergencia (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070-1136-45BF-9192-474AA25481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iteratura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=F(Equidad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canismos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imperfecto =&gt; Excluye po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. polít. instituc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&gt; mantención status q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 Genera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iolencia/delitos presente 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nerac. Expectat. &lt;0 /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nseguridad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dencia Empírica – W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 = F(Equida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Gini / Share 50%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cs. Con efectos dinám. =&gt; g = F(Equidad); Equidad = F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 sólo afecta a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fecta nivel actos delictivos =&gt; Ql vida =&gt; I/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hequeo g post 1997 – Asia /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 Shock* =&gt; Cuando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&gt; ineq. – instituc. responsables pa’ distribuir de manera similar costos ajustes a través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grupos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uncionan pe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licancia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Equidad =&gt; Expectat. &gt;0 futuro =&gt;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g =&gt; facilita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írculo virtuo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PD =&gt;   &gt;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 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71C-380D-46EF-82B9-1C438A265D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I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adigma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 Equidad =&gt;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ón/Exclusión, Ig. Oportun., Movil. Soc., Vulnerab. =&gt;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 =&gt; Foco: Pob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Go se agota en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digm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Pater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Aritmético – Contar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aradigma =&gt;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Pobres = 40%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lt; U$ 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no es válido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  &lt; 15%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gt; U$ 13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Asistencialismo =&gt; Go Emple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&gt; Mejor Go es tener job 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Qt   =&gt; Go Ql (Salud, Educación, Vi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368-8684-4355-8D15-D544C1A9E3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61840"/>
          <a:ext cx="8229600" cy="5851440"/>
        </p:xfrm>
        <a:graphic>
          <a:graphicData uri="http://schemas.openxmlformats.org/drawingml/2006/table">
            <a:tbl>
              <a:tblPr/>
              <a:tblGrid>
                <a:gridCol w="2656080"/>
                <a:gridCol w="1076760"/>
                <a:gridCol w="1873800"/>
                <a:gridCol w="216000"/>
                <a:gridCol w="2406960"/>
              </a:tblGrid>
              <a:tr h="426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ERSPECTIVA DE POLÍTICAS SOCIALES Y LABOR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ación Necesidades Bás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sust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asto Social Sec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as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ilidad lab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amov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ividad y Remuner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ción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cción asimetrí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er de nego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scolares y Jóv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o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575-931D-4351-B1F1-6991F200BB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ociedad con estruct. dist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plana =&gt; 9 Deciles =&gt; Gini: 0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continuidad 10º Decil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o (Equidad)=&gt; Foco en 9 deciles inf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Excluir Decil 10 =&gt;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Colegios Particulares Pa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sue: Rol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ol pa’ redistrib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 de Go sobr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Tax =&gt; Recaudar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uación distrib.       - pre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post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02E-865C-482E-A953-E612E80227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les de Desigual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2257560"/>
            <a:ext cx="7777080" cy="37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F4A-F383-4AC3-AC41-9A8EE4FE39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1:27:01Z</dcterms:created>
  <dc:creator>Oscar Landerretche</dc:creator>
  <dc:description/>
  <dc:language>en-US</dc:language>
  <cp:lastModifiedBy>pmeller</cp:lastModifiedBy>
  <dcterms:modified xsi:type="dcterms:W3CDTF">2008-08-09T16:06:55Z</dcterms:modified>
  <cp:revision>169</cp:revision>
  <dc:subject/>
  <dc:title>Diapositiva 1</dc:title>
</cp:coreProperties>
</file>