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0C8-26C6-4CC1-982A-0F9C1F18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AD7-65DA-4E0D-A570-3B58BCC5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A6A-83F2-4BD3-B3D3-6546F43E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6D2-BD02-4E96-9350-15AAD991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6E4-E325-4012-9C74-E148B9FE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FA3-BDE9-479F-AC54-C229DA69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5AF-E7BC-4406-9137-B40947FA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4D5-0DD8-49E6-BE9F-7C256C77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323-E6B1-4CE1-AD12-709CAE45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55E-C9DF-47C8-BE8A-2C2ECF8B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F99-AA19-4BCC-8694-3B1A4EB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4C1-D6EE-4686-BFA7-975AF9E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B959-65B6-4D08-9142-506EE7BA7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24040"/>
            <a:ext cx="88567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O Y EQUIDAD EN UN MUNDO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186520"/>
            <a:ext cx="4897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004840"/>
          <a:ext cx="8229600" cy="37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4840"/>
                    <a:ext cx="8229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7B2-676E-49D7-847B-AF133C1A1F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73160"/>
          <a:ext cx="8229600" cy="37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3160"/>
                    <a:ext cx="8229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235-30A3-46B4-AFCB-AC93584377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equ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como probl. si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ción EEUU vs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udios Académicos: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ca (nula)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BB4-927D-4140-B21A-F6220E490E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139840"/>
          <a:ext cx="8229600" cy="344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9840"/>
                    <a:ext cx="822960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6FA-5676-4148-9088-7920944BC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6000" y="1739880"/>
          <a:ext cx="875016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739880"/>
                    <a:ext cx="87501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091-19A8-45FE-81A1-67F584C566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funciona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AL? =&gt; - Rígi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ígidos o 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edi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–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Cómo tener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q’ genere goo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ón Management –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Sustituir relación conflictivas por relac. coope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operat. y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fli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dencia 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55%) valoran rol empresa – lugar aprendizaje e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0%) tiene buena relac. con je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Tj (80%) les gustaría q’ hubiera 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5%) les gustaría q’ hubiera Neg. 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EDA-7737-4651-8ECF-E883CF5DE8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600200"/>
          <a:ext cx="79992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600200"/>
                    <a:ext cx="799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884-F41D-43D2-AA64-32CD67F064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84280" y="1600200"/>
          <a:ext cx="797544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600200"/>
                    <a:ext cx="797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17E-23E7-46C4-883E-56BC57CB24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D73-BDC6-4D99-A467-2D37EA2409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160-3BE9-4A2B-9872-B078EC27AA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696600"/>
            <a:ext cx="8605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CIMIENTO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S SOCIALES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6FE-A810-43BF-8985-7D147D736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F45-4887-4C18-A595-0E7C3F1BDB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58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13B-D11C-4361-90BB-1A99E7D9AC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62280"/>
          <a:ext cx="8229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62280"/>
                    <a:ext cx="8229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FFD-AD79-462D-B295-5083714434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71720"/>
          <a:ext cx="8229600" cy="37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1720"/>
                    <a:ext cx="82296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5543640" y="216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9640" y="21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6F9-A18C-4CA0-ABA4-3CE75B8309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: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B9A-28AE-4123-BE8F-28ECD014C0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60660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Empresa Moderna Alta-Productiv. GL con alt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Fordista Jerárquico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Toyotist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ndo Vertical – toda IF/toma decis. –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úpula – Gerent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denes / IF – fluye 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yo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cis. descentralizada y parti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yotismo =&gt; Flujo IF – both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Adaptabil.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manente pa’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ante shock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ocks competitividad de  empresas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5E2-2F6D-4124-AA77-7DFC8FD364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4 Reglas básicas pa’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1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intra-empr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National Association of Manufactur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powering work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&gt; empoderar Tj pa’ toma decis. en funciones q’ desempeñan – pa’ así mejorar Ql y eficiencia – proces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unicac. y generar tru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agement y Tj – pa’ asegurar apoyo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valores/objetivos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tir empresa en organiz. aprendizaje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man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q’ capacitac./Ed. T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roceso continuo I =&gt;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Tj tendrán conocim. y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’ contribuir mejor desempeño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827-DB84-449B-8699-FCF769A55B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 Reglas Básicas pa’ 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oderar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anza Tj –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tac.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 mundo competitivo GL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ermanente – las empresas q’ van a sobrevivir son aquellas q’ aprovechan intensivamente todo el KH q’ poseen ejecutivos y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ª Reg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’ alinear motivación/objetivos T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los del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. Agencia =&gt; Soluc. =&gt; Pagar con 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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Moderna USA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icancia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’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mpresa =&gt; No buscar excusas fuer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mos toro – No están afuera - están adentro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E1D-63A4-40FF-84CB-51563EC263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. Rol Sindicatos &amp; Neg.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854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Neoclás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idéntico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esgo Anti-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Pq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a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dicatos en u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nivel de confli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Moderna sobre Rol 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yp. Hirschman: Exit/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dos. Imperfectos con IF Asimé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ol Sindica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up. Bás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luir Sindicatos co’ tool de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er fluida IF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s trans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porcionan horizonte L.P. – preservac. acuerdos alcan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Bottom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+ diálogo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valece paradigma Economía Cerrada: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hora estamos en mundo GL =&gt;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gt; 0  o 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Co’ alinear intereses Tj con objetivos empresa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bl Agencia =&gt; Soluc.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ago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1A6-D337-4E1E-9AAC-FB43B7BB14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todología Resoluc. Discrepancias Consejo Temáticas Pendientes entre Management y 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gociac. por tema – genera posic. maximalistas de Management y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uc. =&gt; Transacción Combi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&gt; Q’ cede Tj contra q’ ceden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 Issu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gislación Laboral ajustable GL 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l Institucionalidad + importante: Direcc. Tr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21F-AF0C-4059-ADF6-5258875CF0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mdo =&gt; Todo se m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 – úni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Estrat. Desarrollo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Toyo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j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ex.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Ford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Institucional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C3E-C38C-4F9F-BF55-9A8CB5C11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será Chile en el 2020?, en el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querríamos que fuera Chile en 2020?, en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Qué piensan nuestros parlamentarios al respecto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efectivo q’ el L.P. pa’ ellos es la próxima elecc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ntral entre PD y PED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ssue: ¿Cómo construir horizonte LP en P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 central 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ción instancia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jo Econ. –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álogo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rust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K – social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imiento de Metas L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s Macr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F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Equidad: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i ,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hare Qi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Tj: Capacit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mentalidad – Foco jóvenes/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09B-3E70-4AC0-AB33-E939E229D5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a-Empresa – Gerencia RRHH – no es sustituto  diálogo directo Management – Sind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Training g Nuevos Dirigentes Sind. / Empr. –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– Intra-Empresa =&gt; Tj vean q’ están I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General – fuer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- OK. L.P. =&gt; 2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. – C.P. =&gt; Ahora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’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ompeti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E3A-E540-4672-B22D-D42B7CA0C9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CIMIENTO - EQ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act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- factor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 olvida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g importa – Resto viene por añadi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resuelve todos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q. Todos los Gob. no adoptan g – co’ único objetivo?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mplicancias modelo centrado 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otros objetivos son sub-productos/dependiente d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yp “trickle down” – “rebalse” – “chorre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-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yp 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os teóricos: g, comercio (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denc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gencia 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gencia (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222-7F3A-404D-BACD-9ECF5F26CC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teratura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=F(Equidad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canismos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imperfecto =&gt; Excluye po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. polít. instituc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&gt; mantención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 Genera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iolencia/delitos presente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c. Expectat. &lt;0 /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seguridad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dencia Empírica – W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 = F(Equida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Gini / Share 50%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cs. Con efectos dinám. =&gt; g = F(Equidad); Equidad = F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sólo afecta a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 nivel actos delictivos =&gt; Ql vida =&gt; I/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hequeo g post 1997 – Asia /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Shock* =&gt; Cuando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&gt; ineq. – instituc. responsables pa’ distribuir de manera similar costos ajustes a través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os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uncionan pe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icanci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Equidad =&gt; Expectat. &gt;0 futuro =&gt;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g =&gt; facilita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írculo virtuo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PD =&gt;   &gt;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 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6E9-9B2C-4DC9-B4B2-5B2918E9FE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digm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 Equidad =&gt;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ón/Exclusión, Ig. Oportun., Movil. Soc., Vulnerab. =&gt;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 =&gt; Foco: Pob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Go se agota en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igm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ater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Aritmético – Contar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aradigma =&gt;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Pobres = 40%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lt; U$ 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no es válido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  &lt; 15%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gt; U$ 13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Asistencialismo =&gt; Go Empl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&gt; Mejor Go es tener job 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Qt   =&gt; Go Ql (Salud, Educación, V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DB3-2864-4697-8961-9D82298D6E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61840"/>
          <a:ext cx="8229600" cy="5851440"/>
        </p:xfrm>
        <a:graphic>
          <a:graphicData uri="http://schemas.openxmlformats.org/drawingml/2006/table">
            <a:tbl>
              <a:tblPr/>
              <a:tblGrid>
                <a:gridCol w="2656080"/>
                <a:gridCol w="1076760"/>
                <a:gridCol w="1873800"/>
                <a:gridCol w="216000"/>
                <a:gridCol w="2406960"/>
              </a:tblGrid>
              <a:tr h="426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ERSPECTIVA DE POLÍTICAS SOCIALES Y LABO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ación Necesidades Bás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sust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asto Social S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a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ilidad lab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amov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vidad y Remu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ción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cción asimetrí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r de neg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scolares y Jóv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143-F11D-44BA-8A46-B58BBF3469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ociedad con estruct. dist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plana =&gt; 9 Deciles =&gt; Gini: 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continuidad 10º Decil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o (Equidad)=&gt; Foco en 9 decil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Excluir Decil 10 =&gt;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Colegios Particular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sue: Rol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ol pa’ redistrib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de Go sob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Tax =&gt; Recaudar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uación distrib.       - pre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post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FF7-3568-4868-95D8-D5C174D3BD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les de Desigual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2257560"/>
            <a:ext cx="77770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4D6-B798-4457-9995-64CB6F87F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1:27:01Z</dcterms:created>
  <dc:creator>Oscar Landerretche</dc:creator>
  <dc:description/>
  <dc:language>en-US</dc:language>
  <cp:lastModifiedBy>pmeller</cp:lastModifiedBy>
  <dcterms:modified xsi:type="dcterms:W3CDTF">2008-08-09T16:06:55Z</dcterms:modified>
  <cp:revision>169</cp:revision>
  <dc:subject/>
  <dc:title>Diapositiva 1</dc:title>
</cp:coreProperties>
</file>