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F262-E083-4EF6-800D-FF7965A3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4B31-28A9-4B73-9E24-8B9193C8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8B1-9CAA-467A-80B7-C839DAEB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021-7E36-46F2-9250-CAAFFCCF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410-76A1-411A-AFE7-4F461E44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7E5-06EE-4765-897A-C5DC1487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BC1-7B88-4409-9C14-795DB263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F31-8300-4E5C-933E-E4967B86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80A-B581-4D7E-B3F9-BD360C02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DEB-0DEE-437B-9BEC-C56779A9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F64-E27C-4D02-BB26-02BDC4C6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0E11-935D-4044-95EB-9F21E7FD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2959-A95F-4849-857A-1371F96C1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2920" y="2624040"/>
            <a:ext cx="88567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RABAJO Y EQUIDAD EN UN MUNDO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5186520"/>
            <a:ext cx="4897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2004840"/>
          <a:ext cx="8229600" cy="371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04840"/>
                    <a:ext cx="82296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4E1-2DA8-495A-AF2E-28F82F57FA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973160"/>
          <a:ext cx="8229600" cy="37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3160"/>
                    <a:ext cx="82296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067-39B7-4FE5-B354-CDF152AE3B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equ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↓ como probl. si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mparación EEUU vs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tudios Académicos: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ca (nula)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CCC-8FF1-4A79-8E99-76F5EF2A27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139840"/>
          <a:ext cx="8229600" cy="344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139840"/>
                    <a:ext cx="822960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D47-4D13-4F80-A026-EF434012BD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9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6000" y="1739880"/>
          <a:ext cx="8750160" cy="366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739880"/>
                    <a:ext cx="875016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6A9-90FD-4E1B-B7D6-64631CC003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rcado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ómo funciona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AL? =&gt; - Rígid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ígidos o 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ve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media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–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Cómo tener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- q’ genere good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ción Management –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Sustituir relación conflictivas por relac. cooper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operat. y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fli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idencia Enc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55%) valoran rol empresa – lugar aprendizaje e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0%) tiene buena relac. con je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Tj (80%) les gustaría q’ hubiera sind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5%) les gustaría q’ hubiera Neg. 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AD4-3FAA-4F75-88F6-64007E545C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71680" y="1600200"/>
          <a:ext cx="799920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1600200"/>
                    <a:ext cx="7999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0C2-90EB-425C-AB15-58ED0BB8A4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84280" y="1600200"/>
          <a:ext cx="797544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1600200"/>
                    <a:ext cx="7975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BF7-0E13-4CE9-94BF-D5922F9501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202-7970-439C-B97D-157EE0B09E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696D-07F5-4F54-8C0D-DC08E021D6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696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6920" y="696600"/>
            <a:ext cx="8605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CIMIENTO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S SOCIALES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402-DF66-4E16-AB9F-CE7399B616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82B-FCB7-47A0-8858-8CAF6B4334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58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DD8-43BF-406A-8C80-4CDC8C6E70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8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862280"/>
          <a:ext cx="8229600" cy="400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62280"/>
                    <a:ext cx="82296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E075-8ED8-41C9-9F90-7DE0E017A6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12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971720"/>
          <a:ext cx="8229600" cy="37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1720"/>
                    <a:ext cx="822960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V="1">
            <a:off x="5543640" y="216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9640" y="21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876-E5D4-49B9-BDAB-F58706AE55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456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: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3F2-B2C0-4943-9C7F-60E0188B8F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606600"/>
            <a:ext cx="8928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 Empresa Moderna Alta-Productiv. GL con alt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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Fordista Jerárquico v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Toyotista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d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ndo Vertical – toda IF/toma decis. – cent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úpula – Gerent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denes / IF – fluye hacia 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oyotis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–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cis. descentralizada y parti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yotismo =&gt; Flujo IF – both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Adaptabil.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manente pa’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ante shocks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hocks competitividad de  empresas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DE5-D0DF-4B0D-91BC-E9B7E2E7F3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4 Reglas básicas pa’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1" lang="es-E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intra-empre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National Association of Manufacturer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mpowering worker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&gt; empoderar Tj pa’ toma decis. en funciones q’ desempeñan – pa’ así mejorar Ql y eficiencia – proces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unicac. y generar trus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agement y Tj – pa’ asegurar apoyo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valores/objetivos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vertir empresa en organiz. aprendizaje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erman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q’ capacitac./Ed. T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proceso continuo I =&gt;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Tj tendrán conocim. y h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’ contribuir mejor desempeño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B92-3EAB-403F-9F4D-A111F180D9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 Reglas Básicas pa’ 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oderar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fianza Tj –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pacitac.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un mundo competitivo GL con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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ermanente – las empresas q’ van a sobrevivir son aquellas q’ aprovechan intensivamente todo el KH q’ poseen ejecutivos y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ª Reg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’ alinear motivación/objetivos Tj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los del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. Agencia =&gt; Soluc. =&gt; Pagar con A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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 Moderna USA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st 193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licancia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’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empresa =&gt; No buscar excusas fuer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mos toro – No están afuera - están adentro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9BA9-B70F-4B5D-9AFD-2863C67F66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0820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D. Rol Sindicatos &amp; Neg. Cole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854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Neoclásic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idéntico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esgo Anti-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¿Pq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a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ndicatos en un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nivel de confli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Moderna sobre Rol Sind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yp. Hirschman: Exit/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dos. Imperfectos con IF Asimé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ol Sindica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up. Bás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luir Sindicatos co’ tool de partido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acer fluida IF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stos trans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porcionan horizonte L.P. – preservac. acuerdos alcanz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Bottom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alta + diálogo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valece paradigma Economía Cerrada: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hora estamos en mundo GL =&gt;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gt; 0  o 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l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¿Co’ alinear intereses Tj con objetivos empresa?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bl Agencia =&gt; Soluc.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Pago 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AE2-B718-42ED-B8E8-B701215582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todología Resoluc. Discrepancias Consejo Temáticas Pendientes entre Management y 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egociac. por tema – genera posic. maximalistas de Management y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luc. =&gt; Transacción Combin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&gt; Q’ cede Tj contra q’ ceden empr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 Issue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gislación Laboral ajustable GL 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l Institucionalidad + importante: Direcc. Tr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B46-EBAB-4599-88B3-A96027A06E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mdo =&gt; Todo se mu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 – únic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Estrat. Desarrollo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Toyo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j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lex.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Ford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Institucionalidad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883-B19E-4056-B5BE-9FC9D138DA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será Chile en el 2020?, en el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querríamos que fuera Chile en 2020?, en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Qué piensan nuestros parlamentarios al respecto –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efectivo q’ el L.P. pa’ ellos es la próxima elecc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entral entre PD y PED =&gt;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ssue: ¿Cómo construir horizonte LP en P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ol central 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reación instancias de di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jo Econ. –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álogo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trust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K – social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blecimiento de Metas L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librios Macro: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F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Equidad: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i ,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hare Qi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Tj: Capacit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mbio mentalidad – Foco jóvenes/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76C9-17DD-4C80-A7CF-1054213C6C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ra-Empresa – Gerencia RRHH – no es sustituto  diálogo directo Management – Sind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sos Training g Nuevos Dirigentes Sind. / Empr. –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– Intra-Empresa =&gt; Tj vean q’ están I en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General – fuer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d- OK. L.P. =&gt; 2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pac. – C.P. =&gt; Ahora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’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Competit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6DB-238F-44FE-937C-F52F303A13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CIMIENTO - EQ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odelo actu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- factor cent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o olvida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lo g importa – Resto viene por añadi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resuelve todos lo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ss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q. Todos los Gob. no adoptan g – co’ único objetivo?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mplicancias modelo centrado e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los otros objetivos son sub-productos/dependiente de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yp “trickle down” – “rebalse” – “chorre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za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-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yp Conve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elos teóricos: g, comercio (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idencia empí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rgencia 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vergencia (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A51-6F79-49F8-8088-252894E49F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iteratura Mod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=F(Equidad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canismos con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o 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imperfecto =&gt; Excluye po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on. polít. instituc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&gt; mantención status q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 Genera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iolencia/delitos presente =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nerac. Expectat. &lt;0 /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nseguridad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videncia Empírica – W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 = F(Equidad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Gini / Share 50%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ecs. Con efectos dinám. =&gt; g = F(Equidad); Equidad = F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 sólo afecta a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fecta nivel actos delictivos =&gt; Ql vida =&gt; I/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hequeo g post 1997 – Asia /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e Shock* =&gt; Cuando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&gt; ineq. – instituc. responsables pa’ distribuir de manera similar costos ajustes a través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grupos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funcionan pe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licancia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Equidad =&gt; Expectat. &gt;0 futuro =&gt;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g =&gt; facilita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írculo virtuo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PD =&gt;   &gt; 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 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F18-D0F1-42C3-A6B7-25486F732C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ITIC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radigma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 Equidad =&gt;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ión/Exclusión, Ig. Oportun., Movil. Soc., Vulnerab. =&gt;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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o =&gt; Foco: Pob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Go se agota en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digm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 Pater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isten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oque Aritmético – Contar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Paradigma =&gt;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Pobres = 40%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lt; U$ 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no es válido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  &lt; 15%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gt; U$ 13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Asistencialismo =&gt; Go Emple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&gt; Mejor Go es tener job &lt;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Qt   =&gt; Go Ql (Salud, Educación, Viv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C2E-E5F4-4426-BD64-4C90293862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61840"/>
          <a:ext cx="8229600" cy="5851440"/>
        </p:xfrm>
        <a:graphic>
          <a:graphicData uri="http://schemas.openxmlformats.org/drawingml/2006/table">
            <a:tbl>
              <a:tblPr/>
              <a:tblGrid>
                <a:gridCol w="2656080"/>
                <a:gridCol w="1076760"/>
                <a:gridCol w="1873800"/>
                <a:gridCol w="216000"/>
                <a:gridCol w="2406960"/>
              </a:tblGrid>
              <a:tr h="426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ERSPECTIVA DE POLÍTICAS SOCIALES Y LABOR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ación Necesidades Bás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sust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asto Social Sec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v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as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ilidad labo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amov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ividad y Remuner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ción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cción asimetrí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er de nego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scolares y Jóv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colar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nom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F0E-1918-49B7-8801-541C6B5354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Sociedad con estruct. distr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y plana =&gt; 9 Deciles =&gt; Gini: 0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continuidad 10º Decil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o (Equidad)=&gt; Foco en 9 deciles inf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Excluir Decil 10 =&gt;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Colegios Particulares Pa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ssue: Rol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ol pa’ redistribu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s de Go sobr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Tax =&gt; Recaudar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tuación distrib.       - pre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post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4B1-AA5E-4BA9-9DDB-B558AF101F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les de Desigual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2257560"/>
            <a:ext cx="7777080" cy="37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C09-2428-45E6-89DE-C50C1B8807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1:27:01Z</dcterms:created>
  <dc:creator>Oscar Landerretche</dc:creator>
  <dc:description/>
  <dc:language>en-US</dc:language>
  <cp:lastModifiedBy>pmeller</cp:lastModifiedBy>
  <dcterms:modified xsi:type="dcterms:W3CDTF">2008-08-09T16:06:55Z</dcterms:modified>
  <cp:revision>169</cp:revision>
  <dc:subject/>
  <dc:title>Diapositiva 1</dc:title>
</cp:coreProperties>
</file>