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EMATICAS FINANCIER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Valor Presente y Valor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88928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8720" y="4754520"/>
            <a:ext cx="221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F /(1+i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890720" y="2286000"/>
            <a:ext cx="3017160" cy="1983600"/>
            <a:chOff x="1890720" y="2286000"/>
            <a:chExt cx="3017160" cy="1983600"/>
          </a:xfrm>
        </p:grpSpPr>
        <p:sp>
          <p:nvSpPr>
            <p:cNvPr id="44" name=""/>
            <p:cNvSpPr/>
            <p:nvPr/>
          </p:nvSpPr>
          <p:spPr>
            <a:xfrm>
              <a:off x="1981080" y="31590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1981080" y="24728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572000" y="3159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119680" y="228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79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907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053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1752480" y="4648320"/>
            <a:ext cx="31244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4952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Presente (“Desconta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TO DE OPORTUN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FUENTES HABITUALES DE CONFU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conociendo variación en los flujos se descuenta a la tasa libre de ries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sumir que la tasa de descuento es equivalente a la tasa a la cual puedo endeudarme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alidades si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8928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09360" y="4754520"/>
            <a:ext cx="296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 = F (1/(1+i)^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890720" y="2286000"/>
            <a:ext cx="3017160" cy="1983600"/>
            <a:chOff x="1890720" y="2286000"/>
            <a:chExt cx="3017160" cy="1983600"/>
          </a:xfrm>
        </p:grpSpPr>
        <p:sp>
          <p:nvSpPr>
            <p:cNvPr id="115" name=""/>
            <p:cNvSpPr/>
            <p:nvPr/>
          </p:nvSpPr>
          <p:spPr>
            <a:xfrm>
              <a:off x="1981080" y="31590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981080" y="24728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3159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19680" y="228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579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907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053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1752480" y="4648320"/>
            <a:ext cx="31244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alidades  con cuotas ig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365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523880" y="236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57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4852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86160" y="209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86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25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695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1413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81960" y="505476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* [{(1+i)^n-1}/{i*(1+i)^n}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4920" y="580536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P * [{i*(1+i)^n}/{(1+i)^n-1}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4952880"/>
            <a:ext cx="525780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6172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146720" y="560376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 de R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EMATICAS FINANCIER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ualidades  con cuotas igu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3880" y="365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523880" y="236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36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2670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1814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315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57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148520" y="316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86160" y="209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486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25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695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413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83040" y="5054760"/>
            <a:ext cx="248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er ejempl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2400" y="5856120"/>
            <a:ext cx="33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ttp://www.bancafacil.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4952880"/>
            <a:ext cx="525780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6172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31640" y="5157720"/>
            <a:ext cx="24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= Amor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Inter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Gradiente uniforme (aumento unifor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4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02920" y="4343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69880" y="4572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2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0960" y="502920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(n-1)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6040" y="5729400"/>
            <a:ext cx="84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(A+G/i) * [{(1+i)^n-1}/{i*(1+i)^n}]-[G/i*n/(1+i)^n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5638680"/>
            <a:ext cx="838188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48520" y="2895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1840" y="43434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68440" y="457200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9880" y="5029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67120" y="572940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* [(1+g)^n/(1+i)^n-1]/(g-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43000" y="5638680"/>
            <a:ext cx="510552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petu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365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523880" y="236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6232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526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148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15200" y="365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57560" y="3774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86160" y="209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4864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25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695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4132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92680" y="505476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/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05280" y="5805360"/>
            <a:ext cx="14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 P *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4952880"/>
            <a:ext cx="213336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553080" y="3429000"/>
            <a:ext cx="763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705360" y="3429000"/>
            <a:ext cx="759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5538600">
            <a:off x="7147080" y="316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ualidad de crecimiento 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3880" y="3387600"/>
            <a:ext cx="579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1523880" y="20923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33876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3387600"/>
            <a:ext cx="0" cy="87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67080" y="3387600"/>
            <a:ext cx="0" cy="118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315200" y="3387600"/>
            <a:ext cx="0" cy="164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57560" y="350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415000">
            <a:off x="7147080" y="289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8616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48640" y="411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1840" y="43434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68440" y="4572000"/>
            <a:ext cx="13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39880" y="50292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(1+g)^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49520" y="5729400"/>
            <a:ext cx="194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 = A / (i-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5638680"/>
            <a:ext cx="2361960" cy="838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486040" y="32004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638320" y="320040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title"/>
          </p:nvPr>
        </p:nvSpPr>
        <p:spPr>
          <a:xfrm>
            <a:off x="1257120" y="0"/>
            <a:ext cx="6629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MATEMATICAS FINANCIERA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EMATICAS FINANCIER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 Valor Presente y Valor Fut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89280" y="4537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8360" y="4754520"/>
            <a:ext cx="24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= P *(1+i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890720" y="2286000"/>
            <a:ext cx="3017160" cy="1983600"/>
            <a:chOff x="1890720" y="2286000"/>
            <a:chExt cx="3017160" cy="1983600"/>
          </a:xfrm>
        </p:grpSpPr>
        <p:sp>
          <p:nvSpPr>
            <p:cNvPr id="58" name=""/>
            <p:cNvSpPr/>
            <p:nvPr/>
          </p:nvSpPr>
          <p:spPr>
            <a:xfrm>
              <a:off x="1981080" y="3159000"/>
              <a:ext cx="259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1981080" y="247284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0" y="31590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119680" y="228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57960" y="38098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90720" y="3352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4053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752480" y="4648320"/>
            <a:ext cx="312444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4952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or Futuro (“Capitalizar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27320"/>
            <a:ext cx="8534160" cy="29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ocurre si tengo varios flujos futuros?: Necesitamos tener una m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étrica única para comparar el valor de l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concepto de valor presente neto aparece como una respuesta a esta neces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jemplo:Usted enfrenta dos alternativ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1040" indent="17784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yecto inmobiliario (supongamos libre de ries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60440" y="4479840"/>
            <a:ext cx="596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06560" y="4479840"/>
            <a:ext cx="0" cy="42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114800" y="4314960"/>
            <a:ext cx="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765760" y="4129200"/>
            <a:ext cx="0" cy="35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302600" y="43005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3720" y="4871880"/>
            <a:ext cx="125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$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6400" y="4062240"/>
            <a:ext cx="125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18120" y="3898800"/>
            <a:ext cx="125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18320" y="4027320"/>
            <a:ext cx="125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4479840"/>
            <a:ext cx="44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98800" y="4479840"/>
            <a:ext cx="444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4479840"/>
            <a:ext cx="444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4479840"/>
            <a:ext cx="444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5264280"/>
            <a:ext cx="8534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2" marL="851040" indent="177840"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nos del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11560" y="5929200"/>
            <a:ext cx="596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57680" y="5929200"/>
            <a:ext cx="0" cy="42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165560" y="57081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7353360" y="549396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84480" y="6323040"/>
            <a:ext cx="125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$1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467160" y="5470560"/>
            <a:ext cx="125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43880" y="5241960"/>
            <a:ext cx="1257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10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641680" y="5929200"/>
            <a:ext cx="444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49560" y="5929200"/>
            <a:ext cx="444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87920" y="5929200"/>
            <a:ext cx="444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137360" y="5929200"/>
            <a:ext cx="4446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29480" y="57081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130720" y="5470560"/>
            <a:ext cx="1257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$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920" y="456840"/>
            <a:ext cx="8534160" cy="176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a poder comparar las dos alternativas de inversi</a:t>
            </a:r>
            <a:r>
              <a:rPr b="0" lang="es-CL" sz="3000" spc="-1" strike="noStrike">
                <a:solidFill>
                  <a:srgbClr val="000000"/>
                </a:solidFill>
                <a:latin typeface="Times New Roman"/>
              </a:rPr>
              <a:t>ón debemos resumir ambos flujos de caja a un sólo valo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74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 definimos valor presente neto igual a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74"/>
              </a:spcBef>
              <a:buNone/>
              <a:tabLst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641760"/>
            <a:ext cx="8534160" cy="24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odemos calcular el valor presente de ambos flujos suponiendo una tasa de descuento anual igual a 6%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PN@6% (proyecto inmobiliario) = $6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VPN@6% (bono del gobierno) = $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100000"/>
              </a:lnSpc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s decir, preferir</a:t>
            </a: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mos el proyecto inmobiliario frente a invertir en bonos del gobiern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2008080" y="2622600"/>
                <a:ext cx="21956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PN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empresas invierten en distintos activos re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ctivos pueden ser de diferentes tip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tangibles o físicos (maquinaria, edifici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intangibles (contratos de gestión, Paten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tivos financieros (acciones, bono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tivo de la decisión de inversión es encontrar activos cuyo valor supere su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o lo anterior surge la necesidad de valorar adecuadamente l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existe un buen mercado para un activo el valor será exactamente su precio de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ongamos invierto hoy $ 350.000 y que esa inversión al cabo de un año la podré vender en $ 400.000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pregunta a  resolver es si esos $ 400.000 dentro de un año son mayores que los $ 350.000 que he invertido hoy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R PRINCIPIO FINANCIE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 dólar hoy vale más que un dólar mañana bajo la premisa de que hoy puedo invertir ese dólar para generar intereses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acuerdo a lo anterior los $ 400.000 dentro de un año son menos de $ 400.000 ho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 = Tasa de descuen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Tasa míni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sto de oportunidad del capit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Rentabilidad mínima exigi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sto de capital…etc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Costo de oportunidad: Rentabilidad a la que se renuncia al invertir en un proyect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Times New Roman"/>
              </a:rPr>
              <a:t>SEGUNDO PRINCIPIO FINANCIERO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</a:rPr>
              <a:t>Un dólar seguro vale más que uno con riesgo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o todas las inversiones tienen el mismo riesg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nos del teso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ción de oficin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ación de un pozo de petról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incipio a mayor riesgo mayor es la rentabilidad exig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ás adelante se discutirá el problema del riesgo y como éste afecta el valor de los ac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LOR PRESENTE Y FUTU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STO DE OPORTUNIDAD DEL CAPIT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DE UN PROYECTO DE INVERSIÓN ES LA TASA ESPERADA DE RENTABILIDAD DEMANDADA POR LOS INVERSIONISTAS EN ACTIVOS SUJETOS AL MISMO RIESGO DEL PROYE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cp:keywords/>
  <dc:language>en-US</dc:language>
  <cp:lastModifiedBy>Eduardo Contreras Villablanca</cp:lastModifiedBy>
  <cp:lastPrinted>1997-04-16T17:24:08Z</cp:lastPrinted>
  <dcterms:modified xsi:type="dcterms:W3CDTF">2007-07-23T15:39:32Z</dcterms:modified>
  <cp:revision>10</cp:revision>
  <dc:subject>Planificación financiera</dc:subject>
  <dc:title>PLANIFICACION FINANCIERA</dc:title>
</cp:coreProperties>
</file>