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27.wmf" ContentType="image/x-wmf"/>
  <Override PartName="/ppt/media/image92.wmf" ContentType="image/x-wmf"/>
  <Override PartName="/ppt/media/image50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10.wmf" ContentType="image/x-wmf"/>
  <Override PartName="/ppt/media/image111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74.wmf" ContentType="image/x-wmf"/>
  <Override PartName="/ppt/media/image117.wmf" ContentType="image/x-wmf"/>
  <Override PartName="/ppt/media/image7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20.png" ContentType="image/png"/>
  <Override PartName="/ppt/media/image88.wmf" ContentType="image/x-wmf"/>
  <Override PartName="/ppt/media/image14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8BC-1528-4856-A17E-CD311A3D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6B6-97CD-4F06-82EF-EF19B0A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F15-1BC7-404C-9D83-7B7C60F5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158-18EC-4761-8209-373B3A36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927-4D02-4952-B1F7-BBE7873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1BE-9500-4302-8C1E-5A00725E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E80-9759-460A-ABF8-91F9C8A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E08-EA5F-4845-91BE-EC0D294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9B-267F-41F0-9846-209A252C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016-312E-4283-A111-ECEC76B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ABA-6FFB-4CC3-9BAB-E9C4EA4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6ED-668F-42C5-85DC-8D35931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45C6-91C5-4D6B-8B5B-8A46E0B82D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9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1.wmf"/><Relationship Id="rId6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5.wmf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6.wmf"/><Relationship Id="rId4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 P C I O N 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6520" y="2822400"/>
          <a:ext cx="5502240" cy="20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22400"/>
                    <a:ext cx="55022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905120" y="1440000"/>
          <a:ext cx="5599080" cy="43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0000"/>
                    <a:ext cx="5599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33600" y="153360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604880" y="6872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743120" y="1208160"/>
          <a:ext cx="5597640" cy="485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208160"/>
                    <a:ext cx="55976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743120" y="1440000"/>
          <a:ext cx="5597640" cy="408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: Sensibilidad a Cambios en la Tasa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66760" y="1068480"/>
          <a:ext cx="5459400" cy="60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6760" y="1068480"/>
                    <a:ext cx="5459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1905120" y="1447920"/>
          <a:ext cx="5599080" cy="4576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52480" y="1905120"/>
          <a:ext cx="5599080" cy="31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05120"/>
                    <a:ext cx="55990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46360" y="493560"/>
          <a:ext cx="5397480" cy="668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6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447920"/>
          <a:ext cx="5599080" cy="462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447920"/>
                    <a:ext cx="559908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746360" y="493560"/>
          <a:ext cx="5397480" cy="610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ta: Efecto del Paso del Tiemp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76520" y="130500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0500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76520" y="128736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8736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835280" y="603360"/>
          <a:ext cx="5599080" cy="50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03360"/>
                    <a:ext cx="5599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17760" y="1058760"/>
          <a:ext cx="55022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058760"/>
                    <a:ext cx="55022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46360" y="183528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83528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3800" y="2800440"/>
          <a:ext cx="3386160" cy="62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800440"/>
                    <a:ext cx="3386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-304920" y="1981080"/>
          <a:ext cx="8852040" cy="46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04920" y="1981080"/>
                    <a:ext cx="8852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981080" y="3962520"/>
          <a:ext cx="5599080" cy="174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962520"/>
                    <a:ext cx="559908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687240"/>
          <a:ext cx="5502240" cy="583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7240"/>
                    <a:ext cx="55022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46360" y="758880"/>
          <a:ext cx="5503680" cy="523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go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pción Call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Opción Put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81644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6172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617400"/>
          <a:ext cx="550368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17400"/>
                    <a:ext cx="550368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18288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4880" y="687240"/>
          <a:ext cx="5504040" cy="56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ación para sólo un Perí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51200" y="2114640"/>
          <a:ext cx="45068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1200" y="2114640"/>
                    <a:ext cx="450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590920" y="4419720"/>
          <a:ext cx="3962160" cy="52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419720"/>
                    <a:ext cx="3962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35280" y="687240"/>
          <a:ext cx="5484600" cy="52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87240"/>
                    <a:ext cx="5484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2198520"/>
          <a:ext cx="559728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98520"/>
                    <a:ext cx="55972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2971800"/>
          <a:ext cx="4876920" cy="1905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971800"/>
                    <a:ext cx="4876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el valor total del portafoli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3000" y="3048120"/>
          <a:ext cx="693432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8120"/>
                    <a:ext cx="6934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7240" y="1287360"/>
          <a:ext cx="6856560" cy="93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287360"/>
                    <a:ext cx="68565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2286000"/>
          <a:ext cx="6477120" cy="1143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286000"/>
                    <a:ext cx="6477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14600" y="4572000"/>
          <a:ext cx="3886200" cy="784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4572000"/>
                    <a:ext cx="38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38080" y="4114800"/>
          <a:ext cx="5599080" cy="3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14800"/>
                    <a:ext cx="5599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6120" y="91764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91764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ación para Dos Perío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50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6480" y="213660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3660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-685800" y="2895480"/>
          <a:ext cx="9829800" cy="2210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85800" y="2895480"/>
                    <a:ext cx="9829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914400" y="3429000"/>
          <a:ext cx="1051560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3429000"/>
                    <a:ext cx="1051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6640" y="2136600"/>
          <a:ext cx="7392960" cy="7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6640" y="2136600"/>
                    <a:ext cx="739296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917640"/>
          <a:ext cx="5502240" cy="4832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17640"/>
                    <a:ext cx="55022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209680"/>
          <a:ext cx="5599080" cy="3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5599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438280" y="3429000"/>
          <a:ext cx="3581640" cy="120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429000"/>
                    <a:ext cx="35816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733840"/>
          <a:ext cx="5889600" cy="84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33840"/>
                    <a:ext cx="58896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46360" y="387360"/>
          <a:ext cx="5503680" cy="441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387360"/>
                    <a:ext cx="55036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00200" y="4952880"/>
          <a:ext cx="5791320" cy="76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52880"/>
                    <a:ext cx="5791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odelamiento Binomial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235240"/>
            <a:ext cx="77724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46360" y="528480"/>
          <a:ext cx="5290920" cy="629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528480"/>
                    <a:ext cx="5290920" cy="62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685800"/>
          <a:ext cx="5597640" cy="685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 Continuo</a:t>
            </a:r>
            <a:br>
              <a:rPr sz="2800"/>
            </a:b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odelamiento de Precios de Activos Financier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301760" y="1743120"/>
          <a:ext cx="5597640" cy="824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1743120"/>
                    <a:ext cx="5597640" cy="82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6240" y="1835280"/>
          <a:ext cx="5503680" cy="40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6240" y="1835280"/>
                    <a:ext cx="5503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1676520"/>
          <a:ext cx="5599080" cy="390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1073160"/>
          <a:ext cx="5599080" cy="578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73160"/>
                    <a:ext cx="559908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723960"/>
          <a:ext cx="55022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723960"/>
                    <a:ext cx="55022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752480"/>
          <a:ext cx="559908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752480"/>
                    <a:ext cx="55990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73280" y="603360"/>
          <a:ext cx="5597640" cy="494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03360"/>
                    <a:ext cx="5597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17760" y="1604880"/>
          <a:ext cx="5449680" cy="742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04880"/>
                    <a:ext cx="5449680" cy="74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066680"/>
          <a:ext cx="5668920" cy="50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066680"/>
                    <a:ext cx="566892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cio de una Opción Cal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905120" y="1905120"/>
          <a:ext cx="6162480" cy="42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05120"/>
                    <a:ext cx="61624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Put-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600200" y="1600200"/>
          <a:ext cx="5599080" cy="48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990720"/>
          <a:ext cx="5599080" cy="452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55990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46360" y="846000"/>
          <a:ext cx="550368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846000"/>
                    <a:ext cx="55036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2843280"/>
          <a:ext cx="7315200" cy="16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843280"/>
                    <a:ext cx="73152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46360" y="987480"/>
          <a:ext cx="5503680" cy="455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52480" y="16765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76520" y="1376280"/>
          <a:ext cx="5502240" cy="47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6280"/>
                    <a:ext cx="5502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esgos para el Emisor y Cober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14479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bertura Del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523880"/>
          <a:ext cx="5599080" cy="399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828800" y="1447920"/>
          <a:ext cx="5599080" cy="39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447920"/>
                    <a:ext cx="5599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35280" y="846000"/>
          <a:ext cx="5502240" cy="50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846000"/>
                    <a:ext cx="55022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bertura Delta Frente a Cambios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1676520"/>
          <a:ext cx="7086600" cy="457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0866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46360" y="617400"/>
          <a:ext cx="5503680" cy="633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17400"/>
                    <a:ext cx="550368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1981080"/>
          <a:ext cx="5599080" cy="281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59908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758880"/>
          <a:ext cx="5502240" cy="51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6280" y="758880"/>
                    <a:ext cx="550224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905120" y="687240"/>
          <a:ext cx="5379840" cy="566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87240"/>
                    <a:ext cx="537984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52480" y="1219320"/>
          <a:ext cx="5597640" cy="429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59764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04880" y="1058760"/>
          <a:ext cx="5504040" cy="51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46360" y="758880"/>
          <a:ext cx="550368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52480" y="1371600"/>
          <a:ext cx="5597640" cy="40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371600"/>
                    <a:ext cx="55976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685800"/>
          <a:ext cx="5599080" cy="53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212840"/>
          <a:ext cx="5599080" cy="56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2840"/>
                    <a:ext cx="55990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286000" y="14479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4479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35280" y="1905120"/>
          <a:ext cx="5502240" cy="3068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05120"/>
                    <a:ext cx="55022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tuación Sin Cobertu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3160" y="1743120"/>
          <a:ext cx="72374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43120"/>
                    <a:ext cx="7237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219320"/>
          <a:ext cx="559908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5990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76520" y="1974960"/>
          <a:ext cx="5502240" cy="370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74960"/>
                    <a:ext cx="55022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46360" y="1287360"/>
          <a:ext cx="55036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752480" y="1828800"/>
          <a:ext cx="5599080" cy="36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5599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835280" y="1217520"/>
          <a:ext cx="5502240" cy="47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35280" y="1217520"/>
          <a:ext cx="5502240" cy="49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rategia Stop-Los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47760" y="1981080"/>
          <a:ext cx="664704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1981080"/>
                    <a:ext cx="664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4. Cobertura Del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673280" y="1373040"/>
          <a:ext cx="5852880" cy="510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1373040"/>
                    <a:ext cx="5852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46360" y="1058760"/>
          <a:ext cx="5503680" cy="550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058760"/>
                    <a:ext cx="5503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87360" y="458640"/>
          <a:ext cx="5504040" cy="574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7360" y="458640"/>
                    <a:ext cx="550404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76520" y="846000"/>
          <a:ext cx="550224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846000"/>
                    <a:ext cx="55022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46360" y="167652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67652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52480" y="2286000"/>
          <a:ext cx="5599080" cy="269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55990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lta como Función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66880" y="1981080"/>
          <a:ext cx="533412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81080"/>
                    <a:ext cx="533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600200" y="1981080"/>
          <a:ext cx="5599080" cy="26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55990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905120" y="1523880"/>
          <a:ext cx="5599080" cy="374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46360" y="987480"/>
          <a:ext cx="5503680" cy="47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746360" y="1217520"/>
          <a:ext cx="5503680" cy="507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17520"/>
                    <a:ext cx="5503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81080" y="121932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21932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752480"/>
          <a:ext cx="5599080" cy="33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5990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mma como Función del Tiempo y Precio del Activ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09680" y="1981080"/>
          <a:ext cx="5958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59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523880"/>
          <a:ext cx="5599080" cy="415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55990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4880" y="1217520"/>
          <a:ext cx="55040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217520"/>
                    <a:ext cx="55040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76520" y="758880"/>
          <a:ext cx="5273640" cy="617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27364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4880" y="1146240"/>
          <a:ext cx="550404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146240"/>
                    <a:ext cx="55040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46360" y="687240"/>
          <a:ext cx="539748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5. Cobertura Delta y Gamma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1770120"/>
          <a:ext cx="6534000" cy="508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70120"/>
                    <a:ext cx="653400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676520" y="9907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752480" y="685800"/>
          <a:ext cx="5597640" cy="573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43120" y="465120"/>
          <a:ext cx="5597640" cy="597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465120"/>
                    <a:ext cx="559764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76520" y="1219320"/>
          <a:ext cx="5599080" cy="641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19320"/>
                    <a:ext cx="559908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8:20Z</dcterms:modified>
  <cp:revision>6</cp:revision>
  <dc:subject/>
  <dc:title>Sin título de diapositiva</dc:title>
</cp:coreProperties>
</file>