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4.wmf" ContentType="image/x-wmf"/>
  <Override PartName="/ppt/media/image16.wmf" ContentType="image/x-wmf"/>
  <Override PartName="/ppt/media/image81.wmf" ContentType="image/x-wmf"/>
  <Override PartName="/ppt/media/image58.wmf" ContentType="image/x-wmf"/>
  <Override PartName="/ppt/media/image57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png" ContentType="image/png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6.png" ContentType="image/png"/>
  <Override PartName="/ppt/media/image32.wmf" ContentType="image/x-wmf"/>
  <Override PartName="/ppt/media/image31.wmf" ContentType="image/x-wmf"/>
  <Override PartName="/ppt/media/image30.wmf" ContentType="image/x-wmf"/>
  <Override PartName="/ppt/media/image127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25.wmf" ContentType="image/x-wmf"/>
  <Override PartName="/ppt/media/image90.wmf" ContentType="image/x-wmf"/>
  <Override PartName="/ppt/media/image34.wmf" ContentType="image/x-wmf"/>
  <Override PartName="/ppt/media/image27.wmf" ContentType="image/x-wmf"/>
  <Override PartName="/ppt/media/image92.wmf" ContentType="image/x-wmf"/>
  <Override PartName="/ppt/media/image50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79.wmf" ContentType="image/x-wmf"/>
  <Override PartName="/ppt/media/image101.wmf" ContentType="image/x-wmf"/>
  <Override PartName="/ppt/media/image102.wmf" ContentType="image/x-wmf"/>
  <Override PartName="/ppt/media/image95.wmf" ContentType="image/x-wmf"/>
  <Override PartName="/ppt/media/image103.wmf" ContentType="image/x-wmf"/>
  <Override PartName="/ppt/media/image96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6.wmf" ContentType="image/x-wmf"/>
  <Override PartName="/ppt/media/image62.wmf" ContentType="image/x-wmf"/>
  <Override PartName="/ppt/media/image2.jpeg" ContentType="image/jpeg"/>
  <Override PartName="/ppt/media/image99.wmf" ContentType="image/x-wmf"/>
  <Override PartName="/ppt/media/image110.wmf" ContentType="image/x-wmf"/>
  <Override PartName="/ppt/media/image111.wmf" ContentType="image/x-wmf"/>
  <Override PartName="/ppt/media/image126.wmf" ContentType="image/x-wmf"/>
  <Override PartName="/ppt/media/image114.wmf" ContentType="image/x-wmf"/>
  <Override PartName="/ppt/media/image70.wmf" ContentType="image/x-wmf"/>
  <Override PartName="/ppt/media/image125.wmf" ContentType="image/x-wmf"/>
  <Override PartName="/ppt/media/image113.wmf" ContentType="image/x-wmf"/>
  <Override PartName="/ppt/media/image124.wmf" ContentType="image/x-wmf"/>
  <Override PartName="/ppt/media/image112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8.wmf" ContentType="image/x-wmf"/>
  <Override PartName="/ppt/media/image74.wmf" ContentType="image/x-wmf"/>
  <Override PartName="/ppt/media/image117.wmf" ContentType="image/x-wmf"/>
  <Override PartName="/ppt/media/image73.wmf" ContentType="image/x-wmf"/>
  <Override PartName="/ppt/media/image116.wmf" ContentType="image/x-wmf"/>
  <Override PartName="/ppt/media/image72.wmf" ContentType="image/x-wmf"/>
  <Override PartName="/ppt/media/image115.wmf" ContentType="image/x-wmf"/>
  <Override PartName="/ppt/media/image71.wmf" ContentType="image/x-wmf"/>
  <Override PartName="/ppt/media/image76.wmf" ContentType="image/x-wmf"/>
  <Override PartName="/ppt/media/image75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4.png" ContentType="image/png"/>
  <Override PartName="/ppt/media/image63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20.png" ContentType="image/png"/>
  <Override PartName="/ppt/media/image88.wmf" ContentType="image/x-wmf"/>
  <Override PartName="/ppt/media/image14.wmf" ContentType="image/x-wmf"/>
  <Override PartName="/ppt/media/image1.jpeg" ContentType="image/jpeg"/>
  <Override PartName="/ppt/media/image21.png" ContentType="image/png"/>
  <Override PartName="/ppt/media/image8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4EBF-5F4D-4229-B8D6-A6B70AB0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FFF6-EFE3-4904-9350-B3E3DF12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F44-BF2A-44EC-A270-A084FB1D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41B7-1E5E-4475-A74B-43FBCF21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B9B4-F316-47FD-BCBF-CAE59AB2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009B-77E1-4F82-BCC7-1B2F7342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CD4-2946-4352-B285-0E8F45AD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CC4E-BC2F-4140-AF0F-458E35F8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1049-49DB-42A9-9D98-9AFA1008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3D91-1B61-4DA7-A65B-CD2E6911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EE57-67C2-45C8-965F-FFA023A4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CF43-811F-4DA1-BA30-B07D5F28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D135-F230-46A2-A79E-561D061B23A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3.wmf"/><Relationship Id="rId4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4.wmf"/><Relationship Id="rId4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5.wmf"/><Relationship Id="rId4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6.wmf"/><Relationship Id="rId4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7.wmf"/><Relationship Id="rId4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8.wmf"/><Relationship Id="rId4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9.wmf"/><Relationship Id="rId4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21.wmf"/><Relationship Id="rId6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2.wmf"/><Relationship Id="rId4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3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4.wmf"/><Relationship Id="rId4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5.wmf"/><Relationship Id="rId4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6.wmf"/><Relationship Id="rId4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7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3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3.wmf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5.wmf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8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0.wmf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1.wmf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3.wmf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4.wmf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5.wmf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6.wmf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7.wmf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8.wmf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9.wmf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0.wmf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1.wmf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3.wmf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4.wmf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5.wmf"/><Relationship Id="rId4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6.wmf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7.wmf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8.wmf"/><Relationship Id="rId4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9.wmf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0.wmf"/><Relationship Id="rId4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1.wmf"/><Relationship Id="rId4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2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3.wmf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4.wmf"/><Relationship Id="rId4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5.wmf"/><Relationship Id="rId4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6.wmf"/><Relationship Id="rId4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7.wmf"/><Relationship Id="rId4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8.wmf"/><Relationship Id="rId4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9.wmf"/><Relationship Id="rId4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0.wmf"/><Relationship Id="rId4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1.wmf"/><Relationship Id="rId4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3.wmf"/><Relationship Id="rId4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4.wmf"/><Relationship Id="rId4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5.wmf"/><Relationship Id="rId4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6.wmf"/><Relationship Id="rId4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7.wmf"/><Relationship Id="rId4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8.wmf"/><Relationship Id="rId4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9.wmf"/><Relationship Id="rId4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0.wmf"/><Relationship Id="rId4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1.wmf"/><Relationship Id="rId4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2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O P C I O N E 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676520" y="2822400"/>
          <a:ext cx="5502240" cy="2063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822400"/>
                    <a:ext cx="550224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905120" y="1440000"/>
          <a:ext cx="5599080" cy="4321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440000"/>
                    <a:ext cx="559908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533600" y="1533600"/>
          <a:ext cx="559908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3600" y="1533600"/>
                    <a:ext cx="559908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987480" y="460440"/>
          <a:ext cx="7161120" cy="5904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7480" y="460440"/>
                    <a:ext cx="716112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987480" y="460440"/>
          <a:ext cx="7161120" cy="5904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7480" y="460440"/>
                    <a:ext cx="716112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604880" y="687240"/>
          <a:ext cx="5504040" cy="5697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687240"/>
                    <a:ext cx="5504040" cy="56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1743120" y="1208160"/>
          <a:ext cx="5597640" cy="4856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3120" y="1208160"/>
                    <a:ext cx="559764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743120" y="1440000"/>
          <a:ext cx="5597640" cy="4089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3120" y="1440000"/>
                    <a:ext cx="5597640" cy="40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ho: Sensibilidad a Cambios en la Tasa de Interé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2066760" y="1068480"/>
          <a:ext cx="5459400" cy="60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66760" y="1068480"/>
                    <a:ext cx="545940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1905120" y="1447920"/>
          <a:ext cx="5599080" cy="4576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1447920"/>
                    <a:ext cx="559908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1752480" y="1905120"/>
          <a:ext cx="5599080" cy="3182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905120"/>
                    <a:ext cx="559908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746360" y="493560"/>
          <a:ext cx="5397480" cy="6685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493560"/>
                    <a:ext cx="5397480" cy="668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447920"/>
          <a:ext cx="5599080" cy="4622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447920"/>
                    <a:ext cx="559908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1746360" y="493560"/>
          <a:ext cx="5397480" cy="6104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493560"/>
                    <a:ext cx="5397480" cy="61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ta: Efecto del Paso del Tiemp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1676520" y="1305000"/>
          <a:ext cx="5397480" cy="5680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305000"/>
                    <a:ext cx="5397480" cy="56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676520" y="1287360"/>
          <a:ext cx="5397480" cy="5680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287360"/>
                    <a:ext cx="5397480" cy="56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835280" y="603360"/>
          <a:ext cx="5599080" cy="5065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603360"/>
                    <a:ext cx="559908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17760" y="1058760"/>
          <a:ext cx="550224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7760" y="1058760"/>
                    <a:ext cx="550224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46360" y="1835280"/>
          <a:ext cx="5503680" cy="366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1835280"/>
                    <a:ext cx="550368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93800" y="2800440"/>
          <a:ext cx="3386160" cy="628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3800" y="2800440"/>
                    <a:ext cx="33861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-304920" y="1981080"/>
          <a:ext cx="8852040" cy="463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304920" y="1981080"/>
                    <a:ext cx="885204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981080" y="3962520"/>
          <a:ext cx="5599080" cy="17413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962520"/>
                    <a:ext cx="559908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676520" y="687240"/>
          <a:ext cx="5502240" cy="5838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687240"/>
                    <a:ext cx="550224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46360" y="758880"/>
          <a:ext cx="5503680" cy="5238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758880"/>
                    <a:ext cx="55036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ago de una Opció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Opción Call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   Opción Put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4816440" cy="3352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267080" y="2895480"/>
            <a:ext cx="6172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05120" y="617400"/>
          <a:ext cx="5503680" cy="5150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617400"/>
                    <a:ext cx="5503680" cy="51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676520" y="1828800"/>
          <a:ext cx="5599080" cy="308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828800"/>
                    <a:ext cx="5599080" cy="30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604880" y="687240"/>
          <a:ext cx="5504040" cy="5610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687240"/>
                    <a:ext cx="5504040" cy="56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loración para sólo un Períod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631044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951200" y="2114640"/>
          <a:ext cx="4506840" cy="427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51200" y="2114640"/>
                    <a:ext cx="450684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590920" y="4419720"/>
          <a:ext cx="3962160" cy="520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90920" y="4419720"/>
                    <a:ext cx="39621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835280" y="687240"/>
          <a:ext cx="5484600" cy="5292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687240"/>
                    <a:ext cx="54846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447920" y="2198520"/>
          <a:ext cx="5597280" cy="1230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198520"/>
                    <a:ext cx="559728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828800" y="2971800"/>
          <a:ext cx="4876920" cy="1905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2971800"/>
                    <a:ext cx="4876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lo tanto, el valor total del portafolio 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43000" y="3048120"/>
          <a:ext cx="6934320" cy="1066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8120"/>
                    <a:ext cx="69343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7240" y="1287360"/>
          <a:ext cx="6856560" cy="935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7240" y="1287360"/>
                    <a:ext cx="685656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1066680" y="2286000"/>
          <a:ext cx="6477120" cy="1143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2286000"/>
                    <a:ext cx="64771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514600" y="4572000"/>
          <a:ext cx="3886200" cy="784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14600" y="4572000"/>
                    <a:ext cx="388620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838080" y="4114800"/>
          <a:ext cx="5599080" cy="3938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080" y="4114800"/>
                    <a:ext cx="55990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46120" y="917640"/>
          <a:ext cx="550404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6120" y="917640"/>
                    <a:ext cx="550404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oración para Dos Períod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50904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06480" y="2136600"/>
          <a:ext cx="5599080" cy="51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6480" y="2136600"/>
                    <a:ext cx="55990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-685800" y="2895480"/>
          <a:ext cx="9829800" cy="2210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685800" y="2895480"/>
                    <a:ext cx="982980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-914400" y="3429000"/>
          <a:ext cx="10515600" cy="251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914400" y="3429000"/>
                    <a:ext cx="10515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36640" y="2136600"/>
          <a:ext cx="7392960" cy="790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6640" y="2136600"/>
                    <a:ext cx="7392960" cy="7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76520" y="917640"/>
          <a:ext cx="5502240" cy="4832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917640"/>
                    <a:ext cx="550224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219320" y="2209680"/>
          <a:ext cx="5599080" cy="395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209680"/>
                    <a:ext cx="55990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438280" y="3429000"/>
          <a:ext cx="3581640" cy="1200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38280" y="3429000"/>
                    <a:ext cx="35816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447920" y="2733840"/>
          <a:ext cx="5889600" cy="847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733840"/>
                    <a:ext cx="588960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746360" y="387360"/>
          <a:ext cx="5503680" cy="4410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387360"/>
                    <a:ext cx="550368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600200" y="4952880"/>
          <a:ext cx="5791320" cy="762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4952880"/>
                    <a:ext cx="5791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Modelamiento Binomial de una Opció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85800" y="2235240"/>
            <a:ext cx="777240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746360" y="528480"/>
          <a:ext cx="5290920" cy="6297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528480"/>
                    <a:ext cx="5290920" cy="62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752480" y="685800"/>
          <a:ext cx="5597640" cy="6853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685800"/>
                    <a:ext cx="559764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empo Continuo</a:t>
            </a:r>
            <a:br>
              <a:rPr sz="2800"/>
            </a:br>
            <a:br>
              <a:rPr sz="2800"/>
            </a:b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Modelamiento de Precios de Activos Financiero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301760" y="1743120"/>
          <a:ext cx="5597640" cy="8246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1760" y="1743120"/>
                    <a:ext cx="5597640" cy="82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146240" y="1835280"/>
          <a:ext cx="5503680" cy="400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6240" y="1835280"/>
                    <a:ext cx="550368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752480" y="1676520"/>
          <a:ext cx="5599080" cy="3902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676520"/>
                    <a:ext cx="559908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47920" y="1073160"/>
          <a:ext cx="5599080" cy="5784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073160"/>
                    <a:ext cx="5599080" cy="57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835280" y="723960"/>
          <a:ext cx="5502240" cy="603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723960"/>
                    <a:ext cx="550224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676520" y="1752480"/>
          <a:ext cx="5599080" cy="3276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752480"/>
                    <a:ext cx="55990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673280" y="603360"/>
          <a:ext cx="5597640" cy="4949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3280" y="603360"/>
                    <a:ext cx="559764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673280" y="511200"/>
          <a:ext cx="5597640" cy="6342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3280" y="511200"/>
                    <a:ext cx="5597640" cy="63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673280" y="511200"/>
          <a:ext cx="5597640" cy="6342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3280" y="511200"/>
                    <a:ext cx="5597640" cy="63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517760" y="1604880"/>
          <a:ext cx="5449680" cy="7426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7760" y="1604880"/>
                    <a:ext cx="5449680" cy="74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676520" y="1066680"/>
          <a:ext cx="5668920" cy="5018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066680"/>
                    <a:ext cx="566892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recio de una Opción Cal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905120" y="1905120"/>
          <a:ext cx="6162480" cy="42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905120"/>
                    <a:ext cx="616248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idades Put-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600200" y="1600200"/>
          <a:ext cx="5599080" cy="485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600200"/>
                    <a:ext cx="559908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00200" y="990720"/>
          <a:ext cx="5599080" cy="452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990720"/>
                    <a:ext cx="559908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746360" y="846000"/>
          <a:ext cx="5503680" cy="504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846000"/>
                    <a:ext cx="550368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3520" y="2843280"/>
          <a:ext cx="7315200" cy="1690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843280"/>
                    <a:ext cx="731520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746360" y="987480"/>
          <a:ext cx="5503680" cy="455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987480"/>
                    <a:ext cx="550368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752480" y="1676520"/>
          <a:ext cx="5599080" cy="3995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676520"/>
                    <a:ext cx="559908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676520" y="1376280"/>
          <a:ext cx="5502240" cy="4780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376280"/>
                    <a:ext cx="550224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esgos para el Emisor y Cobertur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600200" y="1447920"/>
          <a:ext cx="5599080" cy="4576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447920"/>
                    <a:ext cx="559908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bertura Delt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905120" y="1523880"/>
          <a:ext cx="5599080" cy="399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523880"/>
                    <a:ext cx="5599080" cy="39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828800" y="1447920"/>
          <a:ext cx="5599080" cy="3949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447920"/>
                    <a:ext cx="559908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835280" y="846000"/>
          <a:ext cx="5502240" cy="5097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846000"/>
                    <a:ext cx="5502240" cy="50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bertura Delta Frente a Cambios de 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990720" y="1676520"/>
          <a:ext cx="7086600" cy="4574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676520"/>
                    <a:ext cx="7086600" cy="45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746360" y="617400"/>
          <a:ext cx="5503680" cy="6332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617400"/>
                    <a:ext cx="550368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371600" y="1981080"/>
          <a:ext cx="5599080" cy="281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981080"/>
                    <a:ext cx="5599080" cy="28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376280" y="758880"/>
          <a:ext cx="5502240" cy="5167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6280" y="758880"/>
                    <a:ext cx="5502240" cy="51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905120" y="687240"/>
          <a:ext cx="5379840" cy="5662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687240"/>
                    <a:ext cx="537984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752480" y="1219320"/>
          <a:ext cx="5597640" cy="429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219320"/>
                    <a:ext cx="5597640" cy="42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604880" y="1058760"/>
          <a:ext cx="5504040" cy="513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1058760"/>
                    <a:ext cx="5504040" cy="51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746360" y="758880"/>
          <a:ext cx="5503680" cy="5573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758880"/>
                    <a:ext cx="5503680" cy="55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752480" y="1371600"/>
          <a:ext cx="5597640" cy="4087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371600"/>
                    <a:ext cx="559764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752480" y="685800"/>
          <a:ext cx="5599080" cy="5343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685800"/>
                    <a:ext cx="559908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523880" y="1212840"/>
          <a:ext cx="5599080" cy="5645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212840"/>
                    <a:ext cx="5599080" cy="56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286000" y="1447920"/>
          <a:ext cx="5599080" cy="3995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447920"/>
                    <a:ext cx="559908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835280" y="1905120"/>
          <a:ext cx="5502240" cy="3068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1905120"/>
                    <a:ext cx="550224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tuación Sin Cobertu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ifras en Miles de $, Excepto Precio Acción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3160" y="1743120"/>
          <a:ext cx="7237440" cy="427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3160" y="1743120"/>
                    <a:ext cx="723744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219320"/>
          <a:ext cx="5599080" cy="513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219320"/>
                    <a:ext cx="559908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676520" y="1974960"/>
          <a:ext cx="5502240" cy="3705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974960"/>
                    <a:ext cx="550224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746360" y="1287360"/>
          <a:ext cx="5503680" cy="515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1287360"/>
                    <a:ext cx="550368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752480" y="1828800"/>
          <a:ext cx="5599080" cy="369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828800"/>
                    <a:ext cx="559908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835280" y="1217520"/>
          <a:ext cx="5502240" cy="4745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1217520"/>
                    <a:ext cx="550224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835280" y="1217520"/>
          <a:ext cx="5502240" cy="492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1217520"/>
                    <a:ext cx="550224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trategia Stop-Los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Cifras en Miles de $, Excepto Precio Acción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247760" y="1981080"/>
          <a:ext cx="6647040" cy="41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47760" y="1981080"/>
                    <a:ext cx="6647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uadro 4. Cobertura Delt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ifras en Miles de $, Excepto Precio Acción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673280" y="1373040"/>
          <a:ext cx="5852880" cy="5105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3280" y="1373040"/>
                    <a:ext cx="5852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746360" y="1058760"/>
          <a:ext cx="5503680" cy="5502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1058760"/>
                    <a:ext cx="550368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287360" y="458640"/>
          <a:ext cx="5504040" cy="5749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7360" y="458640"/>
                    <a:ext cx="5504040" cy="57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676520" y="846000"/>
          <a:ext cx="5502240" cy="5521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846000"/>
                    <a:ext cx="550224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46360" y="1676520"/>
          <a:ext cx="5503680" cy="366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1676520"/>
                    <a:ext cx="550368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752480" y="2286000"/>
          <a:ext cx="5599080" cy="2693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2286000"/>
                    <a:ext cx="559908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lta como Función de 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2666880" y="1981080"/>
          <a:ext cx="5334120" cy="41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981080"/>
                    <a:ext cx="5334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600200" y="1981080"/>
          <a:ext cx="5599080" cy="2648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981080"/>
                    <a:ext cx="559908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905120" y="1523880"/>
          <a:ext cx="5599080" cy="3740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523880"/>
                    <a:ext cx="5599080" cy="37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746360" y="987480"/>
          <a:ext cx="5503680" cy="47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987480"/>
                    <a:ext cx="55036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746360" y="1217520"/>
          <a:ext cx="5503680" cy="5079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1217520"/>
                    <a:ext cx="55036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981080" y="1219320"/>
          <a:ext cx="559908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219320"/>
                    <a:ext cx="559908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2057400" y="1752480"/>
          <a:ext cx="5599080" cy="3321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1752480"/>
                    <a:ext cx="559908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amma como Función del Tiempo y Precio del Activ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2209680" y="1981080"/>
          <a:ext cx="59580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981080"/>
                    <a:ext cx="5958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676520" y="1523880"/>
          <a:ext cx="5599080" cy="415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523880"/>
                    <a:ext cx="559908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604880" y="1217520"/>
          <a:ext cx="5504040" cy="603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1217520"/>
                    <a:ext cx="550404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676520" y="758880"/>
          <a:ext cx="5273640" cy="6173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758880"/>
                    <a:ext cx="527364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604880" y="1146240"/>
          <a:ext cx="5504040" cy="504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1146240"/>
                    <a:ext cx="550404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746360" y="687240"/>
          <a:ext cx="5397480" cy="536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687240"/>
                    <a:ext cx="539748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604880" y="387360"/>
          <a:ext cx="5397480" cy="594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387360"/>
                    <a:ext cx="5397480" cy="59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604880" y="387360"/>
          <a:ext cx="5397480" cy="594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387360"/>
                    <a:ext cx="5397480" cy="59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uadro 5. Cobertura Delta y Gamma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ifras en Miles de $, Excepto Precio Acción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371600" y="1770120"/>
          <a:ext cx="6534000" cy="5087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770120"/>
                    <a:ext cx="653400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676520" y="990720"/>
          <a:ext cx="5599080" cy="4576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990720"/>
                    <a:ext cx="559908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752480" y="685800"/>
          <a:ext cx="5597640" cy="573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685800"/>
                    <a:ext cx="559764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743120" y="465120"/>
          <a:ext cx="5597640" cy="5970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3120" y="465120"/>
                    <a:ext cx="5597640" cy="59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676520" y="1219320"/>
          <a:ext cx="5599080" cy="6411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219320"/>
                    <a:ext cx="5599080" cy="64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8-07-22T19:08:20Z</dcterms:modified>
  <cp:revision>6</cp:revision>
  <dc:subject/>
  <dc:title>Sin título de diapositiva</dc:title>
</cp:coreProperties>
</file>