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59.png" ContentType="image/png"/>
  <Override PartName="/ppt/media/image4.wmf" ContentType="image/x-wmf"/>
  <Override PartName="/ppt/media/image16.wmf" ContentType="image/x-wmf"/>
  <Override PartName="/ppt/media/image81.wmf" ContentType="image/x-wmf"/>
  <Override PartName="/ppt/media/image58.wmf" ContentType="image/x-wmf"/>
  <Override PartName="/ppt/media/image57.wmf" ContentType="image/x-wmf"/>
  <Override PartName="/ppt/media/image56.wmf" ContentType="image/x-wmf"/>
  <Override PartName="/ppt/media/image55.wmf" ContentType="image/x-wmf"/>
  <Override PartName="/ppt/media/image54.wmf" ContentType="image/x-wmf"/>
  <Override PartName="/ppt/media/image53.wmf" ContentType="image/x-wmf"/>
  <Override PartName="/ppt/media/image52.wmf" ContentType="image/x-wmf"/>
  <Override PartName="/ppt/media/image51.wmf" ContentType="image/x-wmf"/>
  <Override PartName="/ppt/media/image46.png" ContentType="image/png"/>
  <Override PartName="/ppt/media/image45.wmf" ContentType="image/x-wmf"/>
  <Override PartName="/ppt/media/image44.wmf" ContentType="image/x-wmf"/>
  <Override PartName="/ppt/media/image43.wmf" ContentType="image/x-wmf"/>
  <Override PartName="/ppt/media/image42.wmf" ContentType="image/x-wmf"/>
  <Override PartName="/ppt/media/image41.wmf" ContentType="image/x-wmf"/>
  <Override PartName="/ppt/media/image40.wmf" ContentType="image/x-wmf"/>
  <Override PartName="/ppt/media/image36.png" ContentType="image/png"/>
  <Override PartName="/ppt/media/image32.wmf" ContentType="image/x-wmf"/>
  <Override PartName="/ppt/media/image31.wmf" ContentType="image/x-wmf"/>
  <Override PartName="/ppt/media/image30.wmf" ContentType="image/x-wmf"/>
  <Override PartName="/ppt/media/image127.wmf" ContentType="image/x-wmf"/>
  <Override PartName="/ppt/media/image39.wmf" ContentType="image/x-wmf"/>
  <Override PartName="/ppt/media/image9.wmf" ContentType="image/x-wmf"/>
  <Override PartName="/ppt/media/image86.wmf" ContentType="image/x-wmf"/>
  <Override PartName="/ppt/media/image13.wmf" ContentType="image/x-wmf"/>
  <Override PartName="/ppt/media/image38.wmf" ContentType="image/x-wmf"/>
  <Override PartName="/ppt/media/image8.wmf" ContentType="image/x-wmf"/>
  <Override PartName="/ppt/media/image85.wmf" ContentType="image/x-wmf"/>
  <Override PartName="/ppt/media/image49.wmf" ContentType="image/x-wmf"/>
  <Override PartName="/ppt/media/image100.wmf" ContentType="image/x-wmf"/>
  <Override PartName="/ppt/media/image12.wmf" ContentType="image/x-wmf"/>
  <Override PartName="/ppt/media/image109.wmf" ContentType="image/x-wmf"/>
  <Override PartName="/ppt/media/image37.wmf" ContentType="image/x-wmf"/>
  <Override PartName="/ppt/media/image7.wmf" ContentType="image/x-wmf"/>
  <Override PartName="/ppt/media/image19.wmf" ContentType="image/x-wmf"/>
  <Override PartName="/ppt/media/image84.wmf" ContentType="image/x-wmf"/>
  <Override PartName="/ppt/media/image48.wmf" ContentType="image/x-wmf"/>
  <Override PartName="/ppt/media/image11.wmf" ContentType="image/x-wmf"/>
  <Override PartName="/ppt/media/image108.wmf" ContentType="image/x-wmf"/>
  <Override PartName="/ppt/media/image6.wmf" ContentType="image/x-wmf"/>
  <Override PartName="/ppt/media/image18.wmf" ContentType="image/x-wmf"/>
  <Override PartName="/ppt/media/image83.wmf" ContentType="image/x-wmf"/>
  <Override PartName="/ppt/media/image29.wmf" ContentType="image/x-wmf"/>
  <Override PartName="/ppt/media/image94.wmf" ContentType="image/x-wmf"/>
  <Override PartName="/ppt/media/image47.wmf" ContentType="image/x-wmf"/>
  <Override PartName="/ppt/media/image10.wmf" ContentType="image/x-wmf"/>
  <Override PartName="/ppt/media/image107.wmf" ContentType="image/x-wmf"/>
  <Override PartName="/ppt/media/image35.wmf" ContentType="image/x-wmf"/>
  <Override PartName="/ppt/media/image5.wmf" ContentType="image/x-wmf"/>
  <Override PartName="/ppt/media/image17.wmf" ContentType="image/x-wmf"/>
  <Override PartName="/ppt/media/image82.wmf" ContentType="image/x-wmf"/>
  <Override PartName="/ppt/media/image28.wmf" ContentType="image/x-wmf"/>
  <Override PartName="/ppt/media/image93.wmf" ContentType="image/x-wmf"/>
  <Override PartName="/ppt/media/image33.wmf" ContentType="image/x-wmf"/>
  <Override PartName="/ppt/media/image3.wmf" ContentType="image/x-wmf"/>
  <Override PartName="/ppt/media/image15.wmf" ContentType="image/x-wmf"/>
  <Override PartName="/ppt/media/image80.wmf" ContentType="image/x-wmf"/>
  <Override PartName="/ppt/media/image26.wmf" ContentType="image/x-wmf"/>
  <Override PartName="/ppt/media/image91.wmf" ContentType="image/x-wmf"/>
  <Override PartName="/ppt/media/image25.wmf" ContentType="image/x-wmf"/>
  <Override PartName="/ppt/media/image90.wmf" ContentType="image/x-wmf"/>
  <Override PartName="/ppt/media/image34.wmf" ContentType="image/x-wmf"/>
  <Override PartName="/ppt/media/image27.wmf" ContentType="image/x-wmf"/>
  <Override PartName="/ppt/media/image92.wmf" ContentType="image/x-wmf"/>
  <Override PartName="/ppt/media/image50.wmf" ContentType="image/x-wmf"/>
  <Override PartName="/ppt/media/image77.wmf" ContentType="image/x-wmf"/>
  <Override PartName="/ppt/media/image78.wmf" ContentType="image/x-wmf"/>
  <Override PartName="/ppt/media/image87.wmf" ContentType="image/x-wmf"/>
  <Override PartName="/ppt/media/image79.wmf" ContentType="image/x-wmf"/>
  <Override PartName="/ppt/media/image101.wmf" ContentType="image/x-wmf"/>
  <Override PartName="/ppt/media/image102.wmf" ContentType="image/x-wmf"/>
  <Override PartName="/ppt/media/image95.wmf" ContentType="image/x-wmf"/>
  <Override PartName="/ppt/media/image103.wmf" ContentType="image/x-wmf"/>
  <Override PartName="/ppt/media/image96.wmf" ContentType="image/x-wmf"/>
  <Override PartName="/ppt/media/image104.wmf" ContentType="image/x-wmf"/>
  <Override PartName="/ppt/media/image97.wmf" ContentType="image/x-wmf"/>
  <Override PartName="/ppt/media/image60.wmf" ContentType="image/x-wmf"/>
  <Override PartName="/ppt/media/image105.wmf" ContentType="image/x-wmf"/>
  <Override PartName="/ppt/media/image98.wmf" ContentType="image/x-wmf"/>
  <Override PartName="/ppt/media/image61.wmf" ContentType="image/x-wmf"/>
  <Override PartName="/ppt/media/image106.wmf" ContentType="image/x-wmf"/>
  <Override PartName="/ppt/media/image62.wmf" ContentType="image/x-wmf"/>
  <Override PartName="/ppt/media/image2.jpeg" ContentType="image/jpeg"/>
  <Override PartName="/ppt/media/image99.wmf" ContentType="image/x-wmf"/>
  <Override PartName="/ppt/media/image110.wmf" ContentType="image/x-wmf"/>
  <Override PartName="/ppt/media/image111.wmf" ContentType="image/x-wmf"/>
  <Override PartName="/ppt/media/image126.wmf" ContentType="image/x-wmf"/>
  <Override PartName="/ppt/media/image114.wmf" ContentType="image/x-wmf"/>
  <Override PartName="/ppt/media/image70.wmf" ContentType="image/x-wmf"/>
  <Override PartName="/ppt/media/image125.wmf" ContentType="image/x-wmf"/>
  <Override PartName="/ppt/media/image113.wmf" ContentType="image/x-wmf"/>
  <Override PartName="/ppt/media/image124.wmf" ContentType="image/x-wmf"/>
  <Override PartName="/ppt/media/image112.wmf" ContentType="image/x-wmf"/>
  <Override PartName="/ppt/media/image123.wmf" ContentType="image/x-wmf"/>
  <Override PartName="/ppt/media/image122.wmf" ContentType="image/x-wmf"/>
  <Override PartName="/ppt/media/image121.wmf" ContentType="image/x-wmf"/>
  <Override PartName="/ppt/media/image118.wmf" ContentType="image/x-wmf"/>
  <Override PartName="/ppt/media/image74.wmf" ContentType="image/x-wmf"/>
  <Override PartName="/ppt/media/image117.wmf" ContentType="image/x-wmf"/>
  <Override PartName="/ppt/media/image73.wmf" ContentType="image/x-wmf"/>
  <Override PartName="/ppt/media/image116.wmf" ContentType="image/x-wmf"/>
  <Override PartName="/ppt/media/image72.wmf" ContentType="image/x-wmf"/>
  <Override PartName="/ppt/media/image115.wmf" ContentType="image/x-wmf"/>
  <Override PartName="/ppt/media/image71.wmf" ContentType="image/x-wmf"/>
  <Override PartName="/ppt/media/image76.wmf" ContentType="image/x-wmf"/>
  <Override PartName="/ppt/media/image75.wmf" ContentType="image/x-wmf"/>
  <Override PartName="/ppt/media/image120.wmf" ContentType="image/x-wmf"/>
  <Override PartName="/ppt/media/image69.wmf" ContentType="image/x-wmf"/>
  <Override PartName="/ppt/media/image68.wmf" ContentType="image/x-wmf"/>
  <Override PartName="/ppt/media/image67.wmf" ContentType="image/x-wmf"/>
  <Override PartName="/ppt/media/image66.wmf" ContentType="image/x-wmf"/>
  <Override PartName="/ppt/media/image65.wmf" ContentType="image/x-wmf"/>
  <Override PartName="/ppt/media/image64.wmf" ContentType="image/x-wmf"/>
  <Override PartName="/ppt/media/image24.png" ContentType="image/png"/>
  <Override PartName="/ppt/media/image63.wmf" ContentType="image/x-wmf"/>
  <Override PartName="/ppt/media/image23.wmf" ContentType="image/x-wmf"/>
  <Override PartName="/ppt/media/image119.wmf" ContentType="image/x-wmf"/>
  <Override PartName="/ppt/media/image22.wmf" ContentType="image/x-wmf"/>
  <Override PartName="/ppt/media/image20.png" ContentType="image/png"/>
  <Override PartName="/ppt/media/image88.wmf" ContentType="image/x-wmf"/>
  <Override PartName="/ppt/media/image14.wmf" ContentType="image/x-wmf"/>
  <Override PartName="/ppt/media/image1.jpeg" ContentType="image/jpeg"/>
  <Override PartName="/ppt/media/image21.png" ContentType="image/png"/>
  <Override PartName="/ppt/media/image8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docx" ContentType="application/vnd.openxmlformats-officedocument.wordprocessingml.document"/>
  <Override PartName="/ppt/embeddings/oleObject4.docx" ContentType="application/vnd.openxmlformats-officedocument.wordprocessingml.documen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74.xml.rels" ContentType="application/vnd.openxmlformats-package.relationships+xml"/>
  <Override PartName="/ppt/slides/_rels/slide104.xml.rels" ContentType="application/vnd.openxmlformats-package.relationships+xml"/>
  <Override PartName="/ppt/slides/_rels/slide103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110.xml.rels" ContentType="application/vnd.openxmlformats-package.relationships+xml"/>
  <Override PartName="/ppt/slides/_rels/slide80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13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52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92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76.xml.rels" ContentType="application/vnd.openxmlformats-package.relationships+xml"/>
  <Override PartName="/ppt/slides/_rels/slide106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9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113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11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  <p:sldId id="359" r:id="rId106"/>
    <p:sldId id="360" r:id="rId107"/>
    <p:sldId id="361" r:id="rId108"/>
    <p:sldId id="362" r:id="rId109"/>
    <p:sldId id="363" r:id="rId110"/>
    <p:sldId id="364" r:id="rId111"/>
    <p:sldId id="365" r:id="rId112"/>
    <p:sldId id="366" r:id="rId113"/>
    <p:sldId id="367" r:id="rId114"/>
    <p:sldId id="368" r:id="rId1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slide" Target="slides/slide104.xml"/><Relationship Id="rId107" Type="http://schemas.openxmlformats.org/officeDocument/2006/relationships/slide" Target="slides/slide105.xml"/><Relationship Id="rId108" Type="http://schemas.openxmlformats.org/officeDocument/2006/relationships/slide" Target="slides/slide106.xml"/><Relationship Id="rId109" Type="http://schemas.openxmlformats.org/officeDocument/2006/relationships/slide" Target="slides/slide107.xml"/><Relationship Id="rId110" Type="http://schemas.openxmlformats.org/officeDocument/2006/relationships/slide" Target="slides/slide108.xml"/><Relationship Id="rId111" Type="http://schemas.openxmlformats.org/officeDocument/2006/relationships/slide" Target="slides/slide109.xml"/><Relationship Id="rId112" Type="http://schemas.openxmlformats.org/officeDocument/2006/relationships/slide" Target="slides/slide110.xml"/><Relationship Id="rId113" Type="http://schemas.openxmlformats.org/officeDocument/2006/relationships/slide" Target="slides/slide111.xml"/><Relationship Id="rId114" Type="http://schemas.openxmlformats.org/officeDocument/2006/relationships/slide" Target="slides/slide112.xml"/><Relationship Id="rId115" Type="http://schemas.openxmlformats.org/officeDocument/2006/relationships/slide" Target="slides/slide113.xml"/><Relationship Id="rId1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A53CC-4DE3-46E2-AF71-185DAECFC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D8A81-2D2D-45A0-BEDF-6C41A7A5D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EFCBB-FB9F-4E07-9F40-F97866693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6E29A-7F42-48E1-9B1A-D8C682741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875D8-4E61-4B66-9840-62CC5212D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C283E-4E74-49EE-AAA3-00C2E7B1B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91F03-6093-44D1-94C6-49EFB70A9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4C1F6-2EEA-4452-BB0E-E731FD707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FAC1E-BC05-4536-864F-0BFD5ABA4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18CC2-636D-4CE9-8A69-B6CDFEC47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A8C1B-CBC0-4C38-BA3D-E4249E74C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60B5B-1D3F-469F-BC9C-7D9CBF441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E9122-C008-4EA6-9F61-63E473F9B813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13.wmf"/><Relationship Id="rId4" Type="http://schemas.openxmlformats.org/officeDocument/2006/relationships/slideLayout" Target="../slideLayouts/slideLayout3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14.wmf"/><Relationship Id="rId4" Type="http://schemas.openxmlformats.org/officeDocument/2006/relationships/slideLayout" Target="../slideLayouts/slideLayout3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15.wmf"/><Relationship Id="rId4" Type="http://schemas.openxmlformats.org/officeDocument/2006/relationships/slideLayout" Target="../slideLayouts/slideLayout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16.wmf"/><Relationship Id="rId4" Type="http://schemas.openxmlformats.org/officeDocument/2006/relationships/slideLayout" Target="../slideLayouts/slideLayout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17.wmf"/><Relationship Id="rId4" Type="http://schemas.openxmlformats.org/officeDocument/2006/relationships/slideLayout" Target="../slideLayouts/slideLayout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18.wmf"/><Relationship Id="rId4" Type="http://schemas.openxmlformats.org/officeDocument/2006/relationships/slideLayout" Target="../slideLayouts/slideLayout3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19.wmf"/><Relationship Id="rId4" Type="http://schemas.openxmlformats.org/officeDocument/2006/relationships/slideLayout" Target="../slideLayouts/slideLayout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20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121.wmf"/><Relationship Id="rId6" Type="http://schemas.openxmlformats.org/officeDocument/2006/relationships/slideLayout" Target="../slideLayouts/slideLayout3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22.wmf"/><Relationship Id="rId4" Type="http://schemas.openxmlformats.org/officeDocument/2006/relationships/slideLayout" Target="../slideLayouts/slideLayout3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23.wmf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3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24.wmf"/><Relationship Id="rId4" Type="http://schemas.openxmlformats.org/officeDocument/2006/relationships/slideLayout" Target="../slideLayouts/slideLayout3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25.wmf"/><Relationship Id="rId4" Type="http://schemas.openxmlformats.org/officeDocument/2006/relationships/slideLayout" Target="../slideLayouts/slideLayout3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26.wmf"/><Relationship Id="rId4" Type="http://schemas.openxmlformats.org/officeDocument/2006/relationships/slideLayout" Target="../slideLayouts/slideLayout3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27.wm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5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16.wmf"/><Relationship Id="rId6" Type="http://schemas.openxmlformats.org/officeDocument/2006/relationships/package" Target="../embeddings/oleObject3.docx"/><Relationship Id="rId7" Type="http://schemas.openxmlformats.org/officeDocument/2006/relationships/image" Target="../media/image17.wmf"/><Relationship Id="rId8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23.wmf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25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26.wmf"/><Relationship Id="rId6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27.wmf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28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29.wmf"/><Relationship Id="rId6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30.wmf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31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2.wmf"/><Relationship Id="rId6" Type="http://schemas.openxmlformats.org/officeDocument/2006/relationships/package" Target="../embeddings/oleObject3.docx"/><Relationship Id="rId7" Type="http://schemas.openxmlformats.org/officeDocument/2006/relationships/image" Target="../media/image33.wmf"/><Relationship Id="rId8" Type="http://schemas.openxmlformats.org/officeDocument/2006/relationships/package" Target="../embeddings/oleObject4.docx"/><Relationship Id="rId9" Type="http://schemas.openxmlformats.org/officeDocument/2006/relationships/image" Target="../media/image34.wmf"/><Relationship Id="rId10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35.wmf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37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8.wmf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39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40.wmf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41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42.wmf"/><Relationship Id="rId6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43.wmf"/><Relationship Id="rId4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44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45.wmf"/><Relationship Id="rId6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6.pn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47.wmf"/><Relationship Id="rId4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48.wmf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49.wmf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50.wmf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51.wmf"/><Relationship Id="rId4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52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53.wmf"/><Relationship Id="rId4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54.wmf"/><Relationship Id="rId4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55.wmf"/><Relationship Id="rId4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56.wmf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57.wmf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58.wmf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9.png"/><Relationship Id="rId4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60.wmf"/><Relationship Id="rId4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61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62.wmf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63.wmf"/><Relationship Id="rId4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64.wmf"/><Relationship Id="rId4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65.wmf"/><Relationship Id="rId4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66.wmf"/><Relationship Id="rId4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67.wmf"/><Relationship Id="rId4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68.wmf"/><Relationship Id="rId4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69.wmf"/><Relationship Id="rId4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70.wmf"/><Relationship Id="rId4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71.wmf"/><Relationship Id="rId4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72.wmf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73.wmf"/><Relationship Id="rId4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74.wmf"/><Relationship Id="rId4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75.wmf"/><Relationship Id="rId4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76.wmf"/><Relationship Id="rId4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77.wmf"/><Relationship Id="rId4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78.wmf"/><Relationship Id="rId4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79.wmf"/><Relationship Id="rId4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80.wmf"/><Relationship Id="rId4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81.wmf"/><Relationship Id="rId4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82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83.wmf"/><Relationship Id="rId4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84.wmf"/><Relationship Id="rId4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85.wmf"/><Relationship Id="rId4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86.wmf"/><Relationship Id="rId4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87.wmf"/><Relationship Id="rId4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88.wmf"/><Relationship Id="rId4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89.wmf"/><Relationship Id="rId4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90.wmf"/><Relationship Id="rId4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91.wmf"/><Relationship Id="rId4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92.wmf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93.wmf"/><Relationship Id="rId4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94.wmf"/><Relationship Id="rId4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95.wmf"/><Relationship Id="rId4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96.wmf"/><Relationship Id="rId4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97.wmf"/><Relationship Id="rId4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98.wmf"/><Relationship Id="rId4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99.wmf"/><Relationship Id="rId4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00.wmf"/><Relationship Id="rId4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1.wmf"/><Relationship Id="rId4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02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03.wmf"/><Relationship Id="rId4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04.wmf"/><Relationship Id="rId4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05.wmf"/><Relationship Id="rId4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06.wmf"/><Relationship Id="rId4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07.wmf"/><Relationship Id="rId4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08.wmf"/><Relationship Id="rId4" Type="http://schemas.openxmlformats.org/officeDocument/2006/relationships/slideLayout" Target="../slideLayouts/slideLayout3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09.wmf"/><Relationship Id="rId4" Type="http://schemas.openxmlformats.org/officeDocument/2006/relationships/slideLayout" Target="../slideLayouts/slideLayout3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10.wmf"/><Relationship Id="rId4" Type="http://schemas.openxmlformats.org/officeDocument/2006/relationships/slideLayout" Target="../slideLayouts/slideLayout3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11.wmf"/><Relationship Id="rId4" Type="http://schemas.openxmlformats.org/officeDocument/2006/relationships/slideLayout" Target="../slideLayouts/slideLayout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12.wmf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O P C I O N E 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1676520" y="2822400"/>
          <a:ext cx="5502240" cy="20638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6520" y="2822400"/>
                    <a:ext cx="5502240" cy="206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5" name=""/>
          <p:cNvGraphicFramePr/>
          <p:nvPr/>
        </p:nvGraphicFramePr>
        <p:xfrm>
          <a:off x="1905120" y="1440000"/>
          <a:ext cx="5599080" cy="43210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44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05120" y="1440000"/>
                    <a:ext cx="5599080" cy="432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9" name=""/>
          <p:cNvGraphicFramePr/>
          <p:nvPr/>
        </p:nvGraphicFramePr>
        <p:xfrm>
          <a:off x="1533600" y="1533600"/>
          <a:ext cx="5599080" cy="42973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45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33600" y="1533600"/>
                    <a:ext cx="5599080" cy="429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2" name=""/>
          <p:cNvGraphicFramePr/>
          <p:nvPr/>
        </p:nvGraphicFramePr>
        <p:xfrm>
          <a:off x="987480" y="460440"/>
          <a:ext cx="7161120" cy="59040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45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87480" y="460440"/>
                    <a:ext cx="7161120" cy="590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5" name=""/>
          <p:cNvGraphicFramePr/>
          <p:nvPr/>
        </p:nvGraphicFramePr>
        <p:xfrm>
          <a:off x="987480" y="460440"/>
          <a:ext cx="7161120" cy="59040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45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87480" y="460440"/>
                    <a:ext cx="7161120" cy="590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9" name=""/>
          <p:cNvGraphicFramePr/>
          <p:nvPr/>
        </p:nvGraphicFramePr>
        <p:xfrm>
          <a:off x="1604880" y="687240"/>
          <a:ext cx="5504040" cy="56977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46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04880" y="687240"/>
                    <a:ext cx="5504040" cy="569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3" name=""/>
          <p:cNvGraphicFramePr/>
          <p:nvPr/>
        </p:nvGraphicFramePr>
        <p:xfrm>
          <a:off x="1743120" y="1208160"/>
          <a:ext cx="5597640" cy="48560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46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43120" y="1208160"/>
                    <a:ext cx="5597640" cy="485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7" name=""/>
          <p:cNvGraphicFramePr/>
          <p:nvPr/>
        </p:nvGraphicFramePr>
        <p:xfrm>
          <a:off x="1743120" y="1440000"/>
          <a:ext cx="5597640" cy="40892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46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43120" y="1440000"/>
                    <a:ext cx="5597640" cy="408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ho: Sensibilidad a Cambios en la Tasa de Interé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1" name=""/>
          <p:cNvGraphicFramePr/>
          <p:nvPr/>
        </p:nvGraphicFramePr>
        <p:xfrm>
          <a:off x="2066760" y="1068480"/>
          <a:ext cx="5459400" cy="6048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47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066760" y="1068480"/>
                    <a:ext cx="5459400" cy="60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3" name=""/>
          <p:cNvGraphicFramePr/>
          <p:nvPr/>
        </p:nvGraphicFramePr>
        <p:xfrm>
          <a:off x="1905120" y="1447920"/>
          <a:ext cx="5599080" cy="457668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7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905120" y="1447920"/>
                    <a:ext cx="5599080" cy="457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7" name=""/>
          <p:cNvGraphicFramePr/>
          <p:nvPr/>
        </p:nvGraphicFramePr>
        <p:xfrm>
          <a:off x="1752480" y="1905120"/>
          <a:ext cx="5599080" cy="31827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47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52480" y="1905120"/>
                    <a:ext cx="5599080" cy="31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1" name=""/>
          <p:cNvGraphicFramePr/>
          <p:nvPr/>
        </p:nvGraphicFramePr>
        <p:xfrm>
          <a:off x="1746360" y="493560"/>
          <a:ext cx="5397480" cy="66852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48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46360" y="493560"/>
                    <a:ext cx="5397480" cy="668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1523880" y="1447920"/>
          <a:ext cx="5599080" cy="46227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447920"/>
                    <a:ext cx="5599080" cy="462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5" name=""/>
          <p:cNvGraphicFramePr/>
          <p:nvPr/>
        </p:nvGraphicFramePr>
        <p:xfrm>
          <a:off x="1746360" y="493560"/>
          <a:ext cx="5397480" cy="61041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48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46360" y="493560"/>
                    <a:ext cx="5397480" cy="610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ta: Efecto del Paso del Tiempo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9" name=""/>
          <p:cNvGraphicFramePr/>
          <p:nvPr/>
        </p:nvGraphicFramePr>
        <p:xfrm>
          <a:off x="1676520" y="1305000"/>
          <a:ext cx="5397480" cy="56800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49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6520" y="1305000"/>
                    <a:ext cx="5397480" cy="568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3" name=""/>
          <p:cNvGraphicFramePr/>
          <p:nvPr/>
        </p:nvGraphicFramePr>
        <p:xfrm>
          <a:off x="1676520" y="1287360"/>
          <a:ext cx="5397480" cy="56800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49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6520" y="1287360"/>
                    <a:ext cx="5397480" cy="568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7" name=""/>
          <p:cNvGraphicFramePr/>
          <p:nvPr/>
        </p:nvGraphicFramePr>
        <p:xfrm>
          <a:off x="1835280" y="603360"/>
          <a:ext cx="5599080" cy="50655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49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35280" y="603360"/>
                    <a:ext cx="5599080" cy="506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17760" y="1058760"/>
          <a:ext cx="5502240" cy="51498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17760" y="1058760"/>
                    <a:ext cx="5502240" cy="514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1746360" y="1835280"/>
          <a:ext cx="5503680" cy="36687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46360" y="1835280"/>
                    <a:ext cx="5503680" cy="366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2593800" y="2800440"/>
          <a:ext cx="3386160" cy="6285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93800" y="2800440"/>
                    <a:ext cx="3386160" cy="62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3" name=""/>
          <p:cNvGraphicFramePr/>
          <p:nvPr/>
        </p:nvGraphicFramePr>
        <p:xfrm>
          <a:off x="-304920" y="1981080"/>
          <a:ext cx="8852040" cy="46368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-304920" y="1981080"/>
                    <a:ext cx="8852040" cy="46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5" name=""/>
          <p:cNvGraphicFramePr/>
          <p:nvPr/>
        </p:nvGraphicFramePr>
        <p:xfrm>
          <a:off x="1981080" y="3962520"/>
          <a:ext cx="5599080" cy="174132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981080" y="3962520"/>
                    <a:ext cx="5599080" cy="174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1676520" y="687240"/>
          <a:ext cx="5502240" cy="58388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6520" y="687240"/>
                    <a:ext cx="5502240" cy="583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1746360" y="758880"/>
          <a:ext cx="5503680" cy="52387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46360" y="758880"/>
                    <a:ext cx="5503680" cy="523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Pago de una Opción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Opción Call</a:t>
            </a: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    Opción Put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685800" y="2819520"/>
            <a:ext cx="4816440" cy="33526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4267080" y="2895480"/>
            <a:ext cx="61722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1905120" y="617400"/>
          <a:ext cx="5503680" cy="51501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05120" y="617400"/>
                    <a:ext cx="5503680" cy="515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1676520" y="1828800"/>
          <a:ext cx="5599080" cy="30891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6520" y="1828800"/>
                    <a:ext cx="5599080" cy="308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1604880" y="687240"/>
          <a:ext cx="5504040" cy="56102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04880" y="687240"/>
                    <a:ext cx="5504040" cy="561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aloración para sólo un Período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1600200" y="1676520"/>
            <a:ext cx="6310440" cy="47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1951200" y="2114640"/>
          <a:ext cx="4506840" cy="42735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51200" y="2114640"/>
                    <a:ext cx="4506840" cy="427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4" name=""/>
          <p:cNvGraphicFramePr/>
          <p:nvPr/>
        </p:nvGraphicFramePr>
        <p:xfrm>
          <a:off x="2590920" y="4419720"/>
          <a:ext cx="3962160" cy="52056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90920" y="4419720"/>
                    <a:ext cx="3962160" cy="52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1835280" y="687240"/>
          <a:ext cx="5484600" cy="52927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35280" y="687240"/>
                    <a:ext cx="5484600" cy="529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1447920" y="2198520"/>
          <a:ext cx="5597280" cy="12304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47920" y="2198520"/>
                    <a:ext cx="5597280" cy="123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828800" y="2971800"/>
          <a:ext cx="4876920" cy="190512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828800" y="2971800"/>
                    <a:ext cx="4876920" cy="190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or lo tanto, el valor total del portafolio 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1143000" y="3048120"/>
          <a:ext cx="6934320" cy="10666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43000" y="3048120"/>
                    <a:ext cx="693432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7240" y="1287360"/>
          <a:ext cx="6856560" cy="9352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7240" y="1287360"/>
                    <a:ext cx="6856560" cy="93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4" name=""/>
          <p:cNvGraphicFramePr/>
          <p:nvPr/>
        </p:nvGraphicFramePr>
        <p:xfrm>
          <a:off x="1066680" y="2286000"/>
          <a:ext cx="6477120" cy="114300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66680" y="2286000"/>
                    <a:ext cx="647712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6" name=""/>
          <p:cNvGraphicFramePr/>
          <p:nvPr/>
        </p:nvGraphicFramePr>
        <p:xfrm>
          <a:off x="2514600" y="4572000"/>
          <a:ext cx="3886200" cy="78408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514600" y="4572000"/>
                    <a:ext cx="3886200" cy="78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8" name=""/>
          <p:cNvGraphicFramePr/>
          <p:nvPr/>
        </p:nvGraphicFramePr>
        <p:xfrm>
          <a:off x="838080" y="4114800"/>
          <a:ext cx="5599080" cy="393840"/>
        </p:xfrm>
        <a:graphic>
          <a:graphicData uri="http://schemas.openxmlformats.org/presentationml/2006/ole">
            <p:oleObj progId="Word.Document.12" r:id="rId8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838080" y="4114800"/>
                    <a:ext cx="5599080" cy="39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1446120" y="917640"/>
          <a:ext cx="5504040" cy="51498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46120" y="917640"/>
                    <a:ext cx="5504040" cy="514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Valoración para Dos Período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0" y="1600200"/>
            <a:ext cx="9509040" cy="470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906480" y="2136600"/>
          <a:ext cx="5599080" cy="5112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06480" y="2136600"/>
                    <a:ext cx="5599080" cy="51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1" name=""/>
          <p:cNvGraphicFramePr/>
          <p:nvPr/>
        </p:nvGraphicFramePr>
        <p:xfrm>
          <a:off x="-685800" y="2895480"/>
          <a:ext cx="9829800" cy="22100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-685800" y="2895480"/>
                    <a:ext cx="9829800" cy="221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-914400" y="3429000"/>
          <a:ext cx="10515600" cy="25146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914400" y="3429000"/>
                    <a:ext cx="10515600" cy="25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836640" y="2136600"/>
          <a:ext cx="7392960" cy="79092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6640" y="2136600"/>
                    <a:ext cx="7392960" cy="7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676520" y="917640"/>
          <a:ext cx="5502240" cy="48322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6520" y="917640"/>
                    <a:ext cx="5502240" cy="483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1219320" y="2209680"/>
          <a:ext cx="5599080" cy="3952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19320" y="2209680"/>
                    <a:ext cx="5599080" cy="3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2" name=""/>
          <p:cNvGraphicFramePr/>
          <p:nvPr/>
        </p:nvGraphicFramePr>
        <p:xfrm>
          <a:off x="2438280" y="3429000"/>
          <a:ext cx="3581640" cy="12002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438280" y="3429000"/>
                    <a:ext cx="3581640" cy="120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1447920" y="2733840"/>
          <a:ext cx="5889600" cy="8474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47920" y="2733840"/>
                    <a:ext cx="5889600" cy="84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1746360" y="387360"/>
          <a:ext cx="5503680" cy="44100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46360" y="387360"/>
                    <a:ext cx="5503680" cy="441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2" name=""/>
          <p:cNvGraphicFramePr/>
          <p:nvPr/>
        </p:nvGraphicFramePr>
        <p:xfrm>
          <a:off x="1600200" y="4952880"/>
          <a:ext cx="5791320" cy="76212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00200" y="4952880"/>
                    <a:ext cx="579132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000000"/>
                </a:solidFill>
                <a:latin typeface="Times New Roman"/>
              </a:rPr>
              <a:t>Modelamiento Binomial de una Opción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685800" y="2235240"/>
            <a:ext cx="7772400" cy="36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1746360" y="528480"/>
          <a:ext cx="5290920" cy="62978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46360" y="528480"/>
                    <a:ext cx="5290920" cy="629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1752480" y="685800"/>
          <a:ext cx="5597640" cy="68533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52480" y="685800"/>
                    <a:ext cx="5597640" cy="685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Tiempo Continuo</a:t>
            </a:r>
            <a:br>
              <a:rPr sz="2800"/>
            </a:br>
            <a:br>
              <a:rPr sz="2800"/>
            </a:b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</a:rPr>
              <a:t>Modelamiento de Precios de Activos Financieros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1301760" y="1743120"/>
          <a:ext cx="5597640" cy="82468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01760" y="1743120"/>
                    <a:ext cx="5597640" cy="824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146240" y="1835280"/>
          <a:ext cx="5503680" cy="40035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46240" y="1835280"/>
                    <a:ext cx="5503680" cy="400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1752480" y="1676520"/>
          <a:ext cx="5599080" cy="39020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52480" y="1676520"/>
                    <a:ext cx="5599080" cy="390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1447920" y="1073160"/>
          <a:ext cx="5599080" cy="57848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47920" y="1073160"/>
                    <a:ext cx="5599080" cy="578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835280" y="723960"/>
          <a:ext cx="5502240" cy="60325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35280" y="723960"/>
                    <a:ext cx="5502240" cy="603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1676520" y="1752480"/>
          <a:ext cx="5599080" cy="32767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6520" y="1752480"/>
                    <a:ext cx="5599080" cy="32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1673280" y="603360"/>
          <a:ext cx="5597640" cy="49496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3280" y="603360"/>
                    <a:ext cx="5597640" cy="494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1673280" y="511200"/>
          <a:ext cx="5597640" cy="63421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3280" y="511200"/>
                    <a:ext cx="5597640" cy="634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1673280" y="511200"/>
          <a:ext cx="5597640" cy="63421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3280" y="511200"/>
                    <a:ext cx="5597640" cy="634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1517760" y="1604880"/>
          <a:ext cx="5449680" cy="74264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2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17760" y="1604880"/>
                    <a:ext cx="5449680" cy="742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1676520" y="1066680"/>
          <a:ext cx="5668920" cy="50180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3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6520" y="1066680"/>
                    <a:ext cx="5668920" cy="501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</a:rPr>
              <a:t>Precio de una Opción Call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1905120" y="1905120"/>
          <a:ext cx="6162480" cy="4276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05120" y="1905120"/>
                    <a:ext cx="6162480" cy="427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aridades Put-Ca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0" name=""/>
          <p:cNvGraphicFramePr/>
          <p:nvPr/>
        </p:nvGraphicFramePr>
        <p:xfrm>
          <a:off x="1600200" y="1600200"/>
          <a:ext cx="5599080" cy="48546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4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00200" y="1600200"/>
                    <a:ext cx="5599080" cy="485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1600200" y="990720"/>
          <a:ext cx="5599080" cy="45291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00200" y="990720"/>
                    <a:ext cx="5599080" cy="452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1746360" y="846000"/>
          <a:ext cx="5503680" cy="50450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4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46360" y="846000"/>
                    <a:ext cx="5503680" cy="504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533520" y="2843280"/>
          <a:ext cx="7315200" cy="16905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520" y="2843280"/>
                    <a:ext cx="7315200" cy="169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2" name=""/>
          <p:cNvGraphicFramePr/>
          <p:nvPr/>
        </p:nvGraphicFramePr>
        <p:xfrm>
          <a:off x="1746360" y="987480"/>
          <a:ext cx="5503680" cy="45514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5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46360" y="987480"/>
                    <a:ext cx="5503680" cy="455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6" name=""/>
          <p:cNvGraphicFramePr/>
          <p:nvPr/>
        </p:nvGraphicFramePr>
        <p:xfrm>
          <a:off x="1752480" y="1676520"/>
          <a:ext cx="5599080" cy="39956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5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52480" y="1676520"/>
                    <a:ext cx="5599080" cy="399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0" name=""/>
          <p:cNvGraphicFramePr/>
          <p:nvPr/>
        </p:nvGraphicFramePr>
        <p:xfrm>
          <a:off x="1676520" y="1376280"/>
          <a:ext cx="5502240" cy="47800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6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6520" y="1376280"/>
                    <a:ext cx="5502240" cy="478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iesgos para el Emisor y Cobertura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4" name=""/>
          <p:cNvGraphicFramePr/>
          <p:nvPr/>
        </p:nvGraphicFramePr>
        <p:xfrm>
          <a:off x="1600200" y="1447920"/>
          <a:ext cx="5599080" cy="45766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6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00200" y="1447920"/>
                    <a:ext cx="5599080" cy="457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bertura Delta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8" name=""/>
          <p:cNvGraphicFramePr/>
          <p:nvPr/>
        </p:nvGraphicFramePr>
        <p:xfrm>
          <a:off x="1905120" y="1523880"/>
          <a:ext cx="5599080" cy="39960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6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05120" y="1523880"/>
                    <a:ext cx="5599080" cy="399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2" name=""/>
          <p:cNvGraphicFramePr/>
          <p:nvPr/>
        </p:nvGraphicFramePr>
        <p:xfrm>
          <a:off x="1828800" y="1447920"/>
          <a:ext cx="5599080" cy="39495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7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28800" y="1447920"/>
                    <a:ext cx="5599080" cy="394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6" name=""/>
          <p:cNvGraphicFramePr/>
          <p:nvPr/>
        </p:nvGraphicFramePr>
        <p:xfrm>
          <a:off x="1835280" y="846000"/>
          <a:ext cx="5502240" cy="50976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7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35280" y="846000"/>
                    <a:ext cx="5502240" cy="509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obertura Delta Frente a Cambios de S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9" name=""/>
          <p:cNvGraphicFramePr/>
          <p:nvPr/>
        </p:nvGraphicFramePr>
        <p:xfrm>
          <a:off x="990720" y="1676520"/>
          <a:ext cx="7086600" cy="45748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8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90720" y="1676520"/>
                    <a:ext cx="7086600" cy="457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3" name=""/>
          <p:cNvGraphicFramePr/>
          <p:nvPr/>
        </p:nvGraphicFramePr>
        <p:xfrm>
          <a:off x="1746360" y="617400"/>
          <a:ext cx="5503680" cy="63327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8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46360" y="617400"/>
                    <a:ext cx="5503680" cy="633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7" name=""/>
          <p:cNvGraphicFramePr/>
          <p:nvPr/>
        </p:nvGraphicFramePr>
        <p:xfrm>
          <a:off x="1371600" y="1981080"/>
          <a:ext cx="5599080" cy="28116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8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71600" y="1981080"/>
                    <a:ext cx="5599080" cy="28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1376280" y="758880"/>
          <a:ext cx="5502240" cy="51670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76280" y="758880"/>
                    <a:ext cx="5502240" cy="516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1" name=""/>
          <p:cNvGraphicFramePr/>
          <p:nvPr/>
        </p:nvGraphicFramePr>
        <p:xfrm>
          <a:off x="1905120" y="687240"/>
          <a:ext cx="5379840" cy="56628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9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05120" y="687240"/>
                    <a:ext cx="5379840" cy="566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1752480" y="1219320"/>
          <a:ext cx="5597640" cy="42987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9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52480" y="1219320"/>
                    <a:ext cx="5597640" cy="429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9" name=""/>
          <p:cNvGraphicFramePr/>
          <p:nvPr/>
        </p:nvGraphicFramePr>
        <p:xfrm>
          <a:off x="1604880" y="1058760"/>
          <a:ext cx="5504040" cy="51325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30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04880" y="1058760"/>
                    <a:ext cx="5504040" cy="513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3" name=""/>
          <p:cNvGraphicFramePr/>
          <p:nvPr/>
        </p:nvGraphicFramePr>
        <p:xfrm>
          <a:off x="1746360" y="758880"/>
          <a:ext cx="5503680" cy="55735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30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46360" y="758880"/>
                    <a:ext cx="5503680" cy="557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7" name=""/>
          <p:cNvGraphicFramePr/>
          <p:nvPr/>
        </p:nvGraphicFramePr>
        <p:xfrm>
          <a:off x="1752480" y="1371600"/>
          <a:ext cx="5597640" cy="40878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30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52480" y="1371600"/>
                    <a:ext cx="5597640" cy="408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1752480" y="685800"/>
          <a:ext cx="5599080" cy="53434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52480" y="685800"/>
                    <a:ext cx="5599080" cy="534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5" name=""/>
          <p:cNvGraphicFramePr/>
          <p:nvPr/>
        </p:nvGraphicFramePr>
        <p:xfrm>
          <a:off x="1523880" y="1212840"/>
          <a:ext cx="5599080" cy="56451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31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212840"/>
                    <a:ext cx="5599080" cy="564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9" name=""/>
          <p:cNvGraphicFramePr/>
          <p:nvPr/>
        </p:nvGraphicFramePr>
        <p:xfrm>
          <a:off x="2286000" y="1447920"/>
          <a:ext cx="5599080" cy="39956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32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0" y="1447920"/>
                    <a:ext cx="5599080" cy="399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3" name=""/>
          <p:cNvGraphicFramePr/>
          <p:nvPr/>
        </p:nvGraphicFramePr>
        <p:xfrm>
          <a:off x="1835280" y="1905120"/>
          <a:ext cx="5502240" cy="30686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32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35280" y="1905120"/>
                    <a:ext cx="5502240" cy="306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ituación Sin Cobertura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Cifras en Miles de $, Excepto Precio Acción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6" name=""/>
          <p:cNvGraphicFramePr/>
          <p:nvPr/>
        </p:nvGraphicFramePr>
        <p:xfrm>
          <a:off x="1073160" y="1743120"/>
          <a:ext cx="7237440" cy="42735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32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73160" y="1743120"/>
                    <a:ext cx="7237440" cy="427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1523880" y="1219320"/>
          <a:ext cx="5599080" cy="51339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219320"/>
                    <a:ext cx="5599080" cy="513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0" name=""/>
          <p:cNvGraphicFramePr/>
          <p:nvPr/>
        </p:nvGraphicFramePr>
        <p:xfrm>
          <a:off x="1676520" y="1974960"/>
          <a:ext cx="5502240" cy="37051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33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6520" y="1974960"/>
                    <a:ext cx="5502240" cy="370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1746360" y="1287360"/>
          <a:ext cx="5503680" cy="51516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33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46360" y="1287360"/>
                    <a:ext cx="5503680" cy="515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8" name=""/>
          <p:cNvGraphicFramePr/>
          <p:nvPr/>
        </p:nvGraphicFramePr>
        <p:xfrm>
          <a:off x="1752480" y="1828800"/>
          <a:ext cx="5599080" cy="36925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33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52480" y="1828800"/>
                    <a:ext cx="5599080" cy="369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1835280" y="1217520"/>
          <a:ext cx="5502240" cy="47451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34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35280" y="1217520"/>
                    <a:ext cx="5502240" cy="474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6" name=""/>
          <p:cNvGraphicFramePr/>
          <p:nvPr/>
        </p:nvGraphicFramePr>
        <p:xfrm>
          <a:off x="1835280" y="1217520"/>
          <a:ext cx="5502240" cy="49212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34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35280" y="1217520"/>
                    <a:ext cx="5502240" cy="492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Estrategia Stop-Loss</a:t>
            </a:r>
            <a:br>
              <a:rPr sz="2400"/>
            </a:b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(Cifras en Miles de $, Excepto Precio Acción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247760" y="1981080"/>
          <a:ext cx="6647040" cy="41148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47760" y="1981080"/>
                    <a:ext cx="664704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uadro 4. Cobertura Delta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Cifras en Miles de $, Excepto Precio Acción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2" name=""/>
          <p:cNvGraphicFramePr/>
          <p:nvPr/>
        </p:nvGraphicFramePr>
        <p:xfrm>
          <a:off x="1673280" y="1373040"/>
          <a:ext cx="5852880" cy="51055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35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3280" y="1373040"/>
                    <a:ext cx="5852880" cy="510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6" name=""/>
          <p:cNvGraphicFramePr/>
          <p:nvPr/>
        </p:nvGraphicFramePr>
        <p:xfrm>
          <a:off x="1746360" y="1058760"/>
          <a:ext cx="5503680" cy="55022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35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46360" y="1058760"/>
                    <a:ext cx="5503680" cy="550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0" name=""/>
          <p:cNvGraphicFramePr/>
          <p:nvPr/>
        </p:nvGraphicFramePr>
        <p:xfrm>
          <a:off x="1287360" y="458640"/>
          <a:ext cx="5504040" cy="57499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36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87360" y="458640"/>
                    <a:ext cx="5504040" cy="574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4" name=""/>
          <p:cNvGraphicFramePr/>
          <p:nvPr/>
        </p:nvGraphicFramePr>
        <p:xfrm>
          <a:off x="1676520" y="846000"/>
          <a:ext cx="5502240" cy="55213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36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6520" y="846000"/>
                    <a:ext cx="5502240" cy="552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1746360" y="1676520"/>
          <a:ext cx="5503680" cy="36687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46360" y="1676520"/>
                    <a:ext cx="5503680" cy="366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8" name=""/>
          <p:cNvGraphicFramePr/>
          <p:nvPr/>
        </p:nvGraphicFramePr>
        <p:xfrm>
          <a:off x="1752480" y="2286000"/>
          <a:ext cx="5599080" cy="26938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36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52480" y="2286000"/>
                    <a:ext cx="5599080" cy="269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elta como Función de S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1" name=""/>
          <p:cNvGraphicFramePr/>
          <p:nvPr/>
        </p:nvGraphicFramePr>
        <p:xfrm>
          <a:off x="2666880" y="1981080"/>
          <a:ext cx="5334120" cy="41148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37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666880" y="1981080"/>
                    <a:ext cx="533412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5" name=""/>
          <p:cNvGraphicFramePr/>
          <p:nvPr/>
        </p:nvGraphicFramePr>
        <p:xfrm>
          <a:off x="1600200" y="1981080"/>
          <a:ext cx="5599080" cy="26481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37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00200" y="1981080"/>
                    <a:ext cx="5599080" cy="264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9" name=""/>
          <p:cNvGraphicFramePr/>
          <p:nvPr/>
        </p:nvGraphicFramePr>
        <p:xfrm>
          <a:off x="1905120" y="1523880"/>
          <a:ext cx="5599080" cy="37404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38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05120" y="1523880"/>
                    <a:ext cx="5599080" cy="374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3" name=""/>
          <p:cNvGraphicFramePr/>
          <p:nvPr/>
        </p:nvGraphicFramePr>
        <p:xfrm>
          <a:off x="1746360" y="987480"/>
          <a:ext cx="5503680" cy="47624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38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46360" y="987480"/>
                    <a:ext cx="5503680" cy="476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7" name=""/>
          <p:cNvGraphicFramePr/>
          <p:nvPr/>
        </p:nvGraphicFramePr>
        <p:xfrm>
          <a:off x="1746360" y="1217520"/>
          <a:ext cx="5503680" cy="50799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38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46360" y="1217520"/>
                    <a:ext cx="5503680" cy="507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1" name=""/>
          <p:cNvGraphicFramePr/>
          <p:nvPr/>
        </p:nvGraphicFramePr>
        <p:xfrm>
          <a:off x="1981080" y="1219320"/>
          <a:ext cx="5599080" cy="42973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39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81080" y="1219320"/>
                    <a:ext cx="5599080" cy="429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5" name=""/>
          <p:cNvGraphicFramePr/>
          <p:nvPr/>
        </p:nvGraphicFramePr>
        <p:xfrm>
          <a:off x="2057400" y="1752480"/>
          <a:ext cx="5599080" cy="33210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39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057400" y="1752480"/>
                    <a:ext cx="5599080" cy="33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Gamma como Función del Tiempo y Precio del Activo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8" name=""/>
          <p:cNvGraphicFramePr/>
          <p:nvPr/>
        </p:nvGraphicFramePr>
        <p:xfrm>
          <a:off x="2209680" y="1981080"/>
          <a:ext cx="5958000" cy="4114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9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09680" y="1981080"/>
                    <a:ext cx="59580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02" name=""/>
          <p:cNvGraphicFramePr/>
          <p:nvPr/>
        </p:nvGraphicFramePr>
        <p:xfrm>
          <a:off x="1676520" y="1523880"/>
          <a:ext cx="5599080" cy="41576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40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6520" y="1523880"/>
                    <a:ext cx="5599080" cy="41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1604880" y="1217520"/>
          <a:ext cx="5504040" cy="60325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04880" y="1217520"/>
                    <a:ext cx="5504040" cy="603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06" name=""/>
          <p:cNvGraphicFramePr/>
          <p:nvPr/>
        </p:nvGraphicFramePr>
        <p:xfrm>
          <a:off x="1676520" y="758880"/>
          <a:ext cx="5273640" cy="61736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40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6520" y="758880"/>
                    <a:ext cx="5273640" cy="617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10" name=""/>
          <p:cNvGraphicFramePr/>
          <p:nvPr/>
        </p:nvGraphicFramePr>
        <p:xfrm>
          <a:off x="1604880" y="1146240"/>
          <a:ext cx="5504040" cy="50450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41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04880" y="1146240"/>
                    <a:ext cx="5504040" cy="504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14" name=""/>
          <p:cNvGraphicFramePr/>
          <p:nvPr/>
        </p:nvGraphicFramePr>
        <p:xfrm>
          <a:off x="1746360" y="687240"/>
          <a:ext cx="5397480" cy="53625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41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46360" y="687240"/>
                    <a:ext cx="5397480" cy="536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18" name=""/>
          <p:cNvGraphicFramePr/>
          <p:nvPr/>
        </p:nvGraphicFramePr>
        <p:xfrm>
          <a:off x="1604880" y="387360"/>
          <a:ext cx="5397480" cy="59450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41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04880" y="387360"/>
                    <a:ext cx="5397480" cy="594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2" name=""/>
          <p:cNvGraphicFramePr/>
          <p:nvPr/>
        </p:nvGraphicFramePr>
        <p:xfrm>
          <a:off x="1604880" y="387360"/>
          <a:ext cx="5397480" cy="59450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42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04880" y="387360"/>
                    <a:ext cx="5397480" cy="594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uadro 5. Cobertura Delta y Gamma</a:t>
            </a: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Cifras en Miles de $, Excepto Precio Acción)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5" name=""/>
          <p:cNvGraphicFramePr/>
          <p:nvPr/>
        </p:nvGraphicFramePr>
        <p:xfrm>
          <a:off x="1371600" y="1770120"/>
          <a:ext cx="6534000" cy="50878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42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71600" y="1770120"/>
                    <a:ext cx="6534000" cy="508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9" name=""/>
          <p:cNvGraphicFramePr/>
          <p:nvPr/>
        </p:nvGraphicFramePr>
        <p:xfrm>
          <a:off x="1676520" y="990720"/>
          <a:ext cx="5599080" cy="45766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4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6520" y="990720"/>
                    <a:ext cx="5599080" cy="457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3" name=""/>
          <p:cNvGraphicFramePr/>
          <p:nvPr/>
        </p:nvGraphicFramePr>
        <p:xfrm>
          <a:off x="1752480" y="685800"/>
          <a:ext cx="5597640" cy="57387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43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52480" y="685800"/>
                    <a:ext cx="5597640" cy="573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7" name=""/>
          <p:cNvGraphicFramePr/>
          <p:nvPr/>
        </p:nvGraphicFramePr>
        <p:xfrm>
          <a:off x="1743120" y="465120"/>
          <a:ext cx="5597640" cy="59706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43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43120" y="465120"/>
                    <a:ext cx="5597640" cy="597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1" name=""/>
          <p:cNvGraphicFramePr/>
          <p:nvPr/>
        </p:nvGraphicFramePr>
        <p:xfrm>
          <a:off x="1676520" y="1219320"/>
          <a:ext cx="5599080" cy="64119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44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6520" y="1219320"/>
                    <a:ext cx="5599080" cy="641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1T18:58:18Z</dcterms:created>
  <dc:creator>Universidad de CHile</dc:creator>
  <dc:description/>
  <dc:language>en-US</dc:language>
  <cp:lastModifiedBy>BCCH</cp:lastModifiedBy>
  <dcterms:modified xsi:type="dcterms:W3CDTF">2008-07-22T19:08:20Z</dcterms:modified>
  <cp:revision>6</cp:revision>
  <dc:subject/>
  <dc:title>Sin título de diapositiva</dc:title>
</cp:coreProperties>
</file>