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22C-A3D0-4DD3-A23E-3F7933AA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93D-547C-44CA-8327-F7D166DF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CF9-117B-4DAB-9DFD-295F3EBB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CCB-10FB-4255-9714-97F069C6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F66-DC93-4D3B-B7A3-F1F47957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C7B-8F75-4E9B-A648-A89C27FC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6F3-D6D8-4E4E-952D-91FB01E2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1E0-8D94-4857-B3EE-7646B9E3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FE4-7E66-48E5-B53C-2AD03DDF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8C1-836A-4ED9-8814-ED20ADC3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206-6464-446F-84CC-755F524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137-763D-43B6-A893-3112EF93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8A60-5544-48BB-961A-F9110810D1B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 W A P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04880" y="1058760"/>
          <a:ext cx="5504040" cy="467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058760"/>
                    <a:ext cx="5504040" cy="46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01760" y="301680"/>
          <a:ext cx="5597640" cy="655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1760" y="301680"/>
                    <a:ext cx="559764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060560" y="987480"/>
          <a:ext cx="6751440" cy="4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987480"/>
                    <a:ext cx="675144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44680" y="1371600"/>
          <a:ext cx="6102360" cy="4157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4680" y="1371600"/>
                    <a:ext cx="610236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17760" y="1676520"/>
          <a:ext cx="5502240" cy="39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676520"/>
                    <a:ext cx="550224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6120" y="105876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105876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Representación de Flujos en Swap de Monedas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Caso de la Empresa Chilen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9320" y="1600200"/>
          <a:ext cx="68580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600200"/>
                    <a:ext cx="6858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wap de Tasas de Inter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17760" y="758880"/>
          <a:ext cx="5502240" cy="525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758880"/>
                    <a:ext cx="550224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17520" y="582480"/>
          <a:ext cx="5502240" cy="6350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7520" y="582480"/>
                    <a:ext cx="550224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76520" y="2057400"/>
          <a:ext cx="5599080" cy="30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057400"/>
                    <a:ext cx="559908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04880" y="600120"/>
          <a:ext cx="550404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00120"/>
                    <a:ext cx="55040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presentación de Flujos para 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wap de Tasas de Inter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1676520"/>
          <a:ext cx="5613120" cy="438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676520"/>
                    <a:ext cx="56131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46120" y="1058760"/>
          <a:ext cx="5504040" cy="453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1058760"/>
                    <a:ext cx="550404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6520" y="1828800"/>
          <a:ext cx="5599080" cy="325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828800"/>
                    <a:ext cx="559908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to Endeudamiento para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AA y BB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2063880"/>
          <a:ext cx="5591160" cy="329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063880"/>
                    <a:ext cx="559116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33600" y="153360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153360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1523880"/>
          <a:ext cx="5599080" cy="4577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5599080" cy="45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1295280"/>
          <a:ext cx="5597640" cy="480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95280"/>
                    <a:ext cx="55976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04880" y="458640"/>
          <a:ext cx="5504040" cy="569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458640"/>
                    <a:ext cx="5504040" cy="56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quema Swap de Tasas de Interés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sin Intermedia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1295280"/>
          <a:ext cx="4572000" cy="381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295280"/>
                    <a:ext cx="4572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quema Swap de Tasas de Interés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n Intermedia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28800" y="1828800"/>
          <a:ext cx="5181480" cy="312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828800"/>
                    <a:ext cx="51814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04880" y="617400"/>
          <a:ext cx="550404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17400"/>
                    <a:ext cx="55040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46360" y="687240"/>
          <a:ext cx="5397480" cy="506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39748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46360" y="1287360"/>
          <a:ext cx="5503680" cy="5027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87360"/>
                    <a:ext cx="55036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76520" y="758880"/>
          <a:ext cx="5502240" cy="544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58880"/>
                    <a:ext cx="550224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3280" y="696960"/>
          <a:ext cx="5597640" cy="51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696960"/>
                    <a:ext cx="5597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1446120"/>
          <a:ext cx="5502240" cy="463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446120"/>
                    <a:ext cx="55022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46360" y="687240"/>
          <a:ext cx="5503680" cy="531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50368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458640"/>
          <a:ext cx="5502240" cy="599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458640"/>
                    <a:ext cx="550224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1600200"/>
          <a:ext cx="5599080" cy="343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559908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00200" y="457200"/>
          <a:ext cx="5597640" cy="57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57200"/>
                    <a:ext cx="55976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71600" y="228600"/>
          <a:ext cx="5397480" cy="590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"/>
                    <a:ext cx="53974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2209680"/>
          <a:ext cx="5878440" cy="384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209680"/>
                    <a:ext cx="587844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743120" y="2370240"/>
          <a:ext cx="5597640" cy="393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43120" y="2370240"/>
                    <a:ext cx="5597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76520" y="129528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9528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63640" y="3281400"/>
          <a:ext cx="5504040" cy="6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3281400"/>
                    <a:ext cx="55040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6120" y="121752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121752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1676520"/>
          <a:ext cx="5599080" cy="631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76520"/>
                    <a:ext cx="559908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2T19:07:54Z</dcterms:modified>
  <cp:revision>4</cp:revision>
  <dc:subject/>
  <dc:title>Sin título de diapositiva</dc:title>
</cp:coreProperties>
</file>