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2B3-D2AB-4889-9049-6E9F2852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E59-F5B8-47B3-9823-5DA5116A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8FD-5D99-4FF4-AD1F-BFA1495D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83E-DE7C-4193-97E6-4FA6F7B5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449-B1D0-4B07-85E2-2DE1C056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F6B-7DA9-4BC6-AC97-05A11360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D16-291D-4D75-BB01-FB1B54F0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7C8-087E-43F3-804B-AF62EA8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084-60DB-4D85-A592-B152743F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7F1-06B5-4B12-85C7-F31D020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784-7FA0-404E-BB0C-6CE7C77B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DB8-2D59-45B9-8990-18BE0300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CFB0-BC2F-4AF9-9D12-D92B9EDD95D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 W A P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04880" y="1058760"/>
          <a:ext cx="5504040" cy="467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058760"/>
                    <a:ext cx="5504040" cy="46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01760" y="301680"/>
          <a:ext cx="5597640" cy="655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1760" y="301680"/>
                    <a:ext cx="55976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060560" y="987480"/>
          <a:ext cx="6751440" cy="4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987480"/>
                    <a:ext cx="675144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44680" y="1371600"/>
          <a:ext cx="6102360" cy="4157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4680" y="1371600"/>
                    <a:ext cx="610236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17760" y="1676520"/>
          <a:ext cx="5502240" cy="39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676520"/>
                    <a:ext cx="550224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6120" y="105876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05876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Representación de Flujos en Swap de Moneda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Caso de la Empresa Chilen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1600200"/>
          <a:ext cx="68580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600200"/>
                    <a:ext cx="6858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wap de Tasas de Inter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17760" y="758880"/>
          <a:ext cx="5502240" cy="525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758880"/>
                    <a:ext cx="55022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7520" y="582480"/>
          <a:ext cx="5502240" cy="6350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7520" y="582480"/>
                    <a:ext cx="550224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76520" y="2057400"/>
          <a:ext cx="5599080" cy="30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057400"/>
                    <a:ext cx="559908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4880" y="600120"/>
          <a:ext cx="550404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00120"/>
                    <a:ext cx="55040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presentación de Flujos para 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wap de Tasas de Inter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1676520"/>
          <a:ext cx="5613120" cy="43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676520"/>
                    <a:ext cx="56131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46120" y="1058760"/>
          <a:ext cx="5504040" cy="453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058760"/>
                    <a:ext cx="550404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1828800"/>
          <a:ext cx="5599080" cy="325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28800"/>
                    <a:ext cx="559908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to Endeudamiento para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AA y BB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2063880"/>
          <a:ext cx="5591160" cy="329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063880"/>
                    <a:ext cx="559116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33600" y="153360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53360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1523880"/>
          <a:ext cx="5599080" cy="4577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5599080" cy="45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1295280"/>
          <a:ext cx="5597640" cy="480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95280"/>
                    <a:ext cx="55976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04880" y="458640"/>
          <a:ext cx="5504040" cy="56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458640"/>
                    <a:ext cx="5504040" cy="56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quema Swap de Tasas de Interé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sin Intermedia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1295280"/>
          <a:ext cx="4572000" cy="381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295280"/>
                    <a:ext cx="4572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quema Swap de Tasas de Interé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n Intermedia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28800" y="1828800"/>
          <a:ext cx="518148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828800"/>
                    <a:ext cx="51814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4880" y="617400"/>
          <a:ext cx="550404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17400"/>
                    <a:ext cx="55040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46360" y="687240"/>
          <a:ext cx="5397480" cy="506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39748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46360" y="1287360"/>
          <a:ext cx="5503680" cy="502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87360"/>
                    <a:ext cx="55036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76520" y="758880"/>
          <a:ext cx="5502240" cy="54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58880"/>
                    <a:ext cx="550224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3280" y="696960"/>
          <a:ext cx="559764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696960"/>
                    <a:ext cx="5597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1446120"/>
          <a:ext cx="5502240" cy="463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6120"/>
                    <a:ext cx="55022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46360" y="687240"/>
          <a:ext cx="5503680" cy="531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50368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458640"/>
          <a:ext cx="5502240" cy="599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458640"/>
                    <a:ext cx="550224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1600200"/>
          <a:ext cx="5599080" cy="343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559908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00200" y="457200"/>
          <a:ext cx="5597640" cy="57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57200"/>
                    <a:ext cx="55976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71600" y="228600"/>
          <a:ext cx="5397480" cy="59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53974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2209680"/>
          <a:ext cx="5878440" cy="38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209680"/>
                    <a:ext cx="58784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743120" y="2370240"/>
          <a:ext cx="5597640" cy="393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43120" y="2370240"/>
                    <a:ext cx="5597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76520" y="129528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9528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63640" y="3281400"/>
          <a:ext cx="5504040" cy="6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3281400"/>
                    <a:ext cx="55040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6120" y="121752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21752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1676520"/>
          <a:ext cx="5599080" cy="631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76520"/>
                    <a:ext cx="559908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2T19:07:54Z</dcterms:modified>
  <cp:revision>4</cp:revision>
  <dc:subject/>
  <dc:title>Sin título de diapositiva</dc:title>
</cp:coreProperties>
</file>