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BD1-6565-4E62-B73A-CDF4E876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7AEB-CE65-4DAC-A128-7C6F4EB0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287-3CCD-405C-9F5D-B913DBFC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8D2-6C7E-48A5-8125-D2A29A36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0B0-F9BA-4DE0-BF0B-1C6BE84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816-9FAC-4BC3-A099-D15908E2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DD7-5505-4D0C-AB90-9004596B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986-658E-45EF-890A-21A617F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AEC-7E4C-4FD9-9534-A377E33C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855-9B3B-4BE6-B4E5-622D6D3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C29-DAF2-47F6-B6FF-95C86C4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EF4-C810-4FB0-99D7-58936A4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0D2-54DF-4E0D-95BF-A3EE3EF555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 W A P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604880" y="1058760"/>
          <a:ext cx="5504040" cy="4673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1058760"/>
                    <a:ext cx="5504040" cy="46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301760" y="301680"/>
          <a:ext cx="5597640" cy="655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1760" y="301680"/>
                    <a:ext cx="559764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060560" y="987480"/>
          <a:ext cx="6751440" cy="4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987480"/>
                    <a:ext cx="675144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44680" y="1371600"/>
          <a:ext cx="6102360" cy="4157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4680" y="1371600"/>
                    <a:ext cx="610236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17760" y="1676520"/>
          <a:ext cx="5502240" cy="3985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1676520"/>
                    <a:ext cx="5502240" cy="39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446120" y="105876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Representación de Flujos en Swap de Moneda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aso de la Empresa Chilen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1600200"/>
          <a:ext cx="68580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600200"/>
                    <a:ext cx="68580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17760" y="758880"/>
          <a:ext cx="5502240" cy="525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7760" y="758880"/>
                    <a:ext cx="55022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7520" y="582480"/>
          <a:ext cx="5502240" cy="6350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582480"/>
                    <a:ext cx="550224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76520" y="2057400"/>
          <a:ext cx="5599080" cy="30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57400"/>
                    <a:ext cx="5599080" cy="30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04880" y="60012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0012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presentación de Flujos para </a:t>
            </a:r>
            <a:br>
              <a:rPr sz="2800"/>
            </a:b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wap de Tasas de Interé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1676520"/>
          <a:ext cx="5613120" cy="438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676520"/>
                    <a:ext cx="56131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46120" y="1058760"/>
          <a:ext cx="5504040" cy="4532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058760"/>
                    <a:ext cx="550404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76520" y="1828800"/>
          <a:ext cx="5599080" cy="325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828800"/>
                    <a:ext cx="559908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to Endeudamiento para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AA y BB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76520" y="2063880"/>
          <a:ext cx="5591160" cy="329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063880"/>
                    <a:ext cx="559116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33600" y="1533600"/>
          <a:ext cx="5599080" cy="399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533600"/>
                    <a:ext cx="5599080" cy="39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1523880"/>
          <a:ext cx="5599080" cy="4577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45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1295280"/>
          <a:ext cx="5597640" cy="48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95280"/>
                    <a:ext cx="5597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604880" y="458640"/>
          <a:ext cx="5504040" cy="569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458640"/>
                    <a:ext cx="5504040" cy="56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si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1295280"/>
          <a:ext cx="4572000" cy="3810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295280"/>
                    <a:ext cx="45720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quema Swap de Tasas de Interés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con Intermedia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28800" y="1828800"/>
          <a:ext cx="518148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828800"/>
                    <a:ext cx="51814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04880" y="617400"/>
          <a:ext cx="550404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617400"/>
                    <a:ext cx="55040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46360" y="687240"/>
          <a:ext cx="5397480" cy="5062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3974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46360" y="1287360"/>
          <a:ext cx="5503680" cy="502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1287360"/>
                    <a:ext cx="55036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76520" y="758880"/>
          <a:ext cx="5502240" cy="5449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758880"/>
                    <a:ext cx="5502240" cy="54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673280" y="696960"/>
          <a:ext cx="5597640" cy="5111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3280" y="696960"/>
                    <a:ext cx="5597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1446120"/>
          <a:ext cx="5502240" cy="4638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6120"/>
                    <a:ext cx="550224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46360" y="687240"/>
          <a:ext cx="5503680" cy="5310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6360" y="687240"/>
                    <a:ext cx="5503680" cy="53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458640"/>
          <a:ext cx="5502240" cy="5997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458640"/>
                    <a:ext cx="550224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00200" y="1600200"/>
          <a:ext cx="5599080" cy="343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600200"/>
                    <a:ext cx="559908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00200" y="457200"/>
          <a:ext cx="5597640" cy="57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57200"/>
                    <a:ext cx="55976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71600" y="228600"/>
          <a:ext cx="539748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28600"/>
                    <a:ext cx="53974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2209680"/>
          <a:ext cx="5878440" cy="38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209680"/>
                    <a:ext cx="587844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743120" y="2370240"/>
          <a:ext cx="5597640" cy="393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43120" y="2370240"/>
                    <a:ext cx="5597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676520" y="1295280"/>
          <a:ext cx="5599080" cy="42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295280"/>
                    <a:ext cx="559908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63640" y="3281400"/>
          <a:ext cx="5504040" cy="669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3281400"/>
                    <a:ext cx="55040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46120" y="1217520"/>
          <a:ext cx="550404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1217520"/>
                    <a:ext cx="550404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3880" y="1676520"/>
          <a:ext cx="5599080" cy="631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559908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2T19:07:54Z</dcterms:modified>
  <cp:revision>4</cp:revision>
  <dc:subject/>
  <dc:title>Sin título de diapositiva</dc:title>
</cp:coreProperties>
</file>