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79FC-716D-4DE3-8478-A6B731AA6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4426-89C8-4168-BD61-BFDDBBDDF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8040-8971-4DCF-9510-4445AE0C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ADD6-19D4-48EF-8D06-25ECE107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9802-0048-4A4B-88BB-3FC0E67A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E897-DED8-45A7-9050-03193490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0F3-B92A-47F2-99EB-4B32243D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791D-07BF-4EE6-BD1E-446BC326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9907-C5E4-4836-A5D8-BA063819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7D10-CD32-49BF-A6EE-B38918D3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072E-686C-4C40-99A7-B21A6F55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0412-14A5-4230-A665-23C756B6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1531-0E44-4CE0-A8B9-663C876F370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OS Y FORWARD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46120" y="758880"/>
          <a:ext cx="5186520" cy="5467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6120" y="758880"/>
                    <a:ext cx="5186520" cy="54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00200" y="399960"/>
          <a:ext cx="5599080" cy="645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99960"/>
                    <a:ext cx="5599080" cy="645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743120" y="1440000"/>
          <a:ext cx="5597640" cy="6341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43120" y="1440000"/>
                    <a:ext cx="5597640" cy="634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676520" y="1371600"/>
          <a:ext cx="5599080" cy="4367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371600"/>
                    <a:ext cx="559908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676520" y="1447920"/>
          <a:ext cx="5599080" cy="3948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1447920"/>
                    <a:ext cx="559908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3880" y="1523880"/>
          <a:ext cx="5599080" cy="6599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523880"/>
                    <a:ext cx="5599080" cy="659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604880" y="917640"/>
          <a:ext cx="5504040" cy="5097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4880" y="917640"/>
                    <a:ext cx="5504040" cy="50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603440" y="906480"/>
          <a:ext cx="5599080" cy="6504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3440" y="906480"/>
                    <a:ext cx="5599080" cy="650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752480"/>
          <a:ext cx="5599080" cy="2997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1752480"/>
                    <a:ext cx="559908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440000" y="603360"/>
          <a:ext cx="5599080" cy="543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0000" y="603360"/>
                    <a:ext cx="559908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841400" y="1184400"/>
          <a:ext cx="5461200" cy="5344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41400" y="1184400"/>
                    <a:ext cx="5461200" cy="53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1815840" y="35244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751040" y="1674720"/>
          <a:ext cx="5538600" cy="3425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1040" y="1674720"/>
                    <a:ext cx="553860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533600" y="835200"/>
          <a:ext cx="5599080" cy="7202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3600" y="835200"/>
                    <a:ext cx="5599080" cy="72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547280" y="333360"/>
            <a:ext cx="144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609560" y="849240"/>
          <a:ext cx="5357880" cy="5486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9560" y="849240"/>
                    <a:ext cx="53578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752480" y="685800"/>
          <a:ext cx="5599080" cy="5435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685800"/>
                    <a:ext cx="5599080" cy="54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1T18:58:18Z</dcterms:created>
  <dc:creator>Universidad de CHile</dc:creator>
  <dc:description/>
  <dc:language>en-US</dc:language>
  <cp:lastModifiedBy>BCCH</cp:lastModifiedBy>
  <dcterms:modified xsi:type="dcterms:W3CDTF">2008-07-23T15:48:20Z</dcterms:modified>
  <cp:revision>5</cp:revision>
  <dc:subject/>
  <dc:title>Sin título de diapositiva</dc:title>
</cp:coreProperties>
</file>