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C93-1985-4795-ADA4-6B8601C2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916-1826-42F9-9AC7-3E491A1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6B5-1DD5-41E7-803B-A7EBFE6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F17-4F61-4FC4-BF43-2A570E75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403-01D0-413B-8F60-1F1D60A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356-D5DC-49E8-A6DF-DFDB468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7BB-5A7E-47DB-A262-77FF599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FD8-01CE-44C3-88B5-BF9CA137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8DE-BF04-4FF8-A11E-EE7537A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DAC-9FD1-4CCD-A7B3-740675F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A1F-09D0-4C3F-91FB-CB0997E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910-2AB4-41FF-AC84-189A8CD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2EE-700E-47F2-977C-E56E222173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OS Y FORWA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6120" y="758880"/>
          <a:ext cx="5186520" cy="546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758880"/>
                    <a:ext cx="5186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399960"/>
          <a:ext cx="5599080" cy="645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99960"/>
                    <a:ext cx="55990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43120" y="1440000"/>
          <a:ext cx="5597640" cy="634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63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371600"/>
          <a:ext cx="5599080" cy="43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99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1447920"/>
          <a:ext cx="559908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55990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523880"/>
          <a:ext cx="5599080" cy="659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4880" y="917640"/>
          <a:ext cx="5504040" cy="50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917640"/>
                    <a:ext cx="55040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3440" y="906480"/>
          <a:ext cx="5599080" cy="650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906480"/>
                    <a:ext cx="559908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752480"/>
          <a:ext cx="5599080" cy="29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5990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0000" y="603360"/>
          <a:ext cx="5599080" cy="54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603360"/>
                    <a:ext cx="55990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41400" y="1184400"/>
          <a:ext cx="5461200" cy="53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84400"/>
                    <a:ext cx="546120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815840" y="352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1040" y="1674720"/>
          <a:ext cx="5538600" cy="342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1040" y="1674720"/>
                    <a:ext cx="55386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33600" y="835200"/>
          <a:ext cx="5599080" cy="72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835200"/>
                    <a:ext cx="5599080" cy="72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47280" y="3333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9560" y="849240"/>
          <a:ext cx="535788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849240"/>
                    <a:ext cx="5357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685800"/>
          <a:ext cx="559908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8:20Z</dcterms:modified>
  <cp:revision>5</cp:revision>
  <dc:subject/>
  <dc:title>Sin título de diapositiva</dc:title>
</cp:coreProperties>
</file>